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1.jpeg" ContentType="image/jpeg"/>
  <Override PartName="/ppt/media/image9.png" ContentType="image/png"/>
  <Override PartName="/ppt/media/image28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49D-10E1-4081-86C0-58562147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386-21F8-4C32-83E7-C888FEEC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DD55B-0F4B-418A-8F0D-93F6189A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5261D1-45B8-4600-8CCD-15BEB0FB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A047-91ED-49A7-8419-BECA9923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449C5-24E6-43EA-9A62-7D6A36FB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837FD-5C01-4395-A0A3-EDAF0979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2120D-1293-432F-8F8F-CA636C6F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E7187-C8B2-42DD-BB6B-391C2AC9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EFB1B-EF1B-4A66-9835-5C9EA4B4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38F77-9665-4751-A389-D77BA29B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534A-3007-4F87-AAD9-7777FF19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351-1B70-43D9-B347-C9DE3371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D4F0-94BB-409C-B53F-8117C3E5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F4A1-A55D-4533-B7A7-604EF6F1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A94D-81DC-40A7-A49E-EE17485E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0683-1899-46FA-8C01-4FE7C5D5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12E3-B06C-45FF-AF97-4349E76D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4661-21D9-4A81-A031-E2E27BBD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471C-C9A0-48BA-965B-819D1A3C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70B-919E-478D-A769-0EBB1BFC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A8D0-5FF1-4278-A43B-40084DFD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6E66-51E7-43FE-B40C-E7BD5FD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7AEF-127F-4EDC-887D-4A91CB2A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70D7-1250-4D00-9E56-F714FD16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D85D-0E58-4805-9DAF-C0F30FE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D824-3EA5-4986-A3E7-89FE05A6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46915-F8A3-46D6-9DB2-F260F472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E19AB-9C4E-42CF-9C66-52F21EE7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EECEA-5757-411E-AC1E-8CD3693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EA93-1BC4-4C45-A423-9EEFC498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95D-C1C0-4F57-9206-6991966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0F3E1-FC4C-43D6-AE78-1FF20852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C117-EFF3-4DA2-8F08-8B25B5F8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88DE7-059C-4D6F-BC4B-C18C71E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59D7C-579C-4729-AF81-AE930BE1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F19B3-B959-47FA-BB77-6122F208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DB392-6432-43FE-BCCC-D3CE2D1A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3A9F-DD12-46C8-922E-74E91A800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EB1DF-B304-4E8B-AA8B-69CFE9B8F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1905A-C2E8-4B07-99E1-C779998B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D1663-D003-42D5-A22F-AFEC6F55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DADE-D32C-4F34-97B7-4B3AF9F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5AFED-72A2-4964-85C5-5BB85F96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B3DE1-17DD-4725-A787-4AF613F1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5388-CD27-4C6D-93A7-3E0862CD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CD72D-28E2-4AE1-AA34-DCE3E831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71D49-D40F-4DD1-BF4A-7CEA57F3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EAC0-5560-46AD-9B9E-6EAE65F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1C1F-6547-48BE-A6BD-A08884E7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9F5CE-B881-43D0-A54C-A2B76BCF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35BC9-AC1E-4CA4-9F6B-812DE8ED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9A1EF-BF16-47DC-A2B1-B3F118CF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2A0-8F5A-4B9F-A1A7-05CD9C7B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9A0F-CC65-4E50-A2A5-0BFC922B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C0C7-50EA-43F6-980F-C45D981E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06C2D-FEC7-4309-B194-30A2041E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80AB-DFDD-4E26-B162-B7403AF5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3410B-6858-4A97-A6F0-F3DF441B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AC96F-7AEC-45A5-A708-A584F72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6FD9-363F-40B0-A0A5-9A8FB1A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060DC-CDF9-4448-9980-13B2B48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8FA63-AF8B-4267-8CC2-50901191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37627-F4F4-4548-8C9A-2D2F8AA3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769-1D6F-4A82-9009-A199CE4D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2503-3535-4E38-968C-125A6070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6D497-A830-4362-AAC7-DB316F77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DB16-6FD0-478F-81FA-053FEB6E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01736-3E3C-48B5-82B3-DC4F707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1ED82-1D4F-4FEB-8DC6-1C829BB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6FE8D-C07E-4DAB-AB34-D6D67B6B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06181-A444-4DDE-A89F-382F7C98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4BE50-A3CF-48B5-B9CE-05F91B77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03AA0-97EE-4A7A-8694-F69E4EDC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E9768-35DD-480C-834D-BA1B597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63B-9B13-474F-B8E1-D66713F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4965E-47E8-4CF6-AF58-17211841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AEF77-4936-4F5A-A99E-7F037AAD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A9129-F64B-408F-A7E1-9291DEBB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2704-091A-479F-B6E1-CFE16D36D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8AD6-B250-46C5-B05A-D540B7E4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47DB-BE86-4A92-99F8-24D9A2EA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DF902-416A-440A-9E14-5E179FF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8CE76-243B-4D57-AC49-AAE4AAD2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3324B-FAD0-413A-B241-0BAA2294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EDE2C-B69A-49C8-B73F-FCD9DE47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5C65-BCDF-44E3-BB37-CB02DAA2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D9750-01D6-4D62-BE24-1191AF2F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F63E9-20F1-46AC-BCF7-9F6B6DD8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6A20-AC31-45FA-980E-D0CA7DED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950CE-44AC-4797-8FD3-98E63E9A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DC78-C5C2-4BA7-8A53-D6BF2925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78EE2-6C49-4CA9-BAAA-00BD6CFF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2DE4-9DA7-4AEA-82FB-3DB0A9A9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46258-9EA5-4E6D-9929-4DC09F6C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CAB0-E6A9-42CD-B62C-5547FF71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437D-220A-4994-9576-2F257A72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0390-4E35-4609-B266-25508D63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2B2EC-C843-4446-9564-79497A32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E3CE8-049B-4878-91D5-1D1C27C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8CE2F-86E0-43CD-AAF5-E4A26FD3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1DBC2-9DA1-4FDC-AA22-9A1996DF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1D377-8C34-4A09-9D3B-88620A3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FCADB-D1AB-4C45-BBEC-D7D490FD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768E0-981E-4961-8EE4-CE328ACF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E70B4-14CC-4E4A-B41E-CCE3D71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0062-87D8-43D9-91D0-DD2709FB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49C9A-EB08-4E17-9A76-D977747B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32C2-25E5-40E2-B137-5242FBF8F9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C1B6-10A9-4AA8-95E2-ECC8779B5C6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E376-1312-4C4C-AE42-6CD929AE67C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73ED-4C4E-4CE4-A6FD-34D5EDC6C4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CB4C-0736-4F4A-8738-B11A2BB6732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724B-0317-4D1B-B3F4-480E5EEC537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75B2-C02B-4D85-93A7-9D86BF4C47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C8C-D86B-4369-8367-D29718BA647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7CBB-181D-492C-98CB-91B692C2CBB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2000"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2b1"/>
                </a:solidFill>
                <a:latin typeface="Franklin Gothic Book"/>
              </a:rPr>
              <a:t>Tell me 4-5 things you know, think you know, want to know about Judaism.</a:t>
            </a:r>
            <a:endParaRPr b="0" lang="en-US" sz="4400" spc="-1" strike="noStrike">
              <a:solidFill>
                <a:srgbClr val="fbeec9"/>
              </a:solidFill>
              <a:latin typeface="Franklin Gothic Book"/>
            </a:endParaRPr>
          </a:p>
        </p:txBody>
      </p:sp>
      <p:pic>
        <p:nvPicPr>
          <p:cNvPr id="400" name="Title 3" descr=""/>
          <p:cNvPicPr/>
          <p:nvPr/>
        </p:nvPicPr>
        <p:blipFill>
          <a:blip r:embed="rId1"/>
          <a:stretch/>
        </p:blipFill>
        <p:spPr>
          <a:xfrm>
            <a:off x="176040" y="2803680"/>
            <a:ext cx="89870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22400" y="2822400"/>
            <a:ext cx="90090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071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060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176040" y="2822400"/>
            <a:ext cx="89553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176040" y="2822400"/>
            <a:ext cx="895536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071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0601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36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1630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38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900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40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9010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22400" y="4730760"/>
            <a:ext cx="8723160" cy="13842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380520" y="56386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3329"/>
                </a:solidFill>
                <a:latin typeface="Franklin Gothic Book"/>
              </a:rPr>
              <a:t>Known also as the Hebrews and soon, the Jews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42" name="Title 2" descr=""/>
          <p:cNvPicPr/>
          <p:nvPr/>
        </p:nvPicPr>
        <p:blipFill>
          <a:blip r:embed="rId1"/>
          <a:stretch/>
        </p:blipFill>
        <p:spPr>
          <a:xfrm>
            <a:off x="19080" y="2852640"/>
            <a:ext cx="91612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44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90043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46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892512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90172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50" name="Title 2" descr=""/>
          <p:cNvPicPr/>
          <p:nvPr/>
        </p:nvPicPr>
        <p:blipFill>
          <a:blip r:embed="rId1"/>
          <a:stretch/>
        </p:blipFill>
        <p:spPr>
          <a:xfrm>
            <a:off x="85680" y="2852640"/>
            <a:ext cx="91011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52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90108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54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8894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56" name="Title 2" descr=""/>
          <p:cNvPicPr/>
          <p:nvPr/>
        </p:nvPicPr>
        <p:blipFill>
          <a:blip r:embed="rId1"/>
          <a:stretch/>
        </p:blipFill>
        <p:spPr>
          <a:xfrm>
            <a:off x="176040" y="2852640"/>
            <a:ext cx="88948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1066320"/>
            <a:ext cx="4952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_________is a herder from Canaan (modern day Palestine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God tells Abraham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From this the Israelites develop 2 major beliefs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(1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(2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5" name="Picture 2" descr="http://www.keyway.ca/jpg/abraham.jpg"/>
          <p:cNvPicPr/>
          <p:nvPr/>
        </p:nvPicPr>
        <p:blipFill>
          <a:blip r:embed="rId2"/>
          <a:stretch/>
        </p:blipFill>
        <p:spPr>
          <a:xfrm>
            <a:off x="4987800" y="1676520"/>
            <a:ext cx="3699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0" y="10663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Israelites are enslaved in Egypt when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_____tells Moses he will save them if 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3b30"/>
                </a:solidFill>
                <a:latin typeface="Franklin Gothic Book"/>
              </a:rPr>
              <a:t>The Exodus is when: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www.comingoutofegypt.com/images/moses-parting-red-sea.jpg"/>
          <p:cNvPicPr/>
          <p:nvPr/>
        </p:nvPicPr>
        <p:blipFill>
          <a:blip r:embed="rId2"/>
          <a:srcRect l="-873" t="0" r="0" b="3817"/>
          <a:stretch/>
        </p:blipFill>
        <p:spPr>
          <a:xfrm>
            <a:off x="-76320" y="3348000"/>
            <a:ext cx="91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0" y="1142640"/>
            <a:ext cx="5410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12 tribes live in _______. They are not_______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King ______, the 2</a:t>
            </a:r>
            <a:r>
              <a:rPr b="0" lang="en-US" sz="3600" spc="-1" strike="noStrike" baseline="30000">
                <a:solidFill>
                  <a:srgbClr val="4e3b30"/>
                </a:solidFill>
                <a:latin typeface="Franklin Gothic Book"/>
              </a:rPr>
              <a:t>nd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king of Israel unites them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King _______, the 3</a:t>
            </a:r>
            <a:r>
              <a:rPr b="0" lang="en-US" sz="3600" spc="-1" strike="noStrike" baseline="30000">
                <a:solidFill>
                  <a:srgbClr val="4e3b30"/>
                </a:solidFill>
                <a:latin typeface="Franklin Gothic Book"/>
              </a:rPr>
              <a:t>rd</a:t>
            </a: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 king of Israel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(1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13160" indent="-2743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(2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Israelites revolt b/c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http://instruct1.cit.cornell.edu/courses/nes275/studentproj/fall05/csr29/N275%20Project/Pictures%20for%20N275/templemount.org.jpg"/>
          <p:cNvPicPr/>
          <p:nvPr/>
        </p:nvPicPr>
        <p:blipFill>
          <a:blip r:embed="rId2"/>
          <a:stretch/>
        </p:blipFill>
        <p:spPr>
          <a:xfrm>
            <a:off x="4648320" y="2887560"/>
            <a:ext cx="449568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68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0" y="1066320"/>
            <a:ext cx="5410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Kingdom splits (Israel in the _____&amp;Judah in the ______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Kingdom becomes _____ and is conquered=many Israelites are forced into _________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Soon, Cyrus the Great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Book"/>
              </a:rPr>
              <a:t>We call these ppl Jews today b/c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http://www.ebibleteacher.com/imagehtml/images/1024x768/Divided%20Kingdom%20of%20Israel%201024.JPG"/>
          <p:cNvPicPr/>
          <p:nvPr/>
        </p:nvPicPr>
        <p:blipFill>
          <a:blip r:embed="rId2"/>
          <a:srcRect l="0" t="0" r="47241" b="0"/>
          <a:stretch/>
        </p:blipFill>
        <p:spPr>
          <a:xfrm>
            <a:off x="5486400" y="1066680"/>
            <a:ext cx="365760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16" name="Title 2" descr=""/>
          <p:cNvPicPr/>
          <p:nvPr/>
        </p:nvPicPr>
        <p:blipFill>
          <a:blip r:embed="rId1"/>
          <a:stretch/>
        </p:blipFill>
        <p:spPr>
          <a:xfrm>
            <a:off x="176040" y="2822400"/>
            <a:ext cx="90774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18" name="Title 2" descr=""/>
          <p:cNvPicPr/>
          <p:nvPr/>
        </p:nvPicPr>
        <p:blipFill>
          <a:blip r:embed="rId1"/>
          <a:stretch/>
        </p:blipFill>
        <p:spPr>
          <a:xfrm>
            <a:off x="115920" y="2835360"/>
            <a:ext cx="91202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dd2b1"/>
              </a:solidFill>
              <a:latin typeface="Franklin Gothic Book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176040" y="2835360"/>
            <a:ext cx="9071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1:39:33Z</dcterms:created>
  <dc:creator>TPS</dc:creator>
  <dc:description/>
  <dc:language>en-US</dc:language>
  <cp:lastModifiedBy>IT Clone User</cp:lastModifiedBy>
  <dcterms:modified xsi:type="dcterms:W3CDTF">2009-08-26T14:35:15Z</dcterms:modified>
  <cp:revision>31</cp:revision>
  <dc:subject/>
  <dc:title>The Israelites</dc:title>
</cp:coreProperties>
</file>