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AE3-D3F8-4446-A6B6-B21AC764E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85C-539A-41FA-A359-0055B3AA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2AD3-1E7B-40F6-89A5-0C20143C4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2317-F585-4621-869D-5F1FBA423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0864-756A-4D24-A3A1-A1507913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3844-6319-4829-9CE0-66933474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9FC1-9923-4A4F-9E75-7F346D8E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911-67EF-4770-A28A-788DE693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E571-1708-49AB-9FF3-1220D917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986-F912-4A8B-99DA-B1D63845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1CC3-1F91-4A3F-B950-E3861632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87F-6599-4C45-9271-C95530AC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4705-9BE3-42B8-8B79-FD5C44E621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upload.wikimedia.org/wikipedia/commons/2/24/Vista_de_Machu_Picchu.jpg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1/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205704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like an archeologist; you have just discovered this artifact. What might it tell you about the culture of the people who left it behi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hypnotiqueolmecpunch.org/our_st1.jpg"/>
          <p:cNvPicPr/>
          <p:nvPr/>
        </p:nvPicPr>
        <p:blipFill>
          <a:blip r:embed="rId1"/>
          <a:stretch/>
        </p:blipFill>
        <p:spPr>
          <a:xfrm>
            <a:off x="4635360" y="1905120"/>
            <a:ext cx="36896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ztec: The Sun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1066680"/>
            <a:ext cx="44193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ochtitlan is th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______Huitzilopochtli tells the Aztec to settle where they fin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ztec build chinampas or_______ ________ in order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ern day city of _________ ______ is were Tenochtitlan w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http://www.delange.org/TemMayor/Dsc00358.jpg"/>
          <p:cNvPicPr/>
          <p:nvPr/>
        </p:nvPicPr>
        <p:blipFill>
          <a:blip r:embed="rId1"/>
          <a:srcRect l="25340" t="0" r="0" b="24872"/>
          <a:stretch/>
        </p:blipFill>
        <p:spPr>
          <a:xfrm>
            <a:off x="4805280" y="3581280"/>
            <a:ext cx="4338720" cy="327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www.sbceo.k12.ca.us/~vms/carlton/tenochtitlan.jpg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http://www.mexicolore.co.uk/uploadimages/324_06_2.jpg"/>
          <p:cNvPicPr/>
          <p:nvPr/>
        </p:nvPicPr>
        <p:blipFill>
          <a:blip r:embed="rId3"/>
          <a:stretch/>
        </p:blipFill>
        <p:spPr>
          <a:xfrm>
            <a:off x="17640" y="990720"/>
            <a:ext cx="9126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unified emp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11430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like the _______, the Azte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erarchy is similar to feud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at top; his job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are resp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are very important b/c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people were 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http://www.sbceo.k12.ca.us/~vms/carlton/Renaissance/Aztecs/Aztec4.gif"/>
          <p:cNvPicPr/>
          <p:nvPr/>
        </p:nvPicPr>
        <p:blipFill>
          <a:blip r:embed="rId1"/>
          <a:srcRect l="9435" t="11407" r="0" b="0"/>
          <a:stretch/>
        </p:blipFill>
        <p:spPr>
          <a:xfrm>
            <a:off x="5486400" y="1219320"/>
            <a:ext cx="3657600" cy="2266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http://www.sbceo.k12.ca.us/~vms/carlton/Renaissance/Aztecs/AztecWarriors3.jpg"/>
          <p:cNvPicPr/>
          <p:nvPr/>
        </p:nvPicPr>
        <p:blipFill>
          <a:blip r:embed="rId2"/>
          <a:stretch/>
        </p:blipFill>
        <p:spPr>
          <a:xfrm>
            <a:off x="4581360" y="3610080"/>
            <a:ext cx="43340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otihuacan: A holy 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920" y="1219320"/>
            <a:ext cx="44193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built by the ________but considered 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/c they believed the world was created t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yramids of the ______&amp;______ were built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www.richard-seaman.com/Travel/Mexico/Teotihuacan/PyramidOfTheSunFromTheWestWideAngle.jpg"/>
          <p:cNvPicPr/>
          <p:nvPr/>
        </p:nvPicPr>
        <p:blipFill>
          <a:blip r:embed="rId1"/>
          <a:stretch/>
        </p:blipFill>
        <p:spPr>
          <a:xfrm>
            <a:off x="4846680" y="1143000"/>
            <a:ext cx="4297320" cy="3067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www.richard-seaman.com/Travel/Mexico/Teotihuacan/PyramidOfTheMoonFromPyramidOfTheSun.jpg"/>
          <p:cNvPicPr/>
          <p:nvPr/>
        </p:nvPicPr>
        <p:blipFill>
          <a:blip r:embed="rId2"/>
          <a:stretch/>
        </p:blipFill>
        <p:spPr>
          <a:xfrm>
            <a:off x="-46080" y="1371600"/>
            <a:ext cx="8104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: POP QUIZ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ochtitlan  was th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ztec lived in a unified empire or disjointed city-sta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ochtitlan is now the city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id Huitzilopochtli tell the Aztec to look f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Chinampas? Why were they us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ere priests important to the Aztec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eotihuac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imagesofanthropology.com/images/Quetchua_musician_with_Inca_ruins_of_Pisac_in_background_Andes_Mts_Peru_copy.jpg"/>
          <p:cNvPicPr/>
          <p:nvPr/>
        </p:nvPicPr>
        <p:blipFill>
          <a:blip r:embed="rId1"/>
          <a:stretch/>
        </p:blipFill>
        <p:spPr>
          <a:xfrm>
            <a:off x="-173160" y="-228600"/>
            <a:ext cx="9317160" cy="70866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Eras Bold ITC"/>
              </a:rPr>
              <a:t>People of South America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Eras Bold ITC"/>
              </a:rPr>
              <a:t>The In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http://farm1.static.flickr.com/90/243277167_0dc1f509d9.jpg?v=1158263485"/>
          <p:cNvPicPr/>
          <p:nvPr/>
        </p:nvPicPr>
        <p:blipFill>
          <a:blip r:embed="rId1"/>
          <a:stretch/>
        </p:blipFill>
        <p:spPr>
          <a:xfrm>
            <a:off x="6324480" y="3105000"/>
            <a:ext cx="2819520" cy="3753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a Rulers: S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19320"/>
            <a:ext cx="4191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uler, called ____ ____,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d absolute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imed to be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the empire’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wned’ all the 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ya w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l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ried ou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proto2.thinkquest.nl/~llc054/images/s_i/leven.jpg"/>
          <p:cNvPicPr/>
          <p:nvPr/>
        </p:nvPicPr>
        <p:blipFill>
          <a:blip r:embed="rId2"/>
          <a:stretch/>
        </p:blipFill>
        <p:spPr>
          <a:xfrm>
            <a:off x="4572000" y="1219320"/>
            <a:ext cx="2381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tructure of the Emp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143000"/>
            <a:ext cx="5029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personal property b/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llages were run by ayllu or:                        who enforced law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pa Inca could call upon young men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s worked land for:                            but then worked land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http://www.sacredsites.com/americas/peru/images/machu-picchu-04-500.jpg"/>
          <p:cNvPicPr/>
          <p:nvPr/>
        </p:nvPicPr>
        <p:blipFill>
          <a:blip r:embed="rId1"/>
          <a:stretch/>
        </p:blipFill>
        <p:spPr>
          <a:xfrm>
            <a:off x="4952880" y="1981080"/>
            <a:ext cx="4191120" cy="279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File:Vista de Machu Picchu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ing the Emp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685440"/>
            <a:ext cx="4267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 of 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intri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roads passed through Cuzc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not be used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ch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of the In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de conquered pp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de conquered pp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i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away.com/gifs/gorp/location/roadway.jpg"/>
          <p:cNvPicPr/>
          <p:nvPr/>
        </p:nvPicPr>
        <p:blipFill>
          <a:blip r:embed="rId1"/>
          <a:stretch/>
        </p:blipFill>
        <p:spPr>
          <a:xfrm>
            <a:off x="4572000" y="2133720"/>
            <a:ext cx="4572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mnsu.edu/emuseum/prehistory/latinamerica/images/finishmap.jpg"/>
          <p:cNvPicPr/>
          <p:nvPr/>
        </p:nvPicPr>
        <p:blipFill>
          <a:blip r:embed="rId1"/>
          <a:stretch/>
        </p:blipFill>
        <p:spPr>
          <a:xfrm>
            <a:off x="1295280" y="-15840"/>
            <a:ext cx="6629400" cy="687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cient Civilizations of the Amer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lmec, Maya, Aztec, In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m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360" y="838080"/>
            <a:ext cx="4724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d in Mesoamerica; region inclu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know__________ about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iest; known as the ________ _________ b/c evidence suggests later ppls adopt Ol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and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farhorizons.com/ctrlamer/olmec-images/Olmec_head.jpg"/>
          <p:cNvPicPr/>
          <p:nvPr/>
        </p:nvPicPr>
        <p:blipFill>
          <a:blip r:embed="rId1"/>
          <a:stretch/>
        </p:blipFill>
        <p:spPr>
          <a:xfrm>
            <a:off x="4740120" y="2590920"/>
            <a:ext cx="4267440" cy="3047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648320" y="57913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know little about the Olmec ‘Colossal heads’ but believe they are portrates of rul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a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533520"/>
            <a:ext cx="47242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the ________, Maya didn’t create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ty states compete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ties are connected thru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ety was hierarchical. Each city state h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l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b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ddle class made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Maya were 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ity sta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news.spirithit.com/images/uploads/articles_ext_194x215/11.24.04_Mayan_378.jpg"/>
          <p:cNvPicPr/>
          <p:nvPr/>
        </p:nvPicPr>
        <p:blipFill>
          <a:blip r:embed="rId1"/>
          <a:stretch/>
        </p:blipFill>
        <p:spPr>
          <a:xfrm>
            <a:off x="4546440" y="1981080"/>
            <a:ext cx="43117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open.salon.com/blog/stellaa/2008/06/06/files/maya-calendar-1.jpg"/>
          <p:cNvPicPr/>
          <p:nvPr/>
        </p:nvPicPr>
        <p:blipFill>
          <a:blip r:embed="rId1"/>
          <a:stretch/>
        </p:blipFill>
        <p:spPr>
          <a:xfrm>
            <a:off x="2438280" y="3505320"/>
            <a:ext cx="2221200" cy="2209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yan Culture and Advanc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533520"/>
            <a:ext cx="5562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ytheis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a built temples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palaces for royalty and public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stone columns called Stela dep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advanced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http://www.copanpark.com/images/pictures/stelae1/stelaea.jpg"/>
          <p:cNvPicPr/>
          <p:nvPr/>
        </p:nvPicPr>
        <p:blipFill>
          <a:blip r:embed="rId2"/>
          <a:stretch/>
        </p:blipFill>
        <p:spPr>
          <a:xfrm>
            <a:off x="4952880" y="1295280"/>
            <a:ext cx="4191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a Brochure (197-199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each space with info regar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luence myths had on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ant c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graphy and modern day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e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ya Civilization Dec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cheologist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ew theorie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Warf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Over farm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a did not disappe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ed in small _________ villages unti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live in __________ to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http://www.jaguar-sun.com/img/maya6.jpg"/>
          <p:cNvPicPr/>
          <p:nvPr/>
        </p:nvPicPr>
        <p:blipFill>
          <a:blip r:embed="rId1"/>
          <a:stretch/>
        </p:blipFill>
        <p:spPr>
          <a:xfrm>
            <a:off x="6629400" y="1066680"/>
            <a:ext cx="2514600" cy="2686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i.pbase.com/g6/82/643382/2/78083493.ff9kLRn8.jpg"/>
          <p:cNvPicPr/>
          <p:nvPr/>
        </p:nvPicPr>
        <p:blipFill>
          <a:blip r:embed="rId2"/>
          <a:stretch/>
        </p:blipFill>
        <p:spPr>
          <a:xfrm>
            <a:off x="5450040" y="3657600"/>
            <a:ext cx="36939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lowchart: Extract 5"/>
          <p:cNvSpPr/>
          <p:nvPr/>
        </p:nvSpPr>
        <p:spPr>
          <a:xfrm>
            <a:off x="457200" y="1600200"/>
            <a:ext cx="8305920" cy="4572000"/>
          </a:xfrm>
          <a:prstGeom prst="flowChartExtra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 of the City-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8"/>
          <p:cNvSpPr/>
          <p:nvPr/>
        </p:nvSpPr>
        <p:spPr>
          <a:xfrm>
            <a:off x="3886200" y="2362320"/>
            <a:ext cx="1447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9"/>
          <p:cNvSpPr/>
          <p:nvPr/>
        </p:nvSpPr>
        <p:spPr>
          <a:xfrm>
            <a:off x="3124080" y="3200400"/>
            <a:ext cx="297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2"/>
          <p:cNvSpPr/>
          <p:nvPr/>
        </p:nvSpPr>
        <p:spPr>
          <a:xfrm>
            <a:off x="2362320" y="4038480"/>
            <a:ext cx="4495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5"/>
          <p:cNvSpPr/>
          <p:nvPr/>
        </p:nvSpPr>
        <p:spPr>
          <a:xfrm>
            <a:off x="1143000" y="533412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Rectangle 19" descr=""/>
          <p:cNvPicPr/>
          <p:nvPr/>
        </p:nvPicPr>
        <p:blipFill>
          <a:blip r:embed="rId1"/>
          <a:stretch/>
        </p:blipFill>
        <p:spPr>
          <a:xfrm>
            <a:off x="3444840" y="1158840"/>
            <a:ext cx="2687760" cy="113976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20" descr=""/>
          <p:cNvPicPr/>
          <p:nvPr/>
        </p:nvPicPr>
        <p:blipFill>
          <a:blip r:embed="rId2"/>
          <a:stretch/>
        </p:blipFill>
        <p:spPr>
          <a:xfrm>
            <a:off x="3303720" y="2189160"/>
            <a:ext cx="3139920" cy="1103400"/>
          </a:xfrm>
          <a:prstGeom prst="rect">
            <a:avLst/>
          </a:prstGeom>
          <a:ln w="0">
            <a:noFill/>
          </a:ln>
        </p:spPr>
      </p:pic>
      <p:pic>
        <p:nvPicPr>
          <p:cNvPr id="72" name="Rectangle 23" descr=""/>
          <p:cNvPicPr/>
          <p:nvPr/>
        </p:nvPicPr>
        <p:blipFill>
          <a:blip r:embed="rId3"/>
          <a:stretch/>
        </p:blipFill>
        <p:spPr>
          <a:xfrm>
            <a:off x="1859040" y="3071880"/>
            <a:ext cx="5754600" cy="841320"/>
          </a:xfrm>
          <a:prstGeom prst="rect">
            <a:avLst/>
          </a:prstGeom>
          <a:ln w="0">
            <a:noFill/>
          </a:ln>
        </p:spPr>
      </p:pic>
      <p:pic>
        <p:nvPicPr>
          <p:cNvPr id="73" name="Rectangle 24" descr=""/>
          <p:cNvPicPr/>
          <p:nvPr/>
        </p:nvPicPr>
        <p:blipFill>
          <a:blip r:embed="rId4"/>
          <a:stretch/>
        </p:blipFill>
        <p:spPr>
          <a:xfrm>
            <a:off x="2792520" y="4078440"/>
            <a:ext cx="3389040" cy="1116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25" descr=""/>
          <p:cNvPicPr/>
          <p:nvPr/>
        </p:nvPicPr>
        <p:blipFill>
          <a:blip r:embed="rId5"/>
          <a:stretch/>
        </p:blipFill>
        <p:spPr>
          <a:xfrm>
            <a:off x="3054240" y="5108400"/>
            <a:ext cx="301176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1/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045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rn to page 209. “Aztec Training and Education” documents B, C, and D. Answer question 2 &amp; 3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4:32:34Z</dcterms:created>
  <dc:creator>TPS</dc:creator>
  <dc:description/>
  <dc:language>en-US</dc:language>
  <cp:lastModifiedBy>IT Clone User</cp:lastModifiedBy>
  <dcterms:modified xsi:type="dcterms:W3CDTF">2010-01-15T21:03:50Z</dcterms:modified>
  <cp:revision>335</cp:revision>
  <dc:subject/>
  <dc:title>Ancient Civilizations of the Americas</dc:title>
</cp:coreProperties>
</file>