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C4C-4DC9-40BB-8398-0B9FFE38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AE9-E843-409E-9968-6CB0B960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B40-F805-447A-803D-3B73D879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5D8-9ECC-48EF-A8A6-207BB9C4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D736-7169-4BD1-904B-9C99A3E7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40A-A9D1-4471-A933-9F12A151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D7C-A2FA-4410-AFF5-9F4B108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A42A-5089-4065-A193-A50051F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27E0-5A05-4C1A-AB16-5504FC5F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24A-0CD0-428E-8E3F-1CC13AEC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318-149E-43ED-B46E-C3740B2E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8F2-31F0-4EF7-96CF-4899738F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B149-D26B-4B1F-B070-3A4E9E6FD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upload.wikimedia.org/wikipedia/commons/2/24/Vista_de_Machu_Picchu.jpg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1/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k like an archeologist; you have just discovered this artifact. What might it tell you about the culture of the people who left it behi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www.hypnotiqueolmecpunch.org/our_st1.jpg"/>
          <p:cNvPicPr/>
          <p:nvPr/>
        </p:nvPicPr>
        <p:blipFill>
          <a:blip r:embed="rId1"/>
          <a:stretch/>
        </p:blipFill>
        <p:spPr>
          <a:xfrm>
            <a:off x="4635360" y="1905120"/>
            <a:ext cx="3689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ztec: The Sun Peo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1066680"/>
            <a:ext cx="44193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______Huitzilopochtli tells the Aztec to settle where they fi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ztec build chinampas or_______ ________ in order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rn day city of _________ ______ is were Tenochtitlan w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http://www.delange.org/TemMayor/Dsc00358.jpg"/>
          <p:cNvPicPr/>
          <p:nvPr/>
        </p:nvPicPr>
        <p:blipFill>
          <a:blip r:embed="rId1"/>
          <a:srcRect l="25340" t="0" r="0" b="24872"/>
          <a:stretch/>
        </p:blipFill>
        <p:spPr>
          <a:xfrm>
            <a:off x="4805280" y="3581280"/>
            <a:ext cx="433872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www.sbceo.k12.ca.us/~vms/carlton/tenochtitlan.jpg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http://www.mexicolore.co.uk/uploadimages/324_06_2.jpg"/>
          <p:cNvPicPr/>
          <p:nvPr/>
        </p:nvPicPr>
        <p:blipFill>
          <a:blip r:embed="rId3"/>
          <a:stretch/>
        </p:blipFill>
        <p:spPr>
          <a:xfrm>
            <a:off x="17640" y="990720"/>
            <a:ext cx="9126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unified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114300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like the _______, the Azte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erarchy is similar to feud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t top; his job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re resp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are very importan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people were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http://www.sbceo.k12.ca.us/~vms/carlton/Renaissance/Aztecs/Aztec4.gif"/>
          <p:cNvPicPr/>
          <p:nvPr/>
        </p:nvPicPr>
        <p:blipFill>
          <a:blip r:embed="rId1"/>
          <a:srcRect l="9435" t="11407" r="0" b="0"/>
          <a:stretch/>
        </p:blipFill>
        <p:spPr>
          <a:xfrm>
            <a:off x="5486400" y="1219320"/>
            <a:ext cx="3657600" cy="226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http://www.sbceo.k12.ca.us/~vms/carlton/Renaissance/Aztecs/AztecWarriors3.jpg"/>
          <p:cNvPicPr/>
          <p:nvPr/>
        </p:nvPicPr>
        <p:blipFill>
          <a:blip r:embed="rId2"/>
          <a:stretch/>
        </p:blipFill>
        <p:spPr>
          <a:xfrm>
            <a:off x="4581360" y="3610080"/>
            <a:ext cx="43340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otihuacan: A holy 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19320"/>
            <a:ext cx="44193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built by the ________but considered a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/c they believed the world was created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yramids of the ______&amp;______ were built 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richard-seaman.com/Travel/Mexico/Teotihuacan/PyramidOfTheSunFromTheWestWideAngle.jpg"/>
          <p:cNvPicPr/>
          <p:nvPr/>
        </p:nvPicPr>
        <p:blipFill>
          <a:blip r:embed="rId1"/>
          <a:stretch/>
        </p:blipFill>
        <p:spPr>
          <a:xfrm>
            <a:off x="4846680" y="1143000"/>
            <a:ext cx="4297320" cy="3067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richard-seaman.com/Travel/Mexico/Teotihuacan/PyramidOfTheMoonFromPyramidOfTheSun.jpg"/>
          <p:cNvPicPr/>
          <p:nvPr/>
        </p:nvPicPr>
        <p:blipFill>
          <a:blip r:embed="rId2"/>
          <a:stretch/>
        </p:blipFill>
        <p:spPr>
          <a:xfrm>
            <a:off x="-46080" y="1371600"/>
            <a:ext cx="8104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: POP QUIZ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 was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ztec lived in a unified empire or disjointed city-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ochtitlan is now the city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Huitzilopochtli tell the Aztec to look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Chinampas? Why were they us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ere priests important to the Aztec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eotihuac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imagesofanthropology.com/images/Quetchua_musician_with_Inca_ruins_of_Pisac_in_background_Andes_Mts_Peru_copy.jpg"/>
          <p:cNvPicPr/>
          <p:nvPr/>
        </p:nvPicPr>
        <p:blipFill>
          <a:blip r:embed="rId1"/>
          <a:stretch/>
        </p:blipFill>
        <p:spPr>
          <a:xfrm>
            <a:off x="-173160" y="-228600"/>
            <a:ext cx="9317160" cy="7086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Eras Bold ITC"/>
              </a:rPr>
              <a:t>People of South America: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Eras Bold ITC"/>
              </a:rPr>
              <a:t>The In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http://farm1.static.flickr.com/90/243277167_0dc1f509d9.jpg?v=1158263485"/>
          <p:cNvPicPr/>
          <p:nvPr/>
        </p:nvPicPr>
        <p:blipFill>
          <a:blip r:embed="rId1"/>
          <a:stretch/>
        </p:blipFill>
        <p:spPr>
          <a:xfrm>
            <a:off x="6324480" y="3105000"/>
            <a:ext cx="281952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a Rulers: S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219320"/>
            <a:ext cx="4191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uler, called ____ ____,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d absolute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ed to be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the empire’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wned’ all the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ya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ied ou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http://proto2.thinkquest.nl/~llc054/images/s_i/leven.jpg"/>
          <p:cNvPicPr/>
          <p:nvPr/>
        </p:nvPicPr>
        <p:blipFill>
          <a:blip r:embed="rId2"/>
          <a:stretch/>
        </p:blipFill>
        <p:spPr>
          <a:xfrm>
            <a:off x="4572000" y="1219320"/>
            <a:ext cx="2381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tructure of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143000"/>
            <a:ext cx="5029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sonal property b/c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llages were run by ayllu or:                        who enforced law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pa Inca could call upon young men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s worked land for:                            but then worked lan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://www.sacredsites.com/americas/peru/images/machu-picchu-04-500.jpg"/>
          <p:cNvPicPr/>
          <p:nvPr/>
        </p:nvPicPr>
        <p:blipFill>
          <a:blip r:embed="rId1"/>
          <a:stretch/>
        </p:blipFill>
        <p:spPr>
          <a:xfrm>
            <a:off x="4952880" y="1981080"/>
            <a:ext cx="4191120" cy="279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ile:Vista de Machu Picchu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ing the Emp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685440"/>
            <a:ext cx="4267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of 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intric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oads passed through Cuzc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ld not be us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ch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of the In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onquered pp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de conquered pp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i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away.com/gifs/gorp/location/roadway.jpg"/>
          <p:cNvPicPr/>
          <p:nvPr/>
        </p:nvPicPr>
        <p:blipFill>
          <a:blip r:embed="rId1"/>
          <a:stretch/>
        </p:blipFill>
        <p:spPr>
          <a:xfrm>
            <a:off x="4572000" y="213372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www.mnsu.edu/emuseum/prehistory/latinamerica/images/finishmap.jpg"/>
          <p:cNvPicPr/>
          <p:nvPr/>
        </p:nvPicPr>
        <p:blipFill>
          <a:blip r:embed="rId1"/>
          <a:stretch/>
        </p:blipFill>
        <p:spPr>
          <a:xfrm>
            <a:off x="1295280" y="-15840"/>
            <a:ext cx="6629400" cy="687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ncient Civilizations of the Amer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mec, Maya, Aztec, In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l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-360" y="838080"/>
            <a:ext cx="4724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d in Mesoamerica; region inclu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know__________ about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iest; known as the ________ _________ b/c evidence suggests later ppls adopt Ol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and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farhorizons.com/ctrlamer/olmec-images/Olmec_head.jpg"/>
          <p:cNvPicPr/>
          <p:nvPr/>
        </p:nvPicPr>
        <p:blipFill>
          <a:blip r:embed="rId1"/>
          <a:stretch/>
        </p:blipFill>
        <p:spPr>
          <a:xfrm>
            <a:off x="4740120" y="2590920"/>
            <a:ext cx="4267440" cy="304776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648320" y="579132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know little about the Olmec ‘Colossal heads’ but believe they are portrates of rul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a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-360" y="533520"/>
            <a:ext cx="4724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the ________, Maya didn’t create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y states compete f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 are connected thru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ety was hierarchical. Each city state h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b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ddle class made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Maya were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ity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news.spirithit.com/images/uploads/articles_ext_194x215/11.24.04_Mayan_378.jpg"/>
          <p:cNvPicPr/>
          <p:nvPr/>
        </p:nvPicPr>
        <p:blipFill>
          <a:blip r:embed="rId1"/>
          <a:stretch/>
        </p:blipFill>
        <p:spPr>
          <a:xfrm>
            <a:off x="4546440" y="1981080"/>
            <a:ext cx="43117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open.salon.com/blog/stellaa/2008/06/06/files/maya-calendar-1.jpg"/>
          <p:cNvPicPr/>
          <p:nvPr/>
        </p:nvPicPr>
        <p:blipFill>
          <a:blip r:embed="rId1"/>
          <a:stretch/>
        </p:blipFill>
        <p:spPr>
          <a:xfrm>
            <a:off x="2438280" y="3505320"/>
            <a:ext cx="2221200" cy="2209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yan Culture and Advanc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533520"/>
            <a:ext cx="5562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thei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a built temples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palaces for royalty and public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stone columns called Stela dep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dvanc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http://www.copanpark.com/images/pictures/stelae1/stelaea.jpg"/>
          <p:cNvPicPr/>
          <p:nvPr/>
        </p:nvPicPr>
        <p:blipFill>
          <a:blip r:embed="rId2"/>
          <a:stretch/>
        </p:blipFill>
        <p:spPr>
          <a:xfrm>
            <a:off x="4952880" y="1295280"/>
            <a:ext cx="41911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a Brochure (197-199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ll each space with info regard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luence myths had on soci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t c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graphy and modern day coun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vanc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ya Civilization Dec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cheologi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few theorie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Warfa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Over farm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a did not disappea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ed in small _________ villages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live in __________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www.jaguar-sun.com/img/maya6.jpg"/>
          <p:cNvPicPr/>
          <p:nvPr/>
        </p:nvPicPr>
        <p:blipFill>
          <a:blip r:embed="rId1"/>
          <a:stretch/>
        </p:blipFill>
        <p:spPr>
          <a:xfrm>
            <a:off x="6629400" y="1066680"/>
            <a:ext cx="2514600" cy="2686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i.pbase.com/g6/82/643382/2/78083493.ff9kLRn8.jpg"/>
          <p:cNvPicPr/>
          <p:nvPr/>
        </p:nvPicPr>
        <p:blipFill>
          <a:blip r:embed="rId2"/>
          <a:stretch/>
        </p:blipFill>
        <p:spPr>
          <a:xfrm>
            <a:off x="5450040" y="3657600"/>
            <a:ext cx="36939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lowchart: Extract 5"/>
          <p:cNvSpPr/>
          <p:nvPr/>
        </p:nvSpPr>
        <p:spPr>
          <a:xfrm>
            <a:off x="457200" y="1600200"/>
            <a:ext cx="8305920" cy="4572000"/>
          </a:xfrm>
          <a:prstGeom prst="flowChartExtra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City-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3886200" y="236232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9"/>
          <p:cNvSpPr/>
          <p:nvPr/>
        </p:nvSpPr>
        <p:spPr>
          <a:xfrm>
            <a:off x="3124080" y="3200400"/>
            <a:ext cx="297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2362320" y="4038480"/>
            <a:ext cx="4495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5"/>
          <p:cNvSpPr/>
          <p:nvPr/>
        </p:nvSpPr>
        <p:spPr>
          <a:xfrm>
            <a:off x="1143000" y="5334120"/>
            <a:ext cx="685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Rectangle 19" descr=""/>
          <p:cNvPicPr/>
          <p:nvPr/>
        </p:nvPicPr>
        <p:blipFill>
          <a:blip r:embed="rId1"/>
          <a:stretch/>
        </p:blipFill>
        <p:spPr>
          <a:xfrm>
            <a:off x="3444840" y="1158840"/>
            <a:ext cx="2687760" cy="1139760"/>
          </a:xfrm>
          <a:prstGeom prst="rect">
            <a:avLst/>
          </a:prstGeom>
          <a:ln w="0">
            <a:noFill/>
          </a:ln>
        </p:spPr>
      </p:pic>
      <p:pic>
        <p:nvPicPr>
          <p:cNvPr id="71" name="Rectangle 20" descr=""/>
          <p:cNvPicPr/>
          <p:nvPr/>
        </p:nvPicPr>
        <p:blipFill>
          <a:blip r:embed="rId2"/>
          <a:stretch/>
        </p:blipFill>
        <p:spPr>
          <a:xfrm>
            <a:off x="3303720" y="2189160"/>
            <a:ext cx="3139920" cy="110340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23" descr=""/>
          <p:cNvPicPr/>
          <p:nvPr/>
        </p:nvPicPr>
        <p:blipFill>
          <a:blip r:embed="rId3"/>
          <a:stretch/>
        </p:blipFill>
        <p:spPr>
          <a:xfrm>
            <a:off x="1859040" y="3071880"/>
            <a:ext cx="5754600" cy="84132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24" descr=""/>
          <p:cNvPicPr/>
          <p:nvPr/>
        </p:nvPicPr>
        <p:blipFill>
          <a:blip r:embed="rId4"/>
          <a:stretch/>
        </p:blipFill>
        <p:spPr>
          <a:xfrm>
            <a:off x="2792520" y="4078440"/>
            <a:ext cx="3389040" cy="111600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25" descr=""/>
          <p:cNvPicPr/>
          <p:nvPr/>
        </p:nvPicPr>
        <p:blipFill>
          <a:blip r:embed="rId5"/>
          <a:stretch/>
        </p:blipFill>
        <p:spPr>
          <a:xfrm>
            <a:off x="3054240" y="5108400"/>
            <a:ext cx="301176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1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045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urn to page 209. “Aztec Training and Education” documents B, C, and D. Answer question 2 &amp; 3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4:32:34Z</dcterms:created>
  <dc:creator>TPS</dc:creator>
  <dc:description/>
  <dc:language>en-US</dc:language>
  <cp:lastModifiedBy>IT Clone User</cp:lastModifiedBy>
  <dcterms:modified xsi:type="dcterms:W3CDTF">2010-01-15T21:03:50Z</dcterms:modified>
  <cp:revision>335</cp:revision>
  <dc:subject/>
  <dc:title>Ancient Civilizations of the Americas</dc:title>
</cp:coreProperties>
</file>