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EB8C-A8E3-4E16-9A07-6772BE4C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FD20-CCDE-4F87-9125-90D63215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8AF3-A0BF-4866-ABEA-4649DE4A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84D-C026-4628-AF1B-05609A2C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CB6-16DB-4D94-B2F6-ADA633BA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366-3EFD-42E0-96BB-454EA874F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01E-AA6B-4A10-A845-64A1ECBA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35B-F3E3-4E79-8D0E-9B68B496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39F-5BA3-4793-904C-4F49C7FC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FCB6-1591-4150-B1AB-6BFA1F40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CBAA-9373-47F8-A7D2-07ECD17A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538-1A05-4F52-8063-5218BEDE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2801-3527-43CA-983D-2DA5529349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action taken by Jefferson doubled the size of the country. (1p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s Jefferson skeptical about the answer to #1? (2p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difference btw loose and strict construction (4pts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were Lewis and Clark? (2p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Jacksonian Democracy? (1p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id Jackson claim to be a “man of the people”? (3p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Indian Removal Act (2p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. What was the Trail of Tears? (2p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. What law was created after the election of 1800, (hint about presidents and vice presidents) (2pts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What makes Jackson so popular with the American people, (hint: before he was president, 1pt)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: Name the five civilized trib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 Splits Ap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uses of the Civil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fragile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76176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avery had existed 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northerners feel slavery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lition was slow to gain support in the nort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Mexican-American War 500,000 sq mi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slave and free st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fornia gained _______ from________ applied for statehoo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www.johnhorse.com/imgszz/congscaleszz.jpg"/>
          <p:cNvPicPr/>
          <p:nvPr/>
        </p:nvPicPr>
        <p:blipFill>
          <a:blip r:embed="rId1"/>
          <a:stretch/>
        </p:blipFill>
        <p:spPr>
          <a:xfrm>
            <a:off x="5105520" y="1371600"/>
            <a:ext cx="380052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mce.k12tn.net/civil_war/usmap3.JPG"/>
          <p:cNvPicPr/>
          <p:nvPr/>
        </p:nvPicPr>
        <p:blipFill>
          <a:blip r:embed="rId1"/>
          <a:srcRect l="0" t="0" r="15112" b="25540"/>
          <a:stretch/>
        </p:blipFill>
        <p:spPr>
          <a:xfrm>
            <a:off x="0" y="0"/>
            <a:ext cx="9372600" cy="6107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4343400"/>
            <a:ext cx="43434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0" y="4038480"/>
            <a:ext cx="16765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4"/>
          <p:cNvSpPr/>
          <p:nvPr/>
        </p:nvSpPr>
        <p:spPr>
          <a:xfrm>
            <a:off x="1496880" y="4010040"/>
            <a:ext cx="189000" cy="93600"/>
          </a:xfrm>
          <a:custGeom>
            <a:avLst/>
            <a:gdLst/>
            <a:ahLst/>
            <a:rect l="l" t="t" r="r" b="b"/>
            <a:pathLst>
              <a:path w="188220" h="94110">
                <a:moveTo>
                  <a:pt x="26733" y="13366"/>
                </a:moveTo>
                <a:cubicBezTo>
                  <a:pt x="141651" y="51672"/>
                  <a:pt x="0" y="0"/>
                  <a:pt x="118173" y="59086"/>
                </a:cubicBezTo>
                <a:cubicBezTo>
                  <a:pt x="188220" y="94110"/>
                  <a:pt x="144702" y="55135"/>
                  <a:pt x="179133" y="895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>
            <a:off x="2117880" y="4343400"/>
            <a:ext cx="457200" cy="360"/>
          </a:xfrm>
          <a:custGeom>
            <a:avLst/>
            <a:gdLst/>
            <a:ahLst/>
            <a:rect l="l" t="t" r="r" b="b"/>
            <a:pathLst>
              <a:path w="457200" h="0">
                <a:moveTo>
                  <a:pt x="0" y="0"/>
                </a:moveTo>
                <a:lnTo>
                  <a:pt x="4572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>
            <a:off x="3046320" y="4343400"/>
            <a:ext cx="1312920" cy="1341360"/>
          </a:xfrm>
          <a:custGeom>
            <a:avLst/>
            <a:gdLst/>
            <a:ahLst/>
            <a:rect l="l" t="t" r="r" b="b"/>
            <a:pathLst>
              <a:path w="1311900" h="1341120">
                <a:moveTo>
                  <a:pt x="1311900" y="1341120"/>
                </a:moveTo>
                <a:cubicBezTo>
                  <a:pt x="1296660" y="1325880"/>
                  <a:pt x="1283193" y="1308632"/>
                  <a:pt x="1266180" y="1295400"/>
                </a:cubicBezTo>
                <a:cubicBezTo>
                  <a:pt x="1237264" y="1272910"/>
                  <a:pt x="1174740" y="1234440"/>
                  <a:pt x="1174740" y="1234440"/>
                </a:cubicBezTo>
                <a:cubicBezTo>
                  <a:pt x="1147916" y="1153967"/>
                  <a:pt x="1168411" y="1202086"/>
                  <a:pt x="1098540" y="1097280"/>
                </a:cubicBezTo>
                <a:cubicBezTo>
                  <a:pt x="1068570" y="1052325"/>
                  <a:pt x="1066344" y="1042510"/>
                  <a:pt x="1022340" y="1005840"/>
                </a:cubicBezTo>
                <a:cubicBezTo>
                  <a:pt x="1008269" y="994114"/>
                  <a:pt x="991860" y="985520"/>
                  <a:pt x="976620" y="975360"/>
                </a:cubicBezTo>
                <a:cubicBezTo>
                  <a:pt x="938314" y="860442"/>
                  <a:pt x="994442" y="997637"/>
                  <a:pt x="915660" y="899160"/>
                </a:cubicBezTo>
                <a:cubicBezTo>
                  <a:pt x="905625" y="886616"/>
                  <a:pt x="907604" y="867808"/>
                  <a:pt x="900420" y="853440"/>
                </a:cubicBezTo>
                <a:cubicBezTo>
                  <a:pt x="875020" y="802640"/>
                  <a:pt x="869940" y="807720"/>
                  <a:pt x="824220" y="777240"/>
                </a:cubicBezTo>
                <a:cubicBezTo>
                  <a:pt x="787680" y="667619"/>
                  <a:pt x="832012" y="804513"/>
                  <a:pt x="793740" y="670560"/>
                </a:cubicBezTo>
                <a:cubicBezTo>
                  <a:pt x="789327" y="655114"/>
                  <a:pt x="788535" y="637384"/>
                  <a:pt x="778500" y="624840"/>
                </a:cubicBezTo>
                <a:cubicBezTo>
                  <a:pt x="767058" y="610537"/>
                  <a:pt x="749163" y="602551"/>
                  <a:pt x="732780" y="594360"/>
                </a:cubicBezTo>
                <a:cubicBezTo>
                  <a:pt x="713913" y="584926"/>
                  <a:pt x="641725" y="566810"/>
                  <a:pt x="626100" y="563880"/>
                </a:cubicBezTo>
                <a:cubicBezTo>
                  <a:pt x="565358" y="552491"/>
                  <a:pt x="503821" y="545520"/>
                  <a:pt x="443220" y="533400"/>
                </a:cubicBezTo>
                <a:cubicBezTo>
                  <a:pt x="417820" y="528320"/>
                  <a:pt x="392010" y="524976"/>
                  <a:pt x="367020" y="518160"/>
                </a:cubicBezTo>
                <a:cubicBezTo>
                  <a:pt x="336023" y="509706"/>
                  <a:pt x="302313" y="505502"/>
                  <a:pt x="275580" y="487680"/>
                </a:cubicBezTo>
                <a:lnTo>
                  <a:pt x="229860" y="457200"/>
                </a:lnTo>
                <a:cubicBezTo>
                  <a:pt x="219700" y="441960"/>
                  <a:pt x="212332" y="424432"/>
                  <a:pt x="199380" y="411480"/>
                </a:cubicBezTo>
                <a:cubicBezTo>
                  <a:pt x="186428" y="398528"/>
                  <a:pt x="165721" y="394784"/>
                  <a:pt x="153660" y="381000"/>
                </a:cubicBezTo>
                <a:cubicBezTo>
                  <a:pt x="129537" y="353431"/>
                  <a:pt x="113020" y="320040"/>
                  <a:pt x="92700" y="289560"/>
                </a:cubicBezTo>
                <a:lnTo>
                  <a:pt x="62220" y="243840"/>
                </a:lnTo>
                <a:cubicBezTo>
                  <a:pt x="52060" y="228600"/>
                  <a:pt x="37532" y="215496"/>
                  <a:pt x="31740" y="198120"/>
                </a:cubicBezTo>
                <a:lnTo>
                  <a:pt x="16500" y="152400"/>
                </a:lnTo>
                <a:cubicBezTo>
                  <a:pt x="0" y="20398"/>
                  <a:pt x="1260" y="71436"/>
                  <a:pt x="12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souri Compro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76176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20; Settlers move____ of the Mississipp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O territory most were 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ettled Mo would be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would upse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romise s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 is a ______state and ME(Main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could______ exist in the northern region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kirkwood.k12.mo.us/parent_student/khs/plattes/topics9and10/topics9and1017.jpg"/>
          <p:cNvPicPr/>
          <p:nvPr/>
        </p:nvPicPr>
        <p:blipFill>
          <a:blip r:embed="rId1"/>
          <a:stretch/>
        </p:blipFill>
        <p:spPr>
          <a:xfrm>
            <a:off x="4513320" y="2057400"/>
            <a:ext cx="4630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romise of 185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7617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question of:                caused heated deb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. threatens to sece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. wouldn’t compromi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laws are pa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. would b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but UT and NM territory would determine slavery based on popular sovereignty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gitive slave A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 trade ends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bhsonline.org/library/Teachers/kelleher/US%20History%20DBQs/Kansas-Nabraska%20Act%20Meagan%20Staffiere/kansas-nebraska%20dbq%20documents_files/image001.jpg"/>
          <p:cNvPicPr/>
          <p:nvPr/>
        </p:nvPicPr>
        <p:blipFill>
          <a:blip r:embed="rId1"/>
          <a:stretch/>
        </p:blipFill>
        <p:spPr>
          <a:xfrm>
            <a:off x="-23760" y="990720"/>
            <a:ext cx="9167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ansas-Nebraska 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761760"/>
            <a:ext cx="4648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gress wants to build a RR to conne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 wants it to start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th opposes this b/c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hen Douglas wa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glas needs:             he proposes a pl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avery in Kns.-Neb. Would be left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 Compromise is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upload.wikimedia.org/wikipedia/commons/a/a0/Stephen_Arnold_Douglas.jpg"/>
          <p:cNvPicPr/>
          <p:nvPr/>
        </p:nvPicPr>
        <p:blipFill>
          <a:blip r:embed="rId1"/>
          <a:stretch/>
        </p:blipFill>
        <p:spPr>
          <a:xfrm>
            <a:off x="5029200" y="1150920"/>
            <a:ext cx="3676680" cy="5335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www.ushistory.org/us/images/00035329.jpg"/>
          <p:cNvPicPr/>
          <p:nvPr/>
        </p:nvPicPr>
        <p:blipFill>
          <a:blip r:embed="rId2"/>
          <a:stretch/>
        </p:blipFill>
        <p:spPr>
          <a:xfrm>
            <a:off x="0" y="1120680"/>
            <a:ext cx="914400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mce.k12tn.net/civil_war/usmap3.JPG"/>
          <p:cNvPicPr/>
          <p:nvPr/>
        </p:nvPicPr>
        <p:blipFill>
          <a:blip r:embed="rId1"/>
          <a:srcRect l="0" t="0" r="16400" b="27274"/>
          <a:stretch/>
        </p:blipFill>
        <p:spPr>
          <a:xfrm>
            <a:off x="0" y="0"/>
            <a:ext cx="5896080" cy="3809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2590920"/>
            <a:ext cx="2666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4"/>
          <p:cNvSpPr/>
          <p:nvPr/>
        </p:nvSpPr>
        <p:spPr>
          <a:xfrm>
            <a:off x="1135080" y="2679840"/>
            <a:ext cx="1120680" cy="63360"/>
          </a:xfrm>
          <a:custGeom>
            <a:avLst/>
            <a:gdLst/>
            <a:ahLst/>
            <a:rect l="l" t="t" r="r" b="b"/>
            <a:pathLst>
              <a:path w="1120877" h="62847">
                <a:moveTo>
                  <a:pt x="0" y="3853"/>
                </a:moveTo>
                <a:cubicBezTo>
                  <a:pt x="29497" y="13685"/>
                  <a:pt x="57821" y="28238"/>
                  <a:pt x="88490" y="33350"/>
                </a:cubicBezTo>
                <a:cubicBezTo>
                  <a:pt x="192315" y="50655"/>
                  <a:pt x="148611" y="38643"/>
                  <a:pt x="221226" y="62847"/>
                </a:cubicBezTo>
                <a:cubicBezTo>
                  <a:pt x="437536" y="57931"/>
                  <a:pt x="654229" y="61881"/>
                  <a:pt x="870155" y="48099"/>
                </a:cubicBezTo>
                <a:cubicBezTo>
                  <a:pt x="887844" y="46970"/>
                  <a:pt x="898546" y="26529"/>
                  <a:pt x="914400" y="18602"/>
                </a:cubicBezTo>
                <a:cubicBezTo>
                  <a:pt x="928305" y="11649"/>
                  <a:pt x="943138" y="4961"/>
                  <a:pt x="958645" y="3853"/>
                </a:cubicBezTo>
                <a:cubicBezTo>
                  <a:pt x="1012585" y="0"/>
                  <a:pt x="1066800" y="3853"/>
                  <a:pt x="1120877" y="38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5"/>
          <p:cNvSpPr/>
          <p:nvPr/>
        </p:nvSpPr>
        <p:spPr>
          <a:xfrm>
            <a:off x="2033640" y="2728800"/>
            <a:ext cx="620640" cy="839880"/>
          </a:xfrm>
          <a:custGeom>
            <a:avLst/>
            <a:gdLst/>
            <a:ahLst/>
            <a:rect l="l" t="t" r="r" b="b"/>
            <a:pathLst>
              <a:path w="621545" h="840658">
                <a:moveTo>
                  <a:pt x="621545" y="840658"/>
                </a:moveTo>
                <a:lnTo>
                  <a:pt x="577300" y="707922"/>
                </a:lnTo>
                <a:cubicBezTo>
                  <a:pt x="572384" y="693174"/>
                  <a:pt x="565600" y="678921"/>
                  <a:pt x="562551" y="663677"/>
                </a:cubicBezTo>
                <a:cubicBezTo>
                  <a:pt x="557635" y="639096"/>
                  <a:pt x="551924" y="614661"/>
                  <a:pt x="547803" y="589935"/>
                </a:cubicBezTo>
                <a:cubicBezTo>
                  <a:pt x="542088" y="555646"/>
                  <a:pt x="547172" y="518462"/>
                  <a:pt x="533054" y="486696"/>
                </a:cubicBezTo>
                <a:cubicBezTo>
                  <a:pt x="525436" y="469555"/>
                  <a:pt x="462155" y="444406"/>
                  <a:pt x="444564" y="442451"/>
                </a:cubicBezTo>
                <a:cubicBezTo>
                  <a:pt x="371110" y="434289"/>
                  <a:pt x="297080" y="432619"/>
                  <a:pt x="223338" y="427703"/>
                </a:cubicBezTo>
                <a:cubicBezTo>
                  <a:pt x="191779" y="417183"/>
                  <a:pt x="158391" y="410364"/>
                  <a:pt x="134848" y="383458"/>
                </a:cubicBezTo>
                <a:cubicBezTo>
                  <a:pt x="111503" y="356778"/>
                  <a:pt x="95519" y="324464"/>
                  <a:pt x="75854" y="294967"/>
                </a:cubicBezTo>
                <a:cubicBezTo>
                  <a:pt x="0" y="181185"/>
                  <a:pt x="46358" y="268439"/>
                  <a:pt x="4635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6"/>
          <p:cNvSpPr/>
          <p:nvPr/>
        </p:nvSpPr>
        <p:spPr>
          <a:xfrm>
            <a:off x="1017720" y="2581200"/>
            <a:ext cx="191880" cy="117720"/>
          </a:xfrm>
          <a:custGeom>
            <a:avLst/>
            <a:gdLst/>
            <a:ahLst/>
            <a:rect l="l" t="t" r="r" b="b"/>
            <a:pathLst>
              <a:path w="191729" h="117987">
                <a:moveTo>
                  <a:pt x="191729" y="117987"/>
                </a:moveTo>
                <a:cubicBezTo>
                  <a:pt x="149849" y="104027"/>
                  <a:pt x="37619" y="75240"/>
                  <a:pt x="14748" y="29497"/>
                </a:cubicBez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7"/>
          <p:cNvSpPr/>
          <p:nvPr/>
        </p:nvSpPr>
        <p:spPr>
          <a:xfrm>
            <a:off x="2255760" y="2567160"/>
            <a:ext cx="360" cy="117360"/>
          </a:xfrm>
          <a:custGeom>
            <a:avLst/>
            <a:gdLst/>
            <a:ahLst/>
            <a:rect l="l" t="t" r="r" b="b"/>
            <a:pathLst>
              <a:path w="0" h="117987">
                <a:moveTo>
                  <a:pt x="0" y="0"/>
                </a:moveTo>
                <a:lnTo>
                  <a:pt x="0" y="1179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www.mce.k12tn.net/civil_war/usmap3.JPG"/>
          <p:cNvPicPr/>
          <p:nvPr/>
        </p:nvPicPr>
        <p:blipFill>
          <a:blip r:embed="rId2"/>
          <a:srcRect l="0" t="0" r="16400" b="27274"/>
          <a:stretch/>
        </p:blipFill>
        <p:spPr>
          <a:xfrm>
            <a:off x="3247920" y="3048120"/>
            <a:ext cx="5896080" cy="38098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3276720" y="5638680"/>
            <a:ext cx="2743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0"/>
          <p:cNvSpPr/>
          <p:nvPr/>
        </p:nvSpPr>
        <p:spPr>
          <a:xfrm>
            <a:off x="4232160" y="5634000"/>
            <a:ext cx="1284480" cy="103320"/>
          </a:xfrm>
          <a:custGeom>
            <a:avLst/>
            <a:gdLst/>
            <a:ahLst/>
            <a:rect l="l" t="t" r="r" b="b"/>
            <a:pathLst>
              <a:path w="1283110" h="103239">
                <a:moveTo>
                  <a:pt x="0" y="0"/>
                </a:moveTo>
                <a:cubicBezTo>
                  <a:pt x="9832" y="14748"/>
                  <a:pt x="14749" y="34413"/>
                  <a:pt x="29497" y="44245"/>
                </a:cubicBezTo>
                <a:cubicBezTo>
                  <a:pt x="46362" y="55488"/>
                  <a:pt x="69075" y="53169"/>
                  <a:pt x="88490" y="58993"/>
                </a:cubicBezTo>
                <a:cubicBezTo>
                  <a:pt x="234568" y="102816"/>
                  <a:pt x="118211" y="78695"/>
                  <a:pt x="265471" y="103239"/>
                </a:cubicBezTo>
                <a:lnTo>
                  <a:pt x="1135626" y="88490"/>
                </a:lnTo>
                <a:cubicBezTo>
                  <a:pt x="1153313" y="87330"/>
                  <a:pt x="1150092" y="53639"/>
                  <a:pt x="1165123" y="44245"/>
                </a:cubicBezTo>
                <a:cubicBezTo>
                  <a:pt x="1217293" y="11639"/>
                  <a:pt x="1236956" y="14748"/>
                  <a:pt x="1283110" y="147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5059440" y="5767560"/>
            <a:ext cx="987480" cy="898200"/>
          </a:xfrm>
          <a:custGeom>
            <a:avLst/>
            <a:gdLst/>
            <a:ahLst/>
            <a:rect l="l" t="t" r="r" b="b"/>
            <a:pathLst>
              <a:path w="988142" h="899652">
                <a:moveTo>
                  <a:pt x="988142" y="899652"/>
                </a:moveTo>
                <a:cubicBezTo>
                  <a:pt x="973394" y="889820"/>
                  <a:pt x="959751" y="878082"/>
                  <a:pt x="943897" y="870155"/>
                </a:cubicBezTo>
                <a:cubicBezTo>
                  <a:pt x="929992" y="863203"/>
                  <a:pt x="912586" y="864030"/>
                  <a:pt x="899651" y="855407"/>
                </a:cubicBezTo>
                <a:cubicBezTo>
                  <a:pt x="882297" y="843838"/>
                  <a:pt x="871870" y="823967"/>
                  <a:pt x="855406" y="811162"/>
                </a:cubicBezTo>
                <a:cubicBezTo>
                  <a:pt x="827423" y="789397"/>
                  <a:pt x="766916" y="752168"/>
                  <a:pt x="766916" y="752168"/>
                </a:cubicBezTo>
                <a:cubicBezTo>
                  <a:pt x="731849" y="646965"/>
                  <a:pt x="781573" y="774153"/>
                  <a:pt x="707922" y="663678"/>
                </a:cubicBezTo>
                <a:cubicBezTo>
                  <a:pt x="699299" y="650743"/>
                  <a:pt x="700126" y="633338"/>
                  <a:pt x="693174" y="619433"/>
                </a:cubicBezTo>
                <a:cubicBezTo>
                  <a:pt x="685247" y="603579"/>
                  <a:pt x="673509" y="589936"/>
                  <a:pt x="663677" y="575187"/>
                </a:cubicBezTo>
                <a:cubicBezTo>
                  <a:pt x="658761" y="540774"/>
                  <a:pt x="665410" y="502556"/>
                  <a:pt x="648929" y="471949"/>
                </a:cubicBezTo>
                <a:cubicBezTo>
                  <a:pt x="613786" y="406683"/>
                  <a:pt x="543863" y="362952"/>
                  <a:pt x="471948" y="353962"/>
                </a:cubicBezTo>
                <a:lnTo>
                  <a:pt x="353961" y="339213"/>
                </a:lnTo>
                <a:cubicBezTo>
                  <a:pt x="324540" y="335290"/>
                  <a:pt x="196046" y="317230"/>
                  <a:pt x="162232" y="309716"/>
                </a:cubicBezTo>
                <a:cubicBezTo>
                  <a:pt x="147056" y="306344"/>
                  <a:pt x="132735" y="299884"/>
                  <a:pt x="117987" y="294968"/>
                </a:cubicBezTo>
                <a:lnTo>
                  <a:pt x="58993" y="206478"/>
                </a:lnTo>
                <a:cubicBezTo>
                  <a:pt x="49161" y="191730"/>
                  <a:pt x="35102" y="179049"/>
                  <a:pt x="29497" y="162233"/>
                </a:cubicBezTo>
                <a:lnTo>
                  <a:pt x="14748" y="11798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1:47:53Z</dcterms:created>
  <dc:creator>IT Clone User</dc:creator>
  <dc:description/>
  <dc:language>en-US</dc:language>
  <cp:lastModifiedBy>IT Clone User</cp:lastModifiedBy>
  <dcterms:modified xsi:type="dcterms:W3CDTF">2010-04-09T15:14:02Z</dcterms:modified>
  <cp:revision>28</cp:revision>
  <dc:subject/>
  <dc:title>Nation Splits Apart</dc:title>
</cp:coreProperties>
</file>