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6C1-98E2-4694-86F1-7082CA92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032-935A-4764-B706-312E7AFF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58D3-DC63-4641-96C8-CC724DB1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427-B0E2-4A26-826C-B8C99F05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244B-4657-4EA6-9ED8-C50AC3BB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96C7-1B09-474F-8B8B-5FC1A668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F21-AA3A-4D43-9032-52C5C4EF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570-88CA-40A7-AC36-E642F947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454-C265-4F65-9ADC-619FC04C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98DD-FA7F-4FDD-83FB-2C9847C5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328-6DB6-48A9-A3D2-33107044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4C8A-A33D-47F3-855D-370F1D81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C50D-B890-4796-8FB7-FE90A456A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8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stward expansion didn’t really get going until the mid to late nineteenth century, (that’s the 1800s folks); if our country was officially founded in 1776, the Constitution is ratified in 1789, the Louisiana Purchase is in 1803, what the heck took so long to move West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 West, Young Man…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stward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 the Civil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settlers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s hope to become_________, freedmen hope to finall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www1.cuny.edu/portal_ur/content/letfreedomring/gallery/westward_pic1.jpg"/>
          <p:cNvPicPr/>
          <p:nvPr/>
        </p:nvPicPr>
        <p:blipFill>
          <a:blip r:embed="rId1"/>
          <a:stretch/>
        </p:blipFill>
        <p:spPr>
          <a:xfrm>
            <a:off x="5105520" y="1600200"/>
            <a:ext cx="3524040" cy="340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schoolweb.missouri.edu/poplarbluff.k12.mo.us/lowe/wagondiagram.gif"/>
          <p:cNvPicPr/>
          <p:nvPr/>
        </p:nvPicPr>
        <p:blipFill>
          <a:blip r:embed="rId2"/>
          <a:stretch/>
        </p:blipFill>
        <p:spPr>
          <a:xfrm>
            <a:off x="76320" y="1447920"/>
            <a:ext cx="9016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193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9ers= ppl who rus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stock Lode is nex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m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500 million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londike gold rush brings ppl 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 discovered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spectors mo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are not 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ww.goldpanningsite.com/images/victorian-gold-rush.jpg"/>
          <p:cNvPicPr/>
          <p:nvPr/>
        </p:nvPicPr>
        <p:blipFill>
          <a:blip r:embed="rId1"/>
          <a:srcRect l="0" t="2981" r="0" b="3167"/>
          <a:stretch/>
        </p:blipFill>
        <p:spPr>
          <a:xfrm>
            <a:off x="5410080" y="1447920"/>
            <a:ext cx="3257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m Mining Camp to T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ps are form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ts and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pl for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ot of viol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cam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pl bui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op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ns br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windriverhistory.org/exhibits/washakie_2/images/southpass.gif"/>
          <p:cNvPicPr/>
          <p:nvPr/>
        </p:nvPicPr>
        <p:blipFill>
          <a:blip r:embed="rId1"/>
          <a:stretch/>
        </p:blipFill>
        <p:spPr>
          <a:xfrm>
            <a:off x="4191120" y="2133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nching and the Cattle Boo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93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the Civil War the population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 for beef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ef prices go ____ 10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s ‘drive’ catt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tle trails, or: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wboy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orww.org/Harney_Cattle/Student_Reports/Images/BatchImage28.jpg"/>
          <p:cNvPicPr/>
          <p:nvPr/>
        </p:nvPicPr>
        <p:blipFill>
          <a:blip r:embed="rId1"/>
          <a:stretch/>
        </p:blipFill>
        <p:spPr>
          <a:xfrm>
            <a:off x="4587840" y="2362320"/>
            <a:ext cx="4556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1:47:01Z</dcterms:created>
  <dc:creator>IT Clone User</dc:creator>
  <dc:description/>
  <dc:language>en-US</dc:language>
  <cp:lastModifiedBy>IT Clone User</cp:lastModifiedBy>
  <dcterms:modified xsi:type="dcterms:W3CDTF">2009-09-02T14:52:30Z</dcterms:modified>
  <cp:revision>19</cp:revision>
  <dc:subject/>
  <dc:title>“Go West, Young Man…”</dc:title>
</cp:coreProperties>
</file>