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4061-16CD-4575-AA28-B4EBE471C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D97F-1FF4-480B-AE24-F1732C40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C22F-6A26-4448-8E7D-588C892AF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7C11-2EC4-4934-AA9F-3E4AA7431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590F-BF70-4F63-AD93-5A78BAA2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2F49-E4C4-40E1-91BE-D187FE89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C67F-6DA7-479C-A72B-75243268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62C0-333D-4B69-9B3A-A0A3020C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7E52-7A30-41B3-A5A3-F1574407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1E78-F764-45F5-987D-32C032CA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6C7B-59C9-4F26-8666-B289A9B3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9CDE-E687-4233-AA8E-0F000F86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0D27-6074-4C46-87DE-E71D02489F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urnal 8/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estward expansion didn’t really get going until the mid to late nineteenth century, (that’s the 1800s folks); if our country was officially founded in 1776, the Constitution is ratified in 1789, the Louisiana Purchase is in 1803, what the heck took so long to move West?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 West, Young Man…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estward Expa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fter the Civil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settlers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_fro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_fro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tes hope to become_________, freedmen hope to finall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http://www1.cuny.edu/portal_ur/content/letfreedomring/gallery/westward_pic1.jpg"/>
          <p:cNvPicPr/>
          <p:nvPr/>
        </p:nvPicPr>
        <p:blipFill>
          <a:blip r:embed="rId1"/>
          <a:stretch/>
        </p:blipFill>
        <p:spPr>
          <a:xfrm>
            <a:off x="5105520" y="1600200"/>
            <a:ext cx="3524040" cy="3409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schoolweb.missouri.edu/poplarbluff.k12.mo.us/lowe/wagondiagram.gif"/>
          <p:cNvPicPr/>
          <p:nvPr/>
        </p:nvPicPr>
        <p:blipFill>
          <a:blip r:embed="rId2"/>
          <a:stretch/>
        </p:blipFill>
        <p:spPr>
          <a:xfrm>
            <a:off x="76320" y="1447920"/>
            <a:ext cx="90169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219320"/>
            <a:ext cx="41911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9ers= ppl who rush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stock Lode is nex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v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______m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500 million i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londike gold rush brings ppl _________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ld discovered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spectors mov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are not 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www.goldpanningsite.com/images/victorian-gold-rush.jpg"/>
          <p:cNvPicPr/>
          <p:nvPr/>
        </p:nvPicPr>
        <p:blipFill>
          <a:blip r:embed="rId1"/>
          <a:srcRect l="0" t="2981" r="0" b="3167"/>
          <a:stretch/>
        </p:blipFill>
        <p:spPr>
          <a:xfrm>
            <a:off x="5410080" y="1447920"/>
            <a:ext cx="3257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om Mining Camp to Tow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19320"/>
            <a:ext cx="41911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mps are form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nts and 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pl form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lot of violen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rge camp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pl bui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op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wns br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www.windriverhistory.org/exhibits/washakie_2/images/southpass.gif"/>
          <p:cNvPicPr/>
          <p:nvPr/>
        </p:nvPicPr>
        <p:blipFill>
          <a:blip r:embed="rId1"/>
          <a:stretch/>
        </p:blipFill>
        <p:spPr>
          <a:xfrm>
            <a:off x="4191120" y="21337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nching and the Cattle Boom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19320"/>
            <a:ext cx="41911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the Civil War the population____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mand for beef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ef prices go ____ 10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ers ‘drive’ catt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ttle trails, or: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wboy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www.orww.org/Harney_Cattle/Student_Reports/Images/BatchImage28.jpg"/>
          <p:cNvPicPr/>
          <p:nvPr/>
        </p:nvPicPr>
        <p:blipFill>
          <a:blip r:embed="rId1"/>
          <a:stretch/>
        </p:blipFill>
        <p:spPr>
          <a:xfrm>
            <a:off x="4587840" y="2362320"/>
            <a:ext cx="45561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11:47:01Z</dcterms:created>
  <dc:creator>IT Clone User</dc:creator>
  <dc:description/>
  <dc:language>en-US</dc:language>
  <cp:lastModifiedBy>IT Clone User</cp:lastModifiedBy>
  <dcterms:modified xsi:type="dcterms:W3CDTF">2009-09-02T14:52:30Z</dcterms:modified>
  <cp:revision>19</cp:revision>
  <dc:subject/>
  <dc:title>“Go West, Young Man…”</dc:title>
</cp:coreProperties>
</file>