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EF3C-8309-44DC-8FBD-7D4511FD4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urch becomes more concerned w/power and wealth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an with ministering to its peop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pes become obsessed w/pow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0504d"/>
                </a:solidFill>
                <a:latin typeface="Calibri"/>
              </a:rPr>
              <a:t>Indulgences are things that keep you out of hell. The make up for your sins; kind of like karma in revers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ly earned through good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ests of Medieval church make people pay for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5F0B-E067-4840-A445-C3B8DBC677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erman mo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est in Luther’s hometown rebuilds a church &amp; tells ppl if they pay for the rebuild they will go to Heaven. If they don’t they go to H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auses Luther to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95 Theses are posted on the church do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nds copies all over Europ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uther is labeled a heretic and is forced into excil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9A3E-08BC-4613-B742-74B7F4CE92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e did not have a monopoly on G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lgences have no basis in the B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ans will get to Heaven based on faith al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lit w/ Catholic church to become the first Protestant denomination of the Christian church…Luther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*What Luther did is known as the PROTESTant RE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54EBA-AE61-4CE2-8CCA-28A433E4BE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8655-1295-46A7-916E-7092CC18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518-DF81-49C4-9797-04207BA0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107-09AC-49B8-BE89-8EC5ECE3C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615-5DEB-4566-ACDA-A8AD1E57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4654-9C94-46A7-AFFA-8CE2AFE0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2A5E-5218-43EF-AC65-2E72D955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371C-0533-4095-AF12-D8B2814F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6051-2957-4BBD-B2C7-021150E2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D156-B644-459E-B938-7772045E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675C-2D51-4257-84CF-189E500E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A1E2-CE9F-4687-ABBA-3B549DCD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55DA-C588-4DFF-B246-516D6ABA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DC79-1179-482A-8A5A-FECC37E8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10D3-E13C-4A7B-A1C4-6FD131A9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879A-ED85-477E-B1C9-5C4A0C06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3F69-33AF-4ACD-9575-4644FAB2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740A-5D51-4D3E-8A1A-C6C75A91E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6FF5C-9F85-43E5-A6E9-BA51CF1B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03FFE-DC17-4A4C-8609-D296D733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0E7A7-118C-4DE3-8E96-FD372B2B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28F0-8659-4EA4-A3A4-607AED95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5163-9265-4C65-998F-5877A827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D5A-862A-419D-A4D7-850F1F3A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7A2D-EEC0-4E66-8CEF-55BBC120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01A87-0ADA-4CA9-B9F1-EA93B718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086C-8FCF-440B-B03B-465052F7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8CDAA-C472-4462-AB49-CA2AD0B5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D3A8-015C-4BDC-A5B9-817BD206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CD7D0-401E-4618-A39D-7DDA04DE5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18DC-BB0A-4934-86FA-77928A81E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7313-7AF7-4B57-BC94-1709786D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DE74-1187-408C-B421-4B0EA91A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57C45-DF96-4C9D-A725-09CAB817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645-7CFE-481B-B947-3E4A306F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7D4A3-8FAE-4DCB-A499-937BB26A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6A874-2FCB-419D-853F-EA4BE8B3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AB303-C290-4764-9EE2-6E2EB920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55B74-13A6-4CEC-9F35-4BFCC28A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702BD-32A1-4E6D-B332-21ED942B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DA1E1-EC41-4C38-BC4E-2EC99748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D38D-6343-4416-9632-1685CC97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A2720-B1BC-44B4-AB88-0D42C277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67311-BD56-4D4F-BCF7-804C32593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BE662-4575-4B45-A45D-93FD7B39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C71E-FF5C-41AA-AEC1-A8A76FCE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8405C-113D-4914-B36A-7166791B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995CB-5921-433C-9E16-57CD850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E361C-DD9D-4B14-A5A4-369A275B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6F1EF-EBCC-45AD-BBCB-4EA1C89A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8688A-766C-410B-A59F-629E1605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6C50B-3E9F-4CE1-9477-F5B4E395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AC49C-012F-46E5-898C-849CCF45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5FB0C-19A5-416C-BE2F-41C1F02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D8B1C-3DA0-4090-92CC-B6DC9EA0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2E871-7180-4961-A8E6-0DDDE76A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4A6-22D7-43F7-8924-2EE5D4DE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C1F1B-FDCA-44C8-9489-1284DA29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694CC-2CA4-4F2C-AA6A-1B948E83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F8F64-4C49-4E21-B43A-D3DBC618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CFA68-D40B-4336-8725-C7A82082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2024E-BE63-48BC-9A7F-2101135B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4259-296D-468B-BEED-0D6E677C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D8574-7913-4281-AED7-5B408176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44B6E-DBFD-4EA6-862C-857529B1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C2B36-FF5D-4209-B9DB-FAE18A17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A29C-D95C-4E90-BBBC-20C663EB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589-2788-4EDE-B13F-3C675F5C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725D0-6E72-45DF-8100-99C00C61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3544A-C6C6-43B4-907C-A9572B07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B4511-54BA-459D-9DB4-828AD38D9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86FB9-EB8E-46D4-B71A-6DF338BE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9DCD8-8CC9-4C42-B09C-B25AE412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F68A8-E3E7-4D30-8FA4-0A55BEC8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47C7E-D156-44A4-9530-8AF340DE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D88EF-4AFF-467E-AA9C-7C9321A4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6F7DC-12EB-4D28-9BFD-C2EE9DB8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560EE-EDB0-49AB-8B03-A4039851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CE3E-506F-4760-81DC-1A609B02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1CC0E-0955-440C-B563-A609471B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AE04D-6B54-4278-87E0-B39EEDB3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81773-AEAF-4F02-ACD8-BF13200B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385A5-63FF-41B3-AAC6-01D9CA80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D048E-FDDA-400D-8D78-2E2BD7374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DFA2-2EC7-4CB6-8B30-94D20D80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51F5-F183-49B0-9205-41FBBB1D31DA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B8AF-1EED-4C05-A116-513C127EFE2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A335-4D3E-47A7-8ED1-CD474625F93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FD4C-F97E-4F5F-9A6B-C1B3A6CFF2B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9A07-B69A-412A-A6E8-C869FD0C027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AAAB-1586-4EB3-961C-EF0D2FC4E3F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CD04-FFE5-44DE-8E79-FB9BD85FFF8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http://www.fccog.org/images/st-glass-SNave-2-Francis-Assisi.jpg"/>
          <p:cNvPicPr/>
          <p:nvPr/>
        </p:nvPicPr>
        <p:blipFill>
          <a:blip r:embed="rId1"/>
          <a:stretch/>
        </p:blipFill>
        <p:spPr>
          <a:xfrm>
            <a:off x="4375080" y="0"/>
            <a:ext cx="476892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609480" y="2438280"/>
            <a:ext cx="7772400" cy="609840"/>
          </a:xfrm>
          <a:prstGeom prst="rect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2"/>
          <a:stretch/>
        </p:blipFill>
        <p:spPr>
          <a:xfrm>
            <a:off x="353880" y="2114640"/>
            <a:ext cx="84060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705960" y="1350720"/>
            <a:ext cx="8285400" cy="32209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lfaen"/>
              </a:rPr>
              <a:t>Remind yourself who Johann Gutenberg is (look him up if you need to). How might his Bible have been dangerous to the church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Journal 9/30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y reform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066680"/>
            <a:ext cx="4648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hurch becomes more concerned w/:  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an with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opes become obsessed w/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rbel"/>
              </a:rPr>
              <a:t>Indulgences: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riginally earned throug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iests of Medieval churc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2" name="Picture 5" descr="http://www.norfolkchurches.co.uk/norwichstephen/images/dscf2569.jpg"/>
          <p:cNvPicPr/>
          <p:nvPr/>
        </p:nvPicPr>
        <p:blipFill>
          <a:blip r:embed="rId1"/>
          <a:srcRect l="28383" t="0" r="0" b="0"/>
          <a:stretch/>
        </p:blipFill>
        <p:spPr>
          <a:xfrm>
            <a:off x="4708440" y="2209680"/>
            <a:ext cx="4435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artin Luth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91404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 German_______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riest in Luther’s hometown rebuilds a church &amp; tells ppl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his causes Luther to protes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65640" indent="-257040"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95 Theses are posted on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65640" indent="-257040"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nds copies all over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65640" indent="-257040"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Luther is labeled a_____ and: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5" descr="http://imspeakingtruth.files.wordpress.com/2008/07/martin-luther.jpg"/>
          <p:cNvPicPr/>
          <p:nvPr/>
        </p:nvPicPr>
        <p:blipFill>
          <a:blip r:embed="rId1"/>
          <a:stretch/>
        </p:blipFill>
        <p:spPr>
          <a:xfrm>
            <a:off x="5181480" y="1054080"/>
            <a:ext cx="396252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did Luther say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ope did not have a monopoly on 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Indulgences have no basis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hristians will get to Heaven based on ________ alon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plit w/ Catholic church to become: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Picture 5" descr="http://prayerfoundation.org/luther2.jpg"/>
          <p:cNvPicPr/>
          <p:nvPr/>
        </p:nvPicPr>
        <p:blipFill>
          <a:blip r:embed="rId1"/>
          <a:stretch/>
        </p:blipFill>
        <p:spPr>
          <a:xfrm>
            <a:off x="5181480" y="853920"/>
            <a:ext cx="350532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705960" y="1350720"/>
            <a:ext cx="7828200" cy="36018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Listen to the story. Who is this about? What was his real name? What did you find interesting?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Journal 10/30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n page 54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Read about three other reformers; Zwingli, Calvin and Henry the VIII (the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. You’ll read about him on 55-56). What’s each man known for (take a look at those hi-lighted words)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What’s the name of the church they created (skip this question for Zwingli)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Draw a picture about something interesting you read for each reformer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3:24:22Z</dcterms:created>
  <dc:creator>Christine Sturges</dc:creator>
  <dc:description/>
  <dc:language>en-US</dc:language>
  <cp:lastModifiedBy>CHRISTINE STURGES</cp:lastModifiedBy>
  <dcterms:modified xsi:type="dcterms:W3CDTF">2014-09-09T20:10:49Z</dcterms:modified>
  <cp:revision>102</cp:revision>
  <dc:subject/>
  <dc:title>Reform in the Church</dc:title>
</cp:coreProperties>
</file>