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E50A-EB20-4366-B586-2FEFBB1BA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hurch becomes more concerned w/power and wealth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an with ministering to its peopl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pes become obsessed w/pow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c0504d"/>
                </a:solidFill>
                <a:latin typeface="Calibri"/>
              </a:rPr>
              <a:t>Indulgences are things that keep you out of hell. The make up for your sins; kind of like karma in revers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iginally earned through good 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ests of Medieval church make people pay for t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1E66-9714-4169-A344-E91D6083E3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German mo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est in Luther’s hometown rebuilds a church &amp; tells ppl if they pay for the rebuild they will go to Heaven. If they don’t they go to H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auses Luther to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95 Theses are posted on the church doo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nds copies all over Europ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uther is labeled a heretic and is forced into excile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FC1A-6CB7-4AAD-B92C-7AE205F3DB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e did not have a monopoly on G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ulgences have no basis in the B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istians will get to Heaven based on faith al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lit w/ Catholic church to become the first Protestant denomination of the Christian church…Luther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*What Luther did is known as the PROTESTant RE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1ACF-0C3B-4006-A1ED-EE2F610774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B6B-1DA5-44D5-AA13-641CAF81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E73-0286-4B42-9449-A1FD4797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8BD8-90DD-4C33-BC68-DC2553FC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1656-331B-4C04-AECD-F34E2289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0C0A-D9FC-4905-9DA0-F90D5CF2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02C0-5FE0-431C-8D53-B638D1A7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F21B-9DBC-4818-B3C8-0477853C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1DBE-5B7A-495D-9453-48D66C15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EB70-1076-4FF1-9574-CBCBBE15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3128-4F26-4C66-AF2E-6B2FDDA6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A13C-D942-4829-B43E-0C3C5CA3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EE19-2A4E-452A-9C35-FF7366D8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3C59-B1BF-4729-A36A-D7611857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954E-B4C0-4B6D-9611-8AF3665E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14F2-BB06-404D-ACDC-A86A3DC5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52BC-00F1-4C89-81AA-DEE70653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FAF8-6CF6-4DD2-80C8-16C304A3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039B-B97D-40E2-99D1-4D30F1D1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93397-8E21-4090-BFBE-0B426648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C8BF3-14B2-467E-9A89-30F2D3BB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3B88-4575-4911-BC37-2C69019C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A6D1-DBF0-41D4-9E5B-EC42D21A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A6C0-45FD-4D4D-A464-B6A61C48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79049-A8FA-4492-99BF-34946F31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2379F-CA1B-425D-8AE1-60EC12F8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851C-8D34-4B17-9746-9C79177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53F8E-DBF9-443F-B83D-73179E5F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2327B-42EF-41F3-8160-4B49264C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3B523-B847-47E9-9F38-5E71E5CF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0EF13-94CF-4BF5-9968-538C96D4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3FE8-085C-4C18-981E-048F7326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4CB1A-5785-4961-8E39-D91034DA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754DD-308F-4902-A34F-574F9720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F1AE-914A-4336-9976-1D78C833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70CDA-9217-47B5-9490-B4498363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3B3AD-471C-4F29-ADBF-9D91652C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5A8D6-FEA2-4990-87C2-8B2A4E8E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A540C-8DB0-42A7-BF7C-867DE011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6512E-5973-4F1A-9DE8-284D04A6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2310-C109-45A5-81B8-4D46F2F9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F7DC3-A6C6-4C8F-AEB4-770048B8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3980F-732F-4C9B-AFC3-84C2FF034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48B9D-7812-4DFE-B8A1-D4E3BD79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DD824-167C-46A7-B568-B0736E36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855A-207A-44D2-B47B-D48A7027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FE538-6004-4836-B5B0-30EA136F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31FA9-1C65-4957-A786-71B75668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201AF-B74B-4F11-8CC8-530B1741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CAD36-30EF-438B-A052-C7F5EE93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15CA5-4757-4335-A4B0-3E035ADB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66CA3-DE77-452B-AAB4-917D0858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F4BEF-26A2-46A0-AEC4-1DD11847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F224F-017F-4C8C-B3D0-3B805482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B740-CE33-4D04-8DE8-A374B2E5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E31FA-4B16-47A8-9262-6F0A2476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6A7E-C8A9-45CC-BD00-6DE19614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2068D-73FE-4A61-B692-33F960F6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34212-9EC7-4682-8314-72DFB35A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81BC5-4531-4977-979E-92730A58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65162-EC5C-480A-A42C-41C20BB7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2116E-0526-466F-B122-B9AA5B45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9E955-9CDD-4F18-A458-AA8FD3D0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9D5C7-8089-4B9A-B0D7-CE78672F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1AD0C-2D5C-4A1C-BC41-76DD9B2E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9D301-4363-45B0-B4E5-8C6D35B4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0513E-BB7F-4E7C-9E14-664B54FD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0C5C-0D30-4CAF-AF1C-87AE3B37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064F2-6641-4AFD-B21E-8C2AA261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0DF0B-11A0-485B-8AC9-F685AC9D9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79739-1576-4D51-9245-45FAB01A7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2A78C-6B30-4869-A54F-3EBD6B51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3EBD6-7F26-4069-AA04-CEF97076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BBEFA-9E68-49C9-9985-390C1A66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D136F-C3C9-4063-97AA-AD0319CB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6D15B-58D8-410D-A2E6-EDF23B6E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13FC9-F093-42C4-92BE-6C701704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D1378-430A-4D34-A415-207DBCFF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CD1-C5BA-45CC-A9D3-D527BA53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ABC57-F7C7-4556-8491-E95FAE69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5EEA1-6043-4A9D-BA14-16DE6878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49C6E-ADEA-458E-94A2-A94913F3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6E69C-5C8C-4D7E-9BB1-74369422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457EB-6E2A-4EE6-A7E0-9E087D0C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52B-DC4E-401F-8997-F4C7DE0C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52AE-7F19-4C1C-8A8A-B7AE989208E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0B94-BFEA-459E-BBFA-244961E95634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F63A-1FC9-46B0-861F-32A210880E4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092B-23B9-4395-B794-8D3E43528AE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BE6F-5088-4206-BF7A-1C283654AF5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5E66-6CC5-4CC8-9E0A-822E74DC66D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7360" y="12175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7360" y="12823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30360" y="137016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964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30360" y="143496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82240" y="1473120"/>
              <a:ext cx="680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961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82240" y="1537920"/>
              <a:ext cx="680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6AD5-D13A-43E8-827C-0EC40F01F90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http://www.fccog.org/images/st-glass-SNave-2-Francis-Assisi.jpg"/>
          <p:cNvPicPr/>
          <p:nvPr/>
        </p:nvPicPr>
        <p:blipFill>
          <a:blip r:embed="rId1"/>
          <a:stretch/>
        </p:blipFill>
        <p:spPr>
          <a:xfrm>
            <a:off x="4375080" y="0"/>
            <a:ext cx="476892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609480" y="2438280"/>
            <a:ext cx="7772400" cy="609840"/>
          </a:xfrm>
          <a:prstGeom prst="rect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Rectangle 2" descr=""/>
          <p:cNvPicPr/>
          <p:nvPr/>
        </p:nvPicPr>
        <p:blipFill>
          <a:blip r:embed="rId2"/>
          <a:stretch/>
        </p:blipFill>
        <p:spPr>
          <a:xfrm>
            <a:off x="353880" y="2114640"/>
            <a:ext cx="84060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705960" y="1350720"/>
            <a:ext cx="8285400" cy="322092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ylfaen"/>
              </a:rPr>
              <a:t>Remind yourself who Johann Gutenberg is (look him up if you need to). How might his Bible have been dangerous to the church?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Journal 9/30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y reform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0" y="1066680"/>
            <a:ext cx="4648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hurch becomes more concerned w/:  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an with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opes become obsessed w/__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rbel"/>
              </a:rPr>
              <a:t>Indulgences: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riginally earned throug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riests of Medieval church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2" name="Picture 5" descr="http://www.norfolkchurches.co.uk/norwichstephen/images/dscf2569.jpg"/>
          <p:cNvPicPr/>
          <p:nvPr/>
        </p:nvPicPr>
        <p:blipFill>
          <a:blip r:embed="rId1"/>
          <a:srcRect l="28383" t="0" r="0" b="0"/>
          <a:stretch/>
        </p:blipFill>
        <p:spPr>
          <a:xfrm>
            <a:off x="4708440" y="2209680"/>
            <a:ext cx="4435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Martin Luth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91404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A German_______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Priest in Luther’s hometown rebuilds a church &amp; tells ppl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9720" indent="-30816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This causes Luther to protes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lvl="1" marL="665640" indent="-257040"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95 Theses are posted on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65640" indent="-257040"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nds copies all over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65640" indent="-257040">
              <a:spcBef>
                <a:spcPts val="79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Luther is labeled a_____ and: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5" name="Picture 5" descr="http://imspeakingtruth.files.wordpress.com/2008/07/martin-luther.jpg"/>
          <p:cNvPicPr/>
          <p:nvPr/>
        </p:nvPicPr>
        <p:blipFill>
          <a:blip r:embed="rId1"/>
          <a:stretch/>
        </p:blipFill>
        <p:spPr>
          <a:xfrm>
            <a:off x="5181480" y="1054080"/>
            <a:ext cx="396252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What did Luther say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Pope did not have a monopoly on ______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Indulgences have no basis: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hristians will get to Heaven based on ________ alone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plit w/ Catholic church to become: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8" name="Picture 5" descr="http://prayerfoundation.org/luther2.jpg"/>
          <p:cNvPicPr/>
          <p:nvPr/>
        </p:nvPicPr>
        <p:blipFill>
          <a:blip r:embed="rId1"/>
          <a:stretch/>
        </p:blipFill>
        <p:spPr>
          <a:xfrm>
            <a:off x="5181480" y="853920"/>
            <a:ext cx="350532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705960" y="1350720"/>
            <a:ext cx="7828200" cy="360180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Listen to the story. Who is this about? What was his real name? What did you find interesting?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705960" y="512280"/>
            <a:ext cx="81565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1eeff"/>
                </a:solidFill>
                <a:latin typeface="Consolas"/>
              </a:rPr>
              <a:t>Journal 10/30</a:t>
            </a:r>
            <a:endParaRPr b="0" lang="en-US" sz="3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On page 54…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Read about three other reformers; Zwingli, Calvin and Henry the VIII (the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Corbe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. You’ll read about him on 55-56). What’s each man known for (take a look at those hi-lighted words)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What’s the name of the church they created (skip this question for Zwingli)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Draw a picture about something interesting you read for each reformer.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3:24:22Z</dcterms:created>
  <dc:creator>Christine Sturges</dc:creator>
  <dc:description/>
  <dc:language>en-US</dc:language>
  <cp:lastModifiedBy>CHRISTINE STURGES</cp:lastModifiedBy>
  <dcterms:modified xsi:type="dcterms:W3CDTF">2014-09-09T20:10:49Z</dcterms:modified>
  <cp:revision>102</cp:revision>
  <dc:subject/>
  <dc:title>Reform in the Church</dc:title>
</cp:coreProperties>
</file>