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F56-8CD7-469C-B7BE-EFC1B873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1AD-7283-47C6-BAC1-376D36CA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871F-6EF0-4964-B27B-88A6171DF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1CD-9AC7-41CB-B228-71F45632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6E0AE-C52B-4585-9D9A-144DF643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020B8-1082-4737-8E8B-560BFD7C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C0EEFC-10CC-4059-BC05-7AAD85AD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7CA1-8163-44C6-8CDF-12B06F44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D040E-DDA7-49B8-88D4-8BA1718CE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AC51E-2749-43D9-9654-937FFCF8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3C848-24BB-48B1-B881-2FD284C9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022D-97C5-4F1D-A0E9-BEF51BBD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9BB589-5371-429E-A35E-B2D26393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7373F-B993-40EA-A6A1-AA1CFD4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983BF4-B501-4002-BDB8-19CC43CE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E83C2-F3D1-4671-8F12-6FC4120E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D7EB-6E73-450F-A9F8-ED927BC2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1A4A1-630F-4AF7-B12A-E3208B87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4592-A1ED-457D-95BC-E8F75D2F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3D88-BE7E-4D37-909D-C9DA73CB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F733-B1A2-41A0-8015-9653930D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9320-6D18-43C3-AD6B-27F4A6CD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2E0-BE7C-41C9-ABFE-A309848B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0A56-7C9A-4086-A5C5-0EF85B21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651D1-4A7A-4678-8104-C1953127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2B687-C270-4505-8418-67A5C7D2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8ACE-9F8A-48D4-9209-6EDF0F09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CA093-961A-4CAC-87CC-8D7527DB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59932-2DDB-401B-A69E-130DAC9D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95B76-E406-4A92-82AC-28494CCA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6BF9B6-1812-44DD-B022-823590E26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DC0E70-7F82-4A33-AB64-85EAC3B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C830D0-C0F6-407F-B922-5271B217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DD22-03DA-4849-9F83-6AB239F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DF566A-62F8-4A77-A20D-4A1D7D1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C66EBF-0D81-4AEF-8AF3-98C6935E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3DA2F-14C2-49EC-86D3-DDBEA029E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C576B7-3ED9-4272-92B7-8D8C0C2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FD727-0782-4B9F-8785-D3130BD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658CBA-976D-41CF-9A76-3D4A858C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22E534-D0C5-4018-9711-7B4C1977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AFD52-3B58-44DB-BDE0-A3DD753E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5EE284-CD2E-47E9-9D06-625FC9E46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E86A5-E45F-45A2-8AA4-253301C1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EE5-E4E8-4099-A08F-B8CF3273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92329-A52E-4130-9E6C-BF17546F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67753B-A000-4D17-BC6D-0F579575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F9F39-8C63-478C-871E-DF851A51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AAE0B7-D754-42E3-96D3-5EF0D026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B8C621-F6D8-4F02-8430-034B06E1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86195-FB8A-48A9-AA7B-83953CC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6903D-D41E-49A7-9B65-320FA924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9D36A-BCE9-4A12-A84E-9A849E6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54C84-A35C-4B49-8FA3-43882A77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D959E-4FBB-4F06-B79E-B29A76655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523-D89A-48BB-932F-5E48AFB6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EF18AF-092C-46AE-8D04-AE3DF9F6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5EA2D-9E25-4583-B480-8A182C1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81895C-AABC-42DA-9F13-F565BA2B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CA0D4-0AB7-489B-86B4-CC46BE20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7374B0-FB4B-406E-8BA3-5856D143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D9DA44-24DA-466B-A3D7-EB79B542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76886-E9EE-4D45-B773-0D21906E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C0C39-028B-4B7D-A0B2-480E030D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0D864F-BC67-4941-B92C-6DE35B8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72497-79AF-4AB1-B1ED-9F9E32DA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8AF-056D-40EB-B6B1-3F8BDE8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5F163-EFFC-4918-AF02-33386DCA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AA7F3-1DC0-4749-B725-28FE80097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E5EC75-B445-44EF-AC4E-6424A22C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9035-25BD-498F-AEBB-666EB767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137-DBA5-4F05-A48F-632CA935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2C22-69B0-4370-AB6B-0891FDF9098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40F3-099B-41C0-A313-30822B3537E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2E6-9957-442D-AA5D-CB15D2F0DE4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3600-B3A4-42CC-9A3F-9634E5693AC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D4AF-C6E8-4D00-ADD7-28A7DAD4F2D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28E-C67D-4514-A9CF-E47D0B0DEBB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s always spend this time studying; DON’T WASTE IT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"/>
          <p:cNvPicPr/>
          <p:nvPr/>
        </p:nvPicPr>
        <p:blipFill>
          <a:blip r:embed="rId1"/>
          <a:stretch/>
        </p:blipFill>
        <p:spPr>
          <a:xfrm>
            <a:off x="1974960" y="938160"/>
            <a:ext cx="8242200" cy="5224680"/>
          </a:xfrm>
          <a:prstGeom prst="rect">
            <a:avLst/>
          </a:prstGeom>
          <a:ln w="0">
            <a:noFill/>
          </a:ln>
        </p:spPr>
      </p:pic>
      <p:pic>
        <p:nvPicPr>
          <p:cNvPr id="255" name="Title 2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Straight Arrow Connector 5" descr=""/>
          <p:cNvPicPr/>
          <p:nvPr/>
        </p:nvPicPr>
        <p:blipFill>
          <a:blip r:embed="rId3"/>
          <a:stretch/>
        </p:blipFill>
        <p:spPr>
          <a:xfrm>
            <a:off x="2322360" y="2401920"/>
            <a:ext cx="3651480" cy="536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304920" y="21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6 Lived on a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Straight Arrow Connector 9" descr=""/>
          <p:cNvPicPr/>
          <p:nvPr/>
        </p:nvPicPr>
        <p:blipFill>
          <a:blip r:embed="rId4"/>
          <a:stretch/>
        </p:blipFill>
        <p:spPr>
          <a:xfrm>
            <a:off x="2475000" y="3541680"/>
            <a:ext cx="3651120" cy="536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2"/>
          <p:cNvSpPr/>
          <p:nvPr/>
        </p:nvSpPr>
        <p:spPr>
          <a:xfrm>
            <a:off x="30492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7 Lived on a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0" name="Left Brace 14"/>
          <p:cNvGrpSpPr/>
          <p:nvPr/>
        </p:nvGrpSpPr>
        <p:grpSpPr>
          <a:xfrm>
            <a:off x="2468520" y="4297320"/>
            <a:ext cx="3273480" cy="1158840"/>
            <a:chOff x="2468520" y="4297320"/>
            <a:chExt cx="3273480" cy="1158840"/>
          </a:xfrm>
        </p:grpSpPr>
        <p:pic>
          <p:nvPicPr>
            <p:cNvPr id="261" name="Left Brace 14" descr=""/>
            <p:cNvPicPr/>
            <p:nvPr/>
          </p:nvPicPr>
          <p:blipFill>
            <a:blip r:embed="rId5"/>
            <a:stretch/>
          </p:blipFill>
          <p:spPr>
            <a:xfrm>
              <a:off x="2468520" y="4297320"/>
              <a:ext cx="32734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60840" y="4441680"/>
              <a:ext cx="107784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63" name="TextBox 15"/>
          <p:cNvSpPr/>
          <p:nvPr/>
        </p:nvSpPr>
        <p:spPr>
          <a:xfrm>
            <a:off x="457200" y="4503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8 What’s the differenc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182520" y="189000"/>
            <a:ext cx="8491680" cy="3097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457200" y="281952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0. What does Renaissance mean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1. What 3 things lead to the churches lose of power? ________,________,________(+3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2.During medieval times the focus was on the ______life but the Ren. taught us that this ______ matter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Content Placeholder 3" descr=""/>
          <p:cNvPicPr/>
          <p:nvPr/>
        </p:nvPicPr>
        <p:blipFill>
          <a:blip r:embed="rId1"/>
          <a:stretch/>
        </p:blipFill>
        <p:spPr>
          <a:xfrm>
            <a:off x="365040" y="450720"/>
            <a:ext cx="83408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cience’ is the last stronghold of the ________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Believe the Earth: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Believe the sun: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Common sense for ______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New thinkers explore these accepted notions about the world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sciencebuddies.org/mentoring/overview_scientific_method2.gif"/>
          <p:cNvPicPr/>
          <p:nvPr/>
        </p:nvPicPr>
        <p:blipFill>
          <a:blip r:embed="rId2"/>
          <a:stretch/>
        </p:blipFill>
        <p:spPr>
          <a:xfrm>
            <a:off x="4638600" y="2362320"/>
            <a:ext cx="4162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Galileo is labeled a _________ meaning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HE says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The CHURCH says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reatened to death unless he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e does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upload.wikimedia.org/wikipedia/commons/b/b0/Galileo-sustermans.jpg"/>
          <p:cNvPicPr/>
          <p:nvPr/>
        </p:nvPicPr>
        <p:blipFill>
          <a:blip r:embed="rId2"/>
          <a:srcRect l="20067" t="2550" r="16458" b="13377"/>
          <a:stretch/>
        </p:blipFill>
        <p:spPr>
          <a:xfrm>
            <a:off x="6858000" y="7621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chrismadden.co.uk/moon/galileo.gif"/>
          <p:cNvPicPr/>
          <p:nvPr/>
        </p:nvPicPr>
        <p:blipFill>
          <a:blip r:embed="rId3"/>
          <a:stretch/>
        </p:blipFill>
        <p:spPr>
          <a:xfrm>
            <a:off x="4602240" y="3352680"/>
            <a:ext cx="4348080" cy="310536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ular Callout 5"/>
          <p:cNvSpPr/>
          <p:nvPr/>
        </p:nvSpPr>
        <p:spPr>
          <a:xfrm>
            <a:off x="4952880" y="304920"/>
            <a:ext cx="2286000" cy="1600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d yet it moves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Bacon and Descart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Would not make ________fit into ________ teachings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Both argue truth is discovered through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e Scientific Metho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images.contentreserve.com/ImageType-100/0887-1/%7B30BF4F03-15EC-4913-BF18-0C4CF696137A%7DImg100.jpg"/>
          <p:cNvPicPr/>
          <p:nvPr/>
        </p:nvPicPr>
        <p:blipFill>
          <a:blip r:embed="rId2"/>
          <a:srcRect l="0" t="28934" r="0" b="18275"/>
          <a:stretch/>
        </p:blipFill>
        <p:spPr>
          <a:xfrm>
            <a:off x="4780080" y="3657600"/>
            <a:ext cx="41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4:25:11Z</dcterms:created>
  <dc:creator>TPS</dc:creator>
  <dc:description/>
  <dc:language>en-US</dc:language>
  <cp:lastModifiedBy>TPS</cp:lastModifiedBy>
  <dcterms:modified xsi:type="dcterms:W3CDTF">2008-12-05T21:06:56Z</dcterms:modified>
  <cp:revision>18</cp:revision>
  <dc:subject/>
  <dc:title>Scientific Revolution</dc:title>
</cp:coreProperties>
</file>