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851-167A-4754-8595-2BC3725A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DF4-DEC2-4890-841C-C9A12E55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57D-87C2-45AB-9AA6-394D7E75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B5AF-2361-4862-BC59-C9D4EF73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9042-31F7-436B-9361-3653E202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94967-4FA8-4997-AFAD-99B914BD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40D93-022A-401B-8FFE-9C1C6F09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1B92C-7163-41AF-AAA8-D7BA0A93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75FF7-1DBA-41B9-A3B7-3E813746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F2D146-EB35-42C9-86D2-393CC9C3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D1594-1945-422B-8F3F-4178354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F19-41AF-4F35-BCED-97568D6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B0C8B-A790-47E8-88F5-A60A9BF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4F550-C398-4702-8228-78EBB0AD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4BF0B-1608-4BAE-9467-94F67487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F7EC6-104F-4FF4-A561-D40AB004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D1D71-0399-49E3-91EA-E860E5BD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8100A-EFBB-4B45-97B5-05C85BC0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D91B1-0FC5-4FA6-A8C8-0D93AE2C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35848-1B31-4763-977D-DF194E354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1E5A-14C0-4A6D-AE16-97372255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DEDA0-F8F0-4DBE-AEBF-BC8C7D2D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ACD8-C749-4ED2-BFA7-2D480A2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50F9-E77E-4FAB-84EE-40F22B09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C8428-4A7A-4FAF-B6A8-DD16A9C4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9BBF3-1033-4822-A10F-25758C0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B0E9-E27B-493A-B2E6-A32E420E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D5AC4-AEB3-46FC-BA72-DF54E667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F4A3B-997A-4669-9AD9-ACEA5E3B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7C029-4E8F-4A86-95FA-F7C509A85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DBE635-1897-49A5-804B-BB85EAE1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D8388-F05A-4CDE-83BA-6280A84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515CEF-F40C-400B-8E75-9EA61ADA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662-8B82-46C0-8602-FCCB35FD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F40F17-5E99-4F93-9B76-C7D8E284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E17772-4E46-48C9-9A84-C09E69033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B6B3D-5C0F-4C1C-A7F1-93383502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C298A-DAA4-40EB-99FA-6D7F922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CC90C-2493-4B5B-8607-AA3FBA1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C2DF46-9E02-4527-B858-FD77A6BC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3C272-F0CC-4CD9-9BB7-6476EC7B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2DF892-0481-4D45-BB36-B84B2192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4D8714-316C-42F4-AF65-1EF810DC2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9A15D-7EAE-4607-BB75-370F0915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9645-81AD-4730-AB66-19B1F19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23E8AF-4E5B-4624-8FA8-AA819625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1E629-A8DD-4625-A784-9E2FA777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6BDC4A-C3C6-4772-B3C1-11F15666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04F6A-40B2-4276-B8EA-01429DD8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1B0E32-30C5-494C-B23A-5B82097A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07663B-4DFD-4AB8-928F-3665CE9A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DA2278-0958-4BFE-8EA3-96972FA6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EC25A-32C9-40B6-ACD0-C20A0B7D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5795D-A50E-48C6-A2FF-1C4E856A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5F907-30F8-459F-B206-9D89E6FE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05B-BF3A-4272-BC96-6A2C2FDA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C50D5-FD03-4AB2-84FC-04805D5F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416D6-144C-47D3-9F0A-B8E87B23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F25E61-E7BF-4B07-80CB-C449735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FDD83-213E-46B7-8279-C3CEC032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4AA3C7-905D-484B-81C9-F3A520DF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9B061F-087F-43F0-BBCF-34F7BA56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D6F69-24BD-4C2B-BB39-CC40A9B8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38B99-83F0-477A-9AB2-B3A3D044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F3279B-4FAC-4313-AD49-D0EE475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E80F49-6348-4479-94FE-79EB4683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020-8C21-4C8D-B253-8BA02982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8E7EC-A4EE-4427-A993-C0B4AA93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9169A-2D9A-42C8-BADD-724DFAD3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96EBD5-4464-4E1C-8834-E000B306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AED-E10D-4B6D-85A9-7AB4B30C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D44-6AD1-4D09-B40A-4BBFA7F9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A3BB-E2B3-423F-BC27-AB4FA4ADE44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CB38-1AF0-4EEC-A929-83752B33B7FB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6BC-B78C-439B-BDF9-A1FA18814A3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7252-3670-4AFB-83D5-37E14FE13681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27C1-B953-400E-967E-3CCD9943188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8BF2-D89C-418A-808E-F6F2F4649CC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s always spend this time studying; DON’T WASTE IT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Title 3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ontent Placeholder 3" descr=""/>
          <p:cNvPicPr/>
          <p:nvPr/>
        </p:nvPicPr>
        <p:blipFill>
          <a:blip r:embed="rId1"/>
          <a:stretch/>
        </p:blipFill>
        <p:spPr>
          <a:xfrm>
            <a:off x="1974960" y="938160"/>
            <a:ext cx="8242200" cy="5224680"/>
          </a:xfrm>
          <a:prstGeom prst="rect">
            <a:avLst/>
          </a:prstGeom>
          <a:ln w="0">
            <a:noFill/>
          </a:ln>
        </p:spPr>
      </p:pic>
      <p:pic>
        <p:nvPicPr>
          <p:cNvPr id="255" name="Title 2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6" name="Straight Arrow Connector 5" descr=""/>
          <p:cNvPicPr/>
          <p:nvPr/>
        </p:nvPicPr>
        <p:blipFill>
          <a:blip r:embed="rId3"/>
          <a:stretch/>
        </p:blipFill>
        <p:spPr>
          <a:xfrm>
            <a:off x="2322360" y="2401920"/>
            <a:ext cx="3651480" cy="536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7"/>
          <p:cNvSpPr/>
          <p:nvPr/>
        </p:nvSpPr>
        <p:spPr>
          <a:xfrm>
            <a:off x="304920" y="21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6 Lived on a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Straight Arrow Connector 9" descr=""/>
          <p:cNvPicPr/>
          <p:nvPr/>
        </p:nvPicPr>
        <p:blipFill>
          <a:blip r:embed="rId4"/>
          <a:stretch/>
        </p:blipFill>
        <p:spPr>
          <a:xfrm>
            <a:off x="2475000" y="3541680"/>
            <a:ext cx="3651120" cy="536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2"/>
          <p:cNvSpPr/>
          <p:nvPr/>
        </p:nvSpPr>
        <p:spPr>
          <a:xfrm>
            <a:off x="30492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7 Lived on a ______________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60" name="Left Brace 14"/>
          <p:cNvGrpSpPr/>
          <p:nvPr/>
        </p:nvGrpSpPr>
        <p:grpSpPr>
          <a:xfrm>
            <a:off x="2468520" y="4297320"/>
            <a:ext cx="3273480" cy="1158840"/>
            <a:chOff x="2468520" y="4297320"/>
            <a:chExt cx="3273480" cy="1158840"/>
          </a:xfrm>
        </p:grpSpPr>
        <p:pic>
          <p:nvPicPr>
            <p:cNvPr id="261" name="Left Brace 14" descr=""/>
            <p:cNvPicPr/>
            <p:nvPr/>
          </p:nvPicPr>
          <p:blipFill>
            <a:blip r:embed="rId5"/>
            <a:stretch/>
          </p:blipFill>
          <p:spPr>
            <a:xfrm>
              <a:off x="2468520" y="4297320"/>
              <a:ext cx="32734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60840" y="4441680"/>
              <a:ext cx="107784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63" name="TextBox 15"/>
          <p:cNvSpPr/>
          <p:nvPr/>
        </p:nvSpPr>
        <p:spPr>
          <a:xfrm>
            <a:off x="457200" y="45036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8 What’s the difference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Title 2" descr=""/>
          <p:cNvPicPr/>
          <p:nvPr/>
        </p:nvPicPr>
        <p:blipFill>
          <a:blip r:embed="rId1"/>
          <a:stretch/>
        </p:blipFill>
        <p:spPr>
          <a:xfrm>
            <a:off x="182520" y="189000"/>
            <a:ext cx="8491680" cy="3097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457200" y="281952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10. What does Renaissance mean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11. What 3 things lead to the churches lose of power? ________,________,________(+3)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12.During medieval times the focus was on the ______life but the Ren. taught us that this ______ matters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Content Placeholder 3" descr=""/>
          <p:cNvPicPr/>
          <p:nvPr/>
        </p:nvPicPr>
        <p:blipFill>
          <a:blip r:embed="rId1"/>
          <a:stretch/>
        </p:blipFill>
        <p:spPr>
          <a:xfrm>
            <a:off x="365040" y="450720"/>
            <a:ext cx="834084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‘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Science’ is the last stronghold of the ________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Believe the Earth: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Believe the sun: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efac9"/>
                </a:solidFill>
                <a:latin typeface="Constantia"/>
              </a:rPr>
              <a:t>Common sense for ______</a:t>
            </a:r>
            <a:endParaRPr b="0" lang="en-US" sz="26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New thinkers explore these accepted notions about the world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http://www.sciencebuddies.org/mentoring/overview_scientific_method2.gif"/>
          <p:cNvPicPr/>
          <p:nvPr/>
        </p:nvPicPr>
        <p:blipFill>
          <a:blip r:embed="rId2"/>
          <a:stretch/>
        </p:blipFill>
        <p:spPr>
          <a:xfrm>
            <a:off x="4638600" y="2362320"/>
            <a:ext cx="4162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15238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Galileo is labeled a _________ meaning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HE says: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The CHURCH says: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reatened to death unless he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he does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http://upload.wikimedia.org/wikipedia/commons/b/b0/Galileo-sustermans.jpg"/>
          <p:cNvPicPr/>
          <p:nvPr/>
        </p:nvPicPr>
        <p:blipFill>
          <a:blip r:embed="rId2"/>
          <a:srcRect l="20067" t="2550" r="16458" b="13377"/>
          <a:stretch/>
        </p:blipFill>
        <p:spPr>
          <a:xfrm>
            <a:off x="6858000" y="762120"/>
            <a:ext cx="2057400" cy="2514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http://www.chrismadden.co.uk/moon/galileo.gif"/>
          <p:cNvPicPr/>
          <p:nvPr/>
        </p:nvPicPr>
        <p:blipFill>
          <a:blip r:embed="rId3"/>
          <a:stretch/>
        </p:blipFill>
        <p:spPr>
          <a:xfrm>
            <a:off x="4602240" y="3352680"/>
            <a:ext cx="4348080" cy="310536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ular Callout 5"/>
          <p:cNvSpPr/>
          <p:nvPr/>
        </p:nvSpPr>
        <p:spPr>
          <a:xfrm>
            <a:off x="4952880" y="304920"/>
            <a:ext cx="2286000" cy="16002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And yet it moves…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Bacon and Descartes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Would not make ________fit into ________ teachings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efac9"/>
                </a:solidFill>
                <a:latin typeface="Constantia"/>
              </a:rPr>
              <a:t>Both argue truth is discovered through:</a:t>
            </a:r>
            <a:endParaRPr b="0" lang="en-US" sz="30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The Scientific Method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http://images.contentreserve.com/ImageType-100/0887-1/%7B30BF4F03-15EC-4913-BF18-0C4CF696137A%7DImg100.jpg"/>
          <p:cNvPicPr/>
          <p:nvPr/>
        </p:nvPicPr>
        <p:blipFill>
          <a:blip r:embed="rId2"/>
          <a:srcRect l="0" t="28934" r="0" b="18275"/>
          <a:stretch/>
        </p:blipFill>
        <p:spPr>
          <a:xfrm>
            <a:off x="4780080" y="3657600"/>
            <a:ext cx="41209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14:25:11Z</dcterms:created>
  <dc:creator>TPS</dc:creator>
  <dc:description/>
  <dc:language>en-US</dc:language>
  <cp:lastModifiedBy>TPS</cp:lastModifiedBy>
  <dcterms:modified xsi:type="dcterms:W3CDTF">2008-12-05T21:06:56Z</dcterms:modified>
  <cp:revision>18</cp:revision>
  <dc:subject/>
  <dc:title>Scientific Revolution</dc:title>
</cp:coreProperties>
</file>