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png" ContentType="image/pn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B96-5591-4902-BA4F-CBB6285F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1A5-A56A-402A-9FBA-AC4FE373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A42-2E6A-4107-A789-F7CD5E76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0AA-C0A8-4DF5-91DE-AE000F27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93B7-5FE0-4C30-87CA-DC225162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DDB-A348-43D4-B7C1-AEC58898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593B-C082-40D0-B72E-B324EEEE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BA4-4DE0-49C3-B5EB-297C59F7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1427-53CA-4E52-8EEA-C4541D1E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E3B-9476-4618-AD06-BA69DA50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F2D-1E36-4D8C-A88E-31720421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808F-4B68-46D2-BC3F-71E4D35A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8DEC-1FDF-4340-B353-38ED61C1C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a/Joseph_McCarthy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e/e2/Murrow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3/3e/McCarthyandCohn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pen to page 827. Use this page and the next to fill in the chart I handed out to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w Concer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SR has the A 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49 US become aware that Russia detonat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informs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na falls to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War between Nationalists and 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o Zedong becomes the new__________l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http://19.media.tumblr.com/Ls2IfkYAbo396zp8SNTjNoF4o1_400.jpg"/>
          <p:cNvPicPr/>
          <p:nvPr/>
        </p:nvPicPr>
        <p:blipFill>
          <a:blip r:embed="rId1"/>
          <a:srcRect l="4472" t="7450" r="6144" b="6146"/>
          <a:stretch/>
        </p:blipFill>
        <p:spPr>
          <a:xfrm>
            <a:off x="5410080" y="1139760"/>
            <a:ext cx="373392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tched like a HU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nds for House Un-___________ Activities Committ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t to investig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late 40’s its focus became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llywood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AC investigates communism in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film makers w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2" descr="http://www.wtv-zone.com/lumina/pic/jhredchannels.jpg"/>
          <p:cNvPicPr/>
          <p:nvPr/>
        </p:nvPicPr>
        <p:blipFill>
          <a:blip r:embed="rId1"/>
          <a:stretch/>
        </p:blipFill>
        <p:spPr>
          <a:xfrm>
            <a:off x="5562720" y="1600200"/>
            <a:ext cx="3143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and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eed to appear tough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lled for investigations of all federal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mith and McCarren 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y c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famous is Rosenberg trial.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 citizens to b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nt schol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http://jeremayakovka.typepad.com/photos/uncategorized/2007/04/01/chambers_was_right_2.jpg"/>
          <p:cNvPicPr/>
          <p:nvPr/>
        </p:nvPicPr>
        <p:blipFill>
          <a:blip r:embed="rId1"/>
          <a:srcRect l="0" t="0" r="10004" b="0"/>
          <a:stretch/>
        </p:blipFill>
        <p:spPr>
          <a:xfrm>
            <a:off x="5165640" y="2057400"/>
            <a:ext cx="3978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cCarthy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5257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ator Joseph McCarthy claims he has evidenc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ins support of t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one who disagrees with him is labe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lse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cCarthyism is a term used to describ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http://cjr290.files.wordpress.com/2009/04/hblock10.jpg"/>
          <p:cNvPicPr/>
          <p:nvPr/>
        </p:nvPicPr>
        <p:blipFill>
          <a:blip r:embed="rId1"/>
          <a:srcRect l="0" t="0" r="0" b="22534"/>
          <a:stretch/>
        </p:blipFill>
        <p:spPr>
          <a:xfrm>
            <a:off x="4876920" y="1652760"/>
            <a:ext cx="426708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seph McCar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ator from Wisconsin 1947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imed Communists were among gov’t offic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manent Subcommittee on Investig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Image:Joseph McCart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2280" y="1981080"/>
            <a:ext cx="3441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dward R. Mu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attle of Brit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Person to Perso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See it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kes on McCa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7" descr="Image:Murrow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403360"/>
            <a:ext cx="38098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y Coh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yer in Rosenberg 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ef counsel of P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p and Go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th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ba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Image:McCarthyandCoh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25680"/>
            <a:ext cx="43434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771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 you believe Communism is a threat? Is suppressing its spread a noble cause? Is it one for which Americans should be fighting? Why/Why no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90720" y="15998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d of the year is just ‘round the corner! I want to know what your goals are for the rest of the year? What are your goals next year? What are your goals for after colle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**There are no motives here on my part… I simply want to know or more importantly I want YOU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ar in Ko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http://www.academic.marist.edu/nork/offflag.gif"/>
          <p:cNvPicPr/>
          <p:nvPr/>
        </p:nvPicPr>
        <p:blipFill>
          <a:blip r:embed="rId1"/>
          <a:srcRect l="6160" t="3639" r="1664" b="7242"/>
          <a:stretch/>
        </p:blipFill>
        <p:spPr>
          <a:xfrm>
            <a:off x="0" y="47160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Roots of the Cold Wa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2/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836. On your map color Soviet controlled Korea red and US controlled Korea blue. Make sure you include a key for yourself. Also, below the map, tell me how and why these two countries came to control parts of Ko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 Ko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________Korea befor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 Yalta Conference Korea is 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would control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would control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38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Parallel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quickly establish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 38th Parallel, Korea 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ossing the 38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Parall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; 1950. N. Korea inv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er of ___________ wants to un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no longer ha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. Korean capitol, Seou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ident Truman sends ______ to Korea and asks ___ ___ to do the s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" descr="http://upload.wikimedia.org/wikipedia/commons/5/57/Korean_War_HA-SN-98-0701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3592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war ends slow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er, 1951; Truman starts_____talks. Many things slow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pute over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soners of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ghting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52 negotiations take place in Panmunjom; _____________is elected president. He promised US he’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http://dsf.chesco.org/heroes/images/panmunjom_map.gif"/>
          <p:cNvPicPr/>
          <p:nvPr/>
        </p:nvPicPr>
        <p:blipFill>
          <a:blip r:embed="rId1"/>
          <a:srcRect l="30074" t="0" r="0" b="7284"/>
          <a:stretch/>
        </p:blipFill>
        <p:spPr>
          <a:xfrm>
            <a:off x="6019920" y="1328760"/>
            <a:ext cx="2481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ld War Contin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ke’s policy, relations with the Soviets and the Suez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isenhower’s Cold War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Skies” policy says _____&amp;_____ can learn more about the others 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IA is very_____during Ike’s administ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7" descr="http://c250.columbia.edu/images/c250_celebrates/remarkable_columbians/240x240_eisenhower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lles’ Poli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41907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hn Dulles was Ike’s _____of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kmanship:going to the ____ of ____ w/o actually going to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___________: Using whatever means possible to control the Sovi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8"/>
          <p:cNvSpPr/>
          <p:nvPr/>
        </p:nvSpPr>
        <p:spPr>
          <a:xfrm>
            <a:off x="2778120" y="1292400"/>
            <a:ext cx="358920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http://www.havelshouseofhistory.com/Dulles%20Photo0001.jpg"/>
          <p:cNvPicPr/>
          <p:nvPr/>
        </p:nvPicPr>
        <p:blipFill>
          <a:blip r:embed="rId1"/>
          <a:stretch/>
        </p:blipFill>
        <p:spPr>
          <a:xfrm>
            <a:off x="5005440" y="1981080"/>
            <a:ext cx="3095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nges in the Soviet Un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 is replaced by Khrushche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saw Pact is the Eastern European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 in Poland and Hung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http://countrystudies.us/russia/Khrushchev.jpg"/>
          <p:cNvPicPr/>
          <p:nvPr/>
        </p:nvPicPr>
        <p:blipFill>
          <a:blip r:embed="rId1"/>
          <a:stretch/>
        </p:blipFill>
        <p:spPr>
          <a:xfrm>
            <a:off x="5133960" y="1981080"/>
            <a:ext cx="2838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ffering Relations btw. US &amp; Sovi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&amp;____meet in Geneva, Switzerland in ’55 for a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hrushchev rejects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ends _____ _____ out any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ncis Gary Powers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1" descr="http://www.check-six.com/images/PowersU2/powers-helo.jpg"/>
          <p:cNvPicPr/>
          <p:nvPr/>
        </p:nvPicPr>
        <p:blipFill>
          <a:blip r:embed="rId1"/>
          <a:stretch/>
        </p:blipFill>
        <p:spPr>
          <a:xfrm>
            <a:off x="5051520" y="1981080"/>
            <a:ext cx="300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see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30481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withdra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6019920" y="68580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ypt takes contro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25146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86400" y="15238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0199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rael attacks Egy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/c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467480" y="2362320"/>
            <a:ext cx="0" cy="5331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304812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s ally w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H="1">
            <a:off x="54097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0" y="2666880"/>
            <a:ext cx="274320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 tells Israel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H="1">
            <a:off x="259056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523880" y="4495680"/>
            <a:ext cx="289584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8"/>
          <p:cNvSpPr/>
          <p:nvPr/>
        </p:nvSpPr>
        <p:spPr>
          <a:xfrm flipV="1">
            <a:off x="4419720" y="4419360"/>
            <a:ext cx="2361960" cy="68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19"/>
          <p:cNvSpPr txBox="1"/>
          <p:nvPr/>
        </p:nvSpPr>
        <p:spPr>
          <a:xfrm>
            <a:off x="1523880" y="5486400"/>
            <a:ext cx="6172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Eisenhower Doctr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4419720" y="51055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Iron Curtai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952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believed Germany’s attack prov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nted to build a ‘______ _____’ of friendly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d whatever means necessary to install Communism and ens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gged 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aw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rison 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9" descr="http://backspace.com/notes/images/ironcurtain.png"/>
          <p:cNvPicPr/>
          <p:nvPr/>
        </p:nvPicPr>
        <p:blipFill>
          <a:blip r:embed="rId2"/>
          <a:stretch/>
        </p:blipFill>
        <p:spPr>
          <a:xfrm>
            <a:off x="4929120" y="1981080"/>
            <a:ext cx="3246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uez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http://newsimg.bbc.co.uk/media/images/41913000/gif/_41913674_strategic_import_map416.gif"/>
          <p:cNvPicPr/>
          <p:nvPr/>
        </p:nvPicPr>
        <p:blipFill>
          <a:blip r:embed="rId1"/>
          <a:srcRect l="8313" t="23211" r="5142" b="0"/>
          <a:stretch/>
        </p:blipFill>
        <p:spPr>
          <a:xfrm>
            <a:off x="2971800" y="1828800"/>
            <a:ext cx="6172200" cy="4200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ttp://www.mrdowling.com/images/607suezcanal.jpg"/>
          <p:cNvPicPr/>
          <p:nvPr/>
        </p:nvPicPr>
        <p:blipFill>
          <a:blip r:embed="rId2"/>
          <a:stretch/>
        </p:blipFill>
        <p:spPr>
          <a:xfrm>
            <a:off x="38160" y="1143000"/>
            <a:ext cx="2857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man &amp; Contai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6483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uses Churchill’s speech to convi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this as an excuse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and G. Bri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favors Contai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ck Soviet advanc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always me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uman Doctrin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8" descr="http://www.geocities.com/athens/forum/2496/future/kennan/mkennan.jpg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4070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4648320" y="53341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rge Kennan; US diplomat to the Soviet Union and creator of the policy of Contain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http://www.academic.marist.edu/nork/offflag.gif"/>
          <p:cNvPicPr/>
          <p:nvPr/>
        </p:nvPicPr>
        <p:blipFill>
          <a:blip r:embed="rId1"/>
          <a:srcRect l="6219" t="4587" r="1468" b="6509"/>
          <a:stretch/>
        </p:blipFill>
        <p:spPr>
          <a:xfrm>
            <a:off x="609480" y="860400"/>
            <a:ext cx="7239240" cy="4397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for Europe to re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3 years $13 billion given to 17 different countrie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refuses 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http://plasma.nationalgeographic.com/pearlharbor/ngbeyond/images/people_short.jpg"/>
          <p:cNvPicPr/>
          <p:nvPr/>
        </p:nvPicPr>
        <p:blipFill>
          <a:blip r:embed="rId2"/>
          <a:stretch/>
        </p:blipFill>
        <p:spPr>
          <a:xfrm>
            <a:off x="4879800" y="1981080"/>
            <a:ext cx="3345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r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ty is in ___zone of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vided into 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block___into West Berlin becau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lin Airli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viets finally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ttp://www.berlin-brigade.de/aut-hist/4sector.jpg"/>
          <p:cNvPicPr/>
          <p:nvPr/>
        </p:nvPicPr>
        <p:blipFill>
          <a:blip r:embed="rId2"/>
          <a:stretch/>
        </p:blipFill>
        <p:spPr>
          <a:xfrm>
            <a:off x="4114800" y="1855800"/>
            <a:ext cx="457200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://www.academic.marist.edu/nork/offflag.gif"/>
          <p:cNvPicPr/>
          <p:nvPr/>
        </p:nvPicPr>
        <p:blipFill>
          <a:blip r:embed="rId1"/>
          <a:srcRect l="6219" t="4587" r="496" b="4039"/>
          <a:stretch/>
        </p:blipFill>
        <p:spPr>
          <a:xfrm>
            <a:off x="609480" y="860400"/>
            <a:ext cx="7315200" cy="4519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A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nd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/Denmark/Iceland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/Norway/Portug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8" descr="http://eldib.files.wordpress.com/2007/10/800px-flag_of_nato_svg.png?w=412&amp;h=26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2/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n to page 832. What are the Smith and McCarran Acts? Do you believe these laws are constitutional, (in other words are they fair)? Why/why no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econd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Red S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Problems, New Enemies, New Programs and McCarthy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8:59:19Z</dcterms:created>
  <dc:creator>TPS</dc:creator>
  <dc:description/>
  <dc:language>en-US</dc:language>
  <cp:lastModifiedBy>IT Clone User</cp:lastModifiedBy>
  <dcterms:modified xsi:type="dcterms:W3CDTF">2010-02-18T12:27:13Z</dcterms:modified>
  <cp:revision>337</cp:revision>
  <dc:subject/>
  <dc:title>Roots of the Cold War</dc:title>
</cp:coreProperties>
</file>