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png" ContentType="image/pn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83D8-E7ED-428C-B206-22FB5E4FC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47E8-5FAF-4D16-8F33-2050A1C7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667B-A58E-4003-9DAD-364FDD30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017F-F666-47DB-A90F-947384E94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37B7-4F59-476C-94B0-B6F0A88E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2365-39F1-47D0-B977-2B471453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CA89-0495-4262-AD49-19F2C21B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D65E-AFD7-4321-A42B-C46E1009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D51C-5E5E-4BD4-A963-BCC82941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FB33-8287-47D9-B7DC-2B26CFA4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A447-51CD-4F70-8408-060EF140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2E1D-D7CA-435B-BFBE-016A436C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DD15-DA6F-45F9-9A4C-F5400364C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a/Joseph_McCarthy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e/e2/Murrow1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3/3e/McCarthyandCohn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ournal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pen to page 827. Use this page and the next to fill in the chart I handed out to yo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w Conc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5257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SR has the A 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49 US become aware that Russia detona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uman informs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ina falls to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_War between Nationalists and 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o Zedong becomes the new__________lea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http://19.media.tumblr.com/Ls2IfkYAbo396zp8SNTjNoF4o1_400.jpg"/>
          <p:cNvPicPr/>
          <p:nvPr/>
        </p:nvPicPr>
        <p:blipFill>
          <a:blip r:embed="rId1"/>
          <a:srcRect l="4472" t="7450" r="6144" b="6146"/>
          <a:stretch/>
        </p:blipFill>
        <p:spPr>
          <a:xfrm>
            <a:off x="5410080" y="1139760"/>
            <a:ext cx="373392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tched like a HU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5257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nds for House Un-___________ Activities Committ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nt to investig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late 40’s its focus became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llywood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UAC investigates communism in 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film makers w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" descr="http://www.wtv-zone.com/lumina/pic/jhredchannels.jpg"/>
          <p:cNvPicPr/>
          <p:nvPr/>
        </p:nvPicPr>
        <p:blipFill>
          <a:blip r:embed="rId1"/>
          <a:stretch/>
        </p:blipFill>
        <p:spPr>
          <a:xfrm>
            <a:off x="5562720" y="1600200"/>
            <a:ext cx="3143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uman and Commu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5257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ed to appear tough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lled for investigations of all federal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mith and McCarren 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y c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famous is Rosenberg trial.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 citizens to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ent schola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" descr="http://jeremayakovka.typepad.com/photos/uncategorized/2007/04/01/chambers_was_right_2.jpg"/>
          <p:cNvPicPr/>
          <p:nvPr/>
        </p:nvPicPr>
        <p:blipFill>
          <a:blip r:embed="rId1"/>
          <a:srcRect l="0" t="0" r="10004" b="0"/>
          <a:stretch/>
        </p:blipFill>
        <p:spPr>
          <a:xfrm>
            <a:off x="5165640" y="2057400"/>
            <a:ext cx="3978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cCarthy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5257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nator Joseph McCarthy claims he has evidenc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ins support of th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s 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one who disagrees with him is label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lse 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cCarthyism is a term used to describ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http://cjr290.files.wordpress.com/2009/04/hblock10.jpg"/>
          <p:cNvPicPr/>
          <p:nvPr/>
        </p:nvPicPr>
        <p:blipFill>
          <a:blip r:embed="rId1"/>
          <a:srcRect l="0" t="0" r="0" b="22534"/>
          <a:stretch/>
        </p:blipFill>
        <p:spPr>
          <a:xfrm>
            <a:off x="4876920" y="1652760"/>
            <a:ext cx="426708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oseph McCart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4190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ator from Wisconsin 1947-5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imed Communists were among gov’t offic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manent Subcommittee on Investig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7" descr="Image:Joseph McCarth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32280" y="1981080"/>
            <a:ext cx="3441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dward R. Murr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Battle of Brit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Person to Perso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See it 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akes on McCa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7" descr="Image:Murrow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2403360"/>
            <a:ext cx="380988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oy Coh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wyer in Rosenberg t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ef counsel of P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ump and Got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th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bar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7" descr="Image:McCarthyandCoh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25680"/>
            <a:ext cx="434340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Journal 2/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2133720"/>
            <a:ext cx="64771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o you believe Communism is a threat? Is suppressing its spread a noble cause? Is it one for which Americans should be fighting? Why/Why not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Journal 2/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90720" y="1599840"/>
            <a:ext cx="7238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d of the year is just ‘round the corner! I want to know what your goals are for the rest of the year? What are your goals next year? What are your goals for after colleg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**There are no motives here on my part… I simply want to know or more importantly I want YOU to k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ar in Ko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http://www.academic.marist.edu/nork/offflag.gif"/>
          <p:cNvPicPr/>
          <p:nvPr/>
        </p:nvPicPr>
        <p:blipFill>
          <a:blip r:embed="rId1"/>
          <a:srcRect l="6160" t="3639" r="1664" b="7242"/>
          <a:stretch/>
        </p:blipFill>
        <p:spPr>
          <a:xfrm>
            <a:off x="0" y="471600"/>
            <a:ext cx="9144000" cy="55767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Roots of the Cold W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Journal 2/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rn to page 836. On your map color Soviet controlled Korea red and US controlled Korea blue. Make sure you include a key for yourself. Also, below the map, tell me how and why these two countries came to control parts of Ko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3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arallel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wo Ko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956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pan________Korea before WW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Yalta Conference Korea is 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 would control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viets would control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38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arallel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. Korea quickly establish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6" descr=" 38th Parallel, Korea 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ossing the 38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Parall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956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er; 1950. N. Korea inva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er of ___________ wants to un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 no longer h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. Korean capitol, Seou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ident Truman sends ______ to Korea and asks ___ ___ to do the s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" descr="http://upload.wikimedia.org/wikipedia/commons/5/57/Korean_War_HA-SN-98-07010.jpg"/>
          <p:cNvPicPr/>
          <p:nvPr/>
        </p:nvPicPr>
        <p:blipFill>
          <a:blip r:embed="rId1"/>
          <a:stretch/>
        </p:blipFill>
        <p:spPr>
          <a:xfrm>
            <a:off x="4572000" y="2209680"/>
            <a:ext cx="43592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war ends slow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956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er, 1951; Truman starts_____talks. Many things slow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pute over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soners of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ghting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52 negotiations take place in Panmunjom; _____________is elected president. He promised US he’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http://dsf.chesco.org/heroes/images/panmunjom_map.gif"/>
          <p:cNvPicPr/>
          <p:nvPr/>
        </p:nvPicPr>
        <p:blipFill>
          <a:blip r:embed="rId1"/>
          <a:srcRect l="30074" t="0" r="0" b="7284"/>
          <a:stretch/>
        </p:blipFill>
        <p:spPr>
          <a:xfrm>
            <a:off x="6019920" y="1328760"/>
            <a:ext cx="24811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ld War Contin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ke’s policy, relations with the Soviets and the Suez Cr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isenhower’s Cold War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i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 Skies” policy says _____&amp;_____ can learn more about the others 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A is very_____during Ike’s administ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7" descr="http://c250.columbia.edu/images/c250_celebrates/remarkable_columbians/240x240_eisenhower.jpg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ulles’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609480"/>
            <a:ext cx="41907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hn Dulles was Ike’s _____of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inkmanship:going to the ____ of ____ w/o actually going to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)___________: Using whatever means possible to control the Sovie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2778120" y="1292400"/>
            <a:ext cx="3589200" cy="42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2778120" y="1292400"/>
            <a:ext cx="3589200" cy="42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http://www.havelshouseofhistory.com/Dulles%20Photo0001.jpg"/>
          <p:cNvPicPr/>
          <p:nvPr/>
        </p:nvPicPr>
        <p:blipFill>
          <a:blip r:embed="rId1"/>
          <a:stretch/>
        </p:blipFill>
        <p:spPr>
          <a:xfrm>
            <a:off x="5005440" y="1981080"/>
            <a:ext cx="3095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nges in the Soviet U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95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_ is replaced by Khrushche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rsaw Pact is the Eastern European 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 in Poland and Hung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http://countrystudies.us/russia/Khrushchev.jpg"/>
          <p:cNvPicPr/>
          <p:nvPr/>
        </p:nvPicPr>
        <p:blipFill>
          <a:blip r:embed="rId1"/>
          <a:stretch/>
        </p:blipFill>
        <p:spPr>
          <a:xfrm>
            <a:off x="5133960" y="1981080"/>
            <a:ext cx="2838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ffering Relations btw. US &amp; Sovi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&amp;____meet in Geneva, Switzerland in ’55 for a sum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hrushchev rejects 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 sends _____ _____ out any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ncis Gary Powers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1" descr="http://www.check-six.com/images/PowersU2/powers-helo.jpg"/>
          <p:cNvPicPr/>
          <p:nvPr/>
        </p:nvPicPr>
        <p:blipFill>
          <a:blip r:embed="rId1"/>
          <a:stretch/>
        </p:blipFill>
        <p:spPr>
          <a:xfrm>
            <a:off x="5051520" y="1981080"/>
            <a:ext cx="3003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uez Cr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685800"/>
            <a:ext cx="274320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ypt s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3048120" y="685800"/>
            <a:ext cx="274320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 withdraw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6019920" y="685800"/>
            <a:ext cx="274320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ypt takes contro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2514600" y="152388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5486400" y="152388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6019920" y="2666880"/>
            <a:ext cx="274320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rael attacks Egy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/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7467480" y="236232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3048120" y="2666880"/>
            <a:ext cx="274320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viets ally w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3"/>
          <p:cNvSpPr/>
          <p:nvPr/>
        </p:nvSpPr>
        <p:spPr>
          <a:xfrm flipH="1">
            <a:off x="5409720" y="3809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0" y="2666880"/>
            <a:ext cx="274320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 tells Israel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5"/>
          <p:cNvSpPr/>
          <p:nvPr/>
        </p:nvSpPr>
        <p:spPr>
          <a:xfrm flipH="1">
            <a:off x="2590560" y="3809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1523880" y="4495680"/>
            <a:ext cx="289584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8"/>
          <p:cNvSpPr/>
          <p:nvPr/>
        </p:nvSpPr>
        <p:spPr>
          <a:xfrm flipV="1">
            <a:off x="4419720" y="4419360"/>
            <a:ext cx="236196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WordArt 19"/>
          <p:cNvSpPr txBox="1"/>
          <p:nvPr/>
        </p:nvSpPr>
        <p:spPr>
          <a:xfrm>
            <a:off x="1523880" y="5486400"/>
            <a:ext cx="6172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Eisenhower Doctri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39" name="Line 20"/>
          <p:cNvSpPr/>
          <p:nvPr/>
        </p:nvSpPr>
        <p:spPr>
          <a:xfrm>
            <a:off x="4419720" y="51055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http://www.academic.marist.edu/nork/offflag.gif"/>
          <p:cNvPicPr/>
          <p:nvPr/>
        </p:nvPicPr>
        <p:blipFill>
          <a:blip r:embed="rId1"/>
          <a:srcRect l="6219" t="4587" r="1468" b="6509"/>
          <a:stretch/>
        </p:blipFill>
        <p:spPr>
          <a:xfrm>
            <a:off x="609480" y="860400"/>
            <a:ext cx="7239240" cy="4397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Iron Curtai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952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lin believed Germany’s attack prov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nted to build a ‘______ _____’ of friendly count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lin used whatever means necessary to install Communism and ens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gged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law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ison 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http://backspace.com/notes/images/ironcurtain.png"/>
          <p:cNvPicPr/>
          <p:nvPr/>
        </p:nvPicPr>
        <p:blipFill>
          <a:blip r:embed="rId2"/>
          <a:stretch/>
        </p:blipFill>
        <p:spPr>
          <a:xfrm>
            <a:off x="4929120" y="1981080"/>
            <a:ext cx="3246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uez Ca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http://newsimg.bbc.co.uk/media/images/41913000/gif/_41913674_strategic_import_map416.gif"/>
          <p:cNvPicPr/>
          <p:nvPr/>
        </p:nvPicPr>
        <p:blipFill>
          <a:blip r:embed="rId1"/>
          <a:srcRect l="8313" t="23211" r="5142" b="0"/>
          <a:stretch/>
        </p:blipFill>
        <p:spPr>
          <a:xfrm>
            <a:off x="2971800" y="1828800"/>
            <a:ext cx="6172200" cy="4200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http://www.mrdowling.com/images/607suezcanal.jpg"/>
          <p:cNvPicPr/>
          <p:nvPr/>
        </p:nvPicPr>
        <p:blipFill>
          <a:blip r:embed="rId2"/>
          <a:stretch/>
        </p:blipFill>
        <p:spPr>
          <a:xfrm>
            <a:off x="38160" y="1143000"/>
            <a:ext cx="2857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http://www.academic.marist.edu/nork/offflag.gif"/>
          <p:cNvPicPr/>
          <p:nvPr/>
        </p:nvPicPr>
        <p:blipFill>
          <a:blip r:embed="rId1"/>
          <a:srcRect l="6219" t="4587" r="1468" b="6509"/>
          <a:stretch/>
        </p:blipFill>
        <p:spPr>
          <a:xfrm>
            <a:off x="609480" y="860400"/>
            <a:ext cx="7239240" cy="4397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uman &amp; Contai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6483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lin uses Churchill’s speech to convi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s this as an excus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 and G. Brita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uman favors Contai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ock Soviet advance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always me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uman Doctrin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8" descr="http://www.geocities.com/athens/forum/2496/future/kennan/mkennan.jpg"/>
          <p:cNvPicPr/>
          <p:nvPr/>
        </p:nvPicPr>
        <p:blipFill>
          <a:blip r:embed="rId2"/>
          <a:stretch/>
        </p:blipFill>
        <p:spPr>
          <a:xfrm>
            <a:off x="4648320" y="1295280"/>
            <a:ext cx="3809880" cy="4070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4648320" y="533412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orge Kennan; US diplomat to the Soviet Union and creator of the policy of Containme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http://www.academic.marist.edu/nork/offflag.gif"/>
          <p:cNvPicPr/>
          <p:nvPr/>
        </p:nvPicPr>
        <p:blipFill>
          <a:blip r:embed="rId1"/>
          <a:srcRect l="6219" t="4587" r="1468" b="6509"/>
          <a:stretch/>
        </p:blipFill>
        <p:spPr>
          <a:xfrm>
            <a:off x="609480" y="860400"/>
            <a:ext cx="7239240" cy="43974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shall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for Europe to re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3 years $13 billion given to 17 different countries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_____refuses a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8" descr="http://plasma.nationalgeographic.com/pearlharbor/ngbeyond/images/people_short.jpg"/>
          <p:cNvPicPr/>
          <p:nvPr/>
        </p:nvPicPr>
        <p:blipFill>
          <a:blip r:embed="rId2"/>
          <a:stretch/>
        </p:blipFill>
        <p:spPr>
          <a:xfrm>
            <a:off x="4879800" y="1981080"/>
            <a:ext cx="3345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http://www.academic.marist.edu/nork/offflag.gif"/>
          <p:cNvPicPr/>
          <p:nvPr/>
        </p:nvPicPr>
        <p:blipFill>
          <a:blip r:embed="rId1"/>
          <a:srcRect l="6219" t="4587" r="496" b="4039"/>
          <a:stretch/>
        </p:blipFill>
        <p:spPr>
          <a:xfrm>
            <a:off x="609480" y="860400"/>
            <a:ext cx="7315200" cy="45198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rl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1907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ty is in ___zone of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vided into 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viets block___into West Berlin beca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rlin Airli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viets finally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8" descr="http://www.berlin-brigade.de/aut-hist/4sector.jpg"/>
          <p:cNvPicPr/>
          <p:nvPr/>
        </p:nvPicPr>
        <p:blipFill>
          <a:blip r:embed="rId2"/>
          <a:stretch/>
        </p:blipFill>
        <p:spPr>
          <a:xfrm>
            <a:off x="4114800" y="1855800"/>
            <a:ext cx="457200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http://www.academic.marist.edu/nork/offflag.gif"/>
          <p:cNvPicPr/>
          <p:nvPr/>
        </p:nvPicPr>
        <p:blipFill>
          <a:blip r:embed="rId1"/>
          <a:srcRect l="6219" t="4587" r="496" b="4039"/>
          <a:stretch/>
        </p:blipFill>
        <p:spPr>
          <a:xfrm>
            <a:off x="609480" y="860400"/>
            <a:ext cx="7315200" cy="4519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A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nd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/Denmark/Iceland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aly/Norway/Portug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8" descr="http://eldib.files.wordpress.com/2007/10/800px-flag_of_nato_svg.png?w=412&amp;h=262"/>
          <p:cNvPicPr/>
          <p:nvPr/>
        </p:nvPicPr>
        <p:blipFill>
          <a:blip r:embed="rId2"/>
          <a:stretch/>
        </p:blipFill>
        <p:spPr>
          <a:xfrm>
            <a:off x="4648320" y="2610000"/>
            <a:ext cx="38098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ournal 2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urn to page 832. What are the Smith and McCarran Acts? Do you believe these laws are constitutional, (in other words are they fair)? Why/why no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econd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ed S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Problems, New Enemies, New Programs and McCarthy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8:59:19Z</dcterms:created>
  <dc:creator>TPS</dc:creator>
  <dc:description/>
  <dc:language>en-US</dc:language>
  <cp:lastModifiedBy>IT Clone User</cp:lastModifiedBy>
  <dcterms:modified xsi:type="dcterms:W3CDTF">2010-02-18T12:27:13Z</dcterms:modified>
  <cp:revision>337</cp:revision>
  <dc:subject/>
  <dc:title>Roots of the Cold War</dc:title>
</cp:coreProperties>
</file>