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BF2-5612-4820-B83E-6E4474F8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D74-6C92-475C-9503-37FF5FC1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B27-8AFE-4C40-BA35-D3D9AECD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441-4EC7-4212-8BCA-E961AAC6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DB0-27FE-4D8E-81C5-C15E58A3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15A8-4E78-4286-AFD5-DF2DBCD8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0B7-D263-4CA1-B466-85045604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42C4-DC34-46F9-AC5C-93B010CF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CB6-9635-48A1-8925-ED57DB43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E29-67D7-44EF-B946-D822E05F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DD4-4CB4-4F76-B57D-CC6FB169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9A4-49AF-4CAD-A389-35C7F787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8901-00BC-4022-B695-862973AA3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a/Joseph_McCarth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2/Murrow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e/McCarthyandCoh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en to page 827. Use this page and the next to fill in the chart I handed out to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SR has the A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9 US become aware that Russia deton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informs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na falls to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War between Nationalists and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o Zedong becomes the new__________l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19.media.tumblr.com/Ls2IfkYAbo396zp8SNTjNoF4o1_400.jpg"/>
          <p:cNvPicPr/>
          <p:nvPr/>
        </p:nvPicPr>
        <p:blipFill>
          <a:blip r:embed="rId1"/>
          <a:srcRect l="4472" t="7450" r="6144" b="6146"/>
          <a:stretch/>
        </p:blipFill>
        <p:spPr>
          <a:xfrm>
            <a:off x="5410080" y="1139760"/>
            <a:ext cx="37339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tched like a HU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s for House Un-___________ Activities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t to investig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late 40’s its focus became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lywood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AC investigates communism in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film makers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http://www.wtv-zone.com/lumina/pic/jhredchannels.jpg"/>
          <p:cNvPicPr/>
          <p:nvPr/>
        </p:nvPicPr>
        <p:blipFill>
          <a:blip r:embed="rId1"/>
          <a:stretch/>
        </p:blipFill>
        <p:spPr>
          <a:xfrm>
            <a:off x="5562720" y="16002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man and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ed to appear tough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led for investigations of all federal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ith and McCarren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y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amous is Rosenberg trial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 citizens to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schol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http://jeremayakovka.typepad.com/photos/uncategorized/2007/04/01/chambers_was_right_2.jpg"/>
          <p:cNvPicPr/>
          <p:nvPr/>
        </p:nvPicPr>
        <p:blipFill>
          <a:blip r:embed="rId1"/>
          <a:srcRect l="0" t="0" r="10004" b="0"/>
          <a:stretch/>
        </p:blipFill>
        <p:spPr>
          <a:xfrm>
            <a:off x="5165640" y="2057400"/>
            <a:ext cx="3978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cCarthy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ator Joseph McCarthy claims he has evid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ins support of th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who disagrees with him is labe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Carthyism is a term used to describ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http://cjr290.files.wordpress.com/2009/04/hblock10.jpg"/>
          <p:cNvPicPr/>
          <p:nvPr/>
        </p:nvPicPr>
        <p:blipFill>
          <a:blip r:embed="rId1"/>
          <a:srcRect l="0" t="0" r="0" b="22534"/>
          <a:stretch/>
        </p:blipFill>
        <p:spPr>
          <a:xfrm>
            <a:off x="4876920" y="1652760"/>
            <a:ext cx="426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McCar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ator from Wisconsin 1947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ed Communists were among gov’t offic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anent Subcommittee on Investig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Image:Joseph McCart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32280" y="1981080"/>
            <a:ext cx="344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ward R. Mu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attle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erson to Pers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See it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s on McCa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Image:Murrow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403360"/>
            <a:ext cx="3809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y C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yer in Rosenberg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counsel of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p and Go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ba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Image:McCarthyandCoh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25680"/>
            <a:ext cx="43434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you believe Communism is a threat? Is suppressing its spread a noble cause? Is it one for which Americans should be fighting? Why/Why no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 of the year is just ‘round the corner! I want to know what your goals are for the rest of the year? What are your goals next year? What are your goals for after colle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There are no motives here on my part… I simply want to know or more importantly I want YOU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r in Ko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http://www.academic.marist.edu/nork/offflag.gif"/>
          <p:cNvPicPr/>
          <p:nvPr/>
        </p:nvPicPr>
        <p:blipFill>
          <a:blip r:embed="rId1"/>
          <a:srcRect l="6160" t="3639" r="1664" b="7242"/>
          <a:stretch/>
        </p:blipFill>
        <p:spPr>
          <a:xfrm>
            <a:off x="0" y="47160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oots of the Cold W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836. On your map color Soviet controlled Korea red and US controlled Korea blue. Make sure you include a key for yourself. Also, below the map, tell me how and why these two countries came to control parts of Ko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o Ko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________Korea before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Yalta Conference Korea is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would control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would control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aralle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quickly establish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 38th Parallel, Korea 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ossing the 3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aral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; 1950. N. Korea inv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of ___________ wants to un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no longer h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 Korean capitol, Seou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 Truman sends ______ to Korea and asks ___ ___ to do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http://upload.wikimedia.org/wikipedia/commons/5/57/Korean_War_HA-SN-98-0701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59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ar ends slow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, 1951; Truman starts_____talks. Many things slow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ute over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soners of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hting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2 negotiations take place in Panmunjom; _____________is elected president. He promised US he’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http://dsf.chesco.org/heroes/images/panmunjom_map.gif"/>
          <p:cNvPicPr/>
          <p:nvPr/>
        </p:nvPicPr>
        <p:blipFill>
          <a:blip r:embed="rId1"/>
          <a:srcRect l="30074" t="0" r="0" b="7284"/>
          <a:stretch/>
        </p:blipFill>
        <p:spPr>
          <a:xfrm>
            <a:off x="6019920" y="1328760"/>
            <a:ext cx="2481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ld War Contin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ke’s policy, relations with the Soviets and the Suez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senhower’s Cold Wa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Skies” policy says _____&amp;_____ can learn more about the others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A is very_____during Ike’s adminis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http://c250.columbia.edu/images/c250_celebrates/remarkable_columbians/240x240_eisenhower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lles’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4190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Dulles was Ike’s _____of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kmanship:going to the ____ of ____ w/o actually going to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___________: Using whatever means possible to control the Sovi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778120" y="1292400"/>
            <a:ext cx="35892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778120" y="1292400"/>
            <a:ext cx="35892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http://www.havelshouseofhistory.com/Dulles%20Photo0001.jpg"/>
          <p:cNvPicPr/>
          <p:nvPr/>
        </p:nvPicPr>
        <p:blipFill>
          <a:blip r:embed="rId1"/>
          <a:stretch/>
        </p:blipFill>
        <p:spPr>
          <a:xfrm>
            <a:off x="5005440" y="1981080"/>
            <a:ext cx="309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the Soviet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 is replaced by Khrushch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saw Pact is the Eastern European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 in Poland and Hung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http://countrystudies.us/russia/Khrushchev.jpg"/>
          <p:cNvPicPr/>
          <p:nvPr/>
        </p:nvPicPr>
        <p:blipFill>
          <a:blip r:embed="rId1"/>
          <a:stretch/>
        </p:blipFill>
        <p:spPr>
          <a:xfrm>
            <a:off x="5133960" y="1981080"/>
            <a:ext cx="28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ffering Relations btw. US &amp; Sovi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&amp;____meet in Geneva, Switzerland in ’55 for a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hrushchev rejects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ends _____ _____ ou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is Gary Powers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check-six.com/images/PowersU2/powers-helo.jpg"/>
          <p:cNvPicPr/>
          <p:nvPr/>
        </p:nvPicPr>
        <p:blipFill>
          <a:blip r:embed="rId1"/>
          <a:stretch/>
        </p:blipFill>
        <p:spPr>
          <a:xfrm>
            <a:off x="5051520" y="1981080"/>
            <a:ext cx="300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ez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04812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withdra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01992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takes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514600" y="1523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486400" y="1523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01992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 attacks Egy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467480" y="23623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04812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s ally w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54097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tells Israel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59056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523880" y="4495680"/>
            <a:ext cx="28958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4419720" y="4419360"/>
            <a:ext cx="23619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19"/>
          <p:cNvSpPr txBox="1"/>
          <p:nvPr/>
        </p:nvSpPr>
        <p:spPr>
          <a:xfrm>
            <a:off x="152388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isenhower Doctr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4419720" y="5105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ron Curta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believed Germany’s attack pr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ed to build a ‘______ _____’ of friendly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used whatever means necessary to install Communism and ens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ged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aw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ison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backspace.com/notes/images/ironcurtain.png"/>
          <p:cNvPicPr/>
          <p:nvPr/>
        </p:nvPicPr>
        <p:blipFill>
          <a:blip r:embed="rId2"/>
          <a:stretch/>
        </p:blipFill>
        <p:spPr>
          <a:xfrm>
            <a:off x="4929120" y="1981080"/>
            <a:ext cx="324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ez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newsimg.bbc.co.uk/media/images/41913000/gif/_41913674_strategic_import_map416.gif"/>
          <p:cNvPicPr/>
          <p:nvPr/>
        </p:nvPicPr>
        <p:blipFill>
          <a:blip r:embed="rId1"/>
          <a:srcRect l="8313" t="23211" r="5142" b="0"/>
          <a:stretch/>
        </p:blipFill>
        <p:spPr>
          <a:xfrm>
            <a:off x="2971800" y="1828800"/>
            <a:ext cx="6172200" cy="4200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www.mrdowling.com/images/607suezcanal.jpg"/>
          <p:cNvPicPr/>
          <p:nvPr/>
        </p:nvPicPr>
        <p:blipFill>
          <a:blip r:embed="rId2"/>
          <a:stretch/>
        </p:blipFill>
        <p:spPr>
          <a:xfrm>
            <a:off x="38160" y="1143000"/>
            <a:ext cx="285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man &amp; Contai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uses Churchill’s speech to convi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this as an excus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and G. Bri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favors 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ck Soviet advanc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always m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man Doctri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www.geocities.com/athens/forum/2496/future/kennan/mkennan.jpg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4070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4648320" y="53341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rge Kennan; US diplomat to the Soviet Union and creator of the policy of Contai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for Europe to re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3 years $13 billion given to 17 different countri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refuses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http://plasma.nationalgeographic.com/pearlharbor/ngbeyond/images/people_short.jpg"/>
          <p:cNvPicPr/>
          <p:nvPr/>
        </p:nvPicPr>
        <p:blipFill>
          <a:blip r:embed="rId2"/>
          <a:stretch/>
        </p:blipFill>
        <p:spPr>
          <a:xfrm>
            <a:off x="4879800" y="1981080"/>
            <a:ext cx="33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academic.marist.edu/nork/offflag.gif"/>
          <p:cNvPicPr/>
          <p:nvPr/>
        </p:nvPicPr>
        <p:blipFill>
          <a:blip r:embed="rId1"/>
          <a:srcRect l="6219" t="4587" r="496" b="4039"/>
          <a:stretch/>
        </p:blipFill>
        <p:spPr>
          <a:xfrm>
            <a:off x="609480" y="860400"/>
            <a:ext cx="7315200" cy="4519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9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y is in ___zon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into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block___into West Berlin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lin Airl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finally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ttp://www.berlin-brigade.de/aut-hist/4sector.jpg"/>
          <p:cNvPicPr/>
          <p:nvPr/>
        </p:nvPicPr>
        <p:blipFill>
          <a:blip r:embed="rId2"/>
          <a:stretch/>
        </p:blipFill>
        <p:spPr>
          <a:xfrm>
            <a:off x="4114800" y="1855800"/>
            <a:ext cx="45720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://www.academic.marist.edu/nork/offflag.gif"/>
          <p:cNvPicPr/>
          <p:nvPr/>
        </p:nvPicPr>
        <p:blipFill>
          <a:blip r:embed="rId1"/>
          <a:srcRect l="6219" t="4587" r="496" b="4039"/>
          <a:stretch/>
        </p:blipFill>
        <p:spPr>
          <a:xfrm>
            <a:off x="609480" y="860400"/>
            <a:ext cx="7315200" cy="4519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/Denmark/Icelan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/Norway/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eldib.files.wordpress.com/2007/10/800px-flag_of_nato_svg.png?w=412&amp;h=26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n to page 832. What are the Smith and McCarran Acts? Do you believe these laws are constitutional, (in other words are they fair)? Why/why no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eco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 S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roblems, New Enemies, New Programs and McCarthy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59:19Z</dcterms:created>
  <dc:creator>TPS</dc:creator>
  <dc:description/>
  <dc:language>en-US</dc:language>
  <cp:lastModifiedBy>IT Clone User</cp:lastModifiedBy>
  <dcterms:modified xsi:type="dcterms:W3CDTF">2010-02-18T12:27:13Z</dcterms:modified>
  <cp:revision>337</cp:revision>
  <dc:subject/>
  <dc:title>Roots of the Cold War</dc:title>
</cp:coreProperties>
</file>