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jpeg" ContentType="image/jpeg"/>
  <Override PartName="/ppt/media/image22.png" ContentType="image/png"/>
  <Override PartName="/ppt/media/image1.jpeg" ContentType="image/jpeg"/>
  <Override PartName="/ppt/media/image21.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984F7-C71E-46A5-A0AD-D7A3078D9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0BF04-B665-4F52-8B26-8B2436A2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3A701-46E7-45E8-9A7B-D3E8D7F29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4D405-5438-4B39-A3EF-550A135F1E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293A9-15B6-448E-8DB4-15D5DAF78B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48"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0B5E5-EEC1-4450-B3F9-F4D319622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A3207-7895-4F47-852C-FF4463262F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1AD4C-DAF5-499F-A148-092F70A10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823E5-794B-477A-9983-A43C50492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37F6C-90EE-41D2-8979-7DD3C5E91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DEBFB-57EC-4062-BC97-0335629BDD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 name="PlaceHolder 2"/>
          <p:cNvSpPr>
            <a:spLocks noGrp="1"/>
          </p:cNvSpPr>
          <p:nvPr>
            <p:ph type="subTitle"/>
          </p:nvPr>
        </p:nvSpPr>
        <p:spPr>
          <a:xfrm>
            <a:off x="457200" y="236880"/>
            <a:ext cx="8229600" cy="7252560"/>
          </a:xfrm>
          <a:prstGeom prst="rect">
            <a:avLst/>
          </a:prstGeom>
          <a:noFill/>
          <a:ln w="0">
            <a:noFill/>
          </a:ln>
        </p:spPr>
        <p:txBody>
          <a:bodyPr lIns="0" rIns="0" tIns="0" bIns="0" anchor="ctr">
            <a:noAutofit/>
          </a:bodyPr>
          <a:p>
            <a:pPr marL="103765320" indent="0" algn="ctr">
              <a:spcBef>
                <a:spcPts val="700"/>
              </a:spcBef>
              <a:buNone/>
              <a:tabLst>
                <a:tab algn="l" pos="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44D8-921A-4EA4-91AA-08CA255B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0BBFB-45E5-48A8-B420-0712693FB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45A07-498B-476E-866E-CFEFF8315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8CF52-F056-4CED-A606-0B1106EC4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4DFCB-E22B-4D90-BBDB-E5AD1CF47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90716F-58E7-4641-A8FA-A7D720C89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DE7E-2AE2-4429-AD6D-2EA960CA3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FE39B-ACBB-46F4-88CF-F02E3183B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B14DD-9E49-4FD1-90E1-171E072AA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71760"/>
            <a:ext cx="8229600" cy="7252560"/>
          </a:xfrm>
          <a:prstGeom prst="rect">
            <a:avLst/>
          </a:prstGeom>
          <a:noFill/>
          <a:ln w="0">
            <a:noFill/>
          </a:ln>
        </p:spPr>
        <p:txBody>
          <a:bodyPr lIns="0" rIns="0" tIns="0" bIns="0" anchor="ctr">
            <a:noAutofit/>
          </a:bodyPr>
          <a:p>
            <a:pPr marL="103765320" algn="ctr">
              <a:spcBef>
                <a:spcPts val="700"/>
              </a:spcBef>
              <a:tabLst>
                <a:tab algn="l" pos="0"/>
              </a:tabLst>
            </a:pPr>
            <a:endParaRPr b="0" lang="en-US" sz="2800" spc="-1" strike="noStrike">
              <a:solidFill>
                <a:srgbClr val="000000"/>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77105-AAE8-47F6-BCA6-783D90049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FE505-3491-48AC-B7E8-B6AEBFA23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F69E-9D86-426D-AEE9-75AFD108D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7f4a25"/>
              </a:solidFill>
              <a:latin typeface="Candar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45720" rIns="4572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0561-98AD-4E79-9FEF-C8F9753589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7F95-5F61-43BB-ABD2-3A52E11395CF}" type="slidenum">
              <a:rPr b="0" lang="en-US"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727200" y="1062000"/>
            <a:ext cx="4600440" cy="3978360"/>
          </a:xfrm>
          <a:prstGeom prst="rect">
            <a:avLst/>
          </a:prstGeom>
          <a:solidFill>
            <a:srgbClr val="2f1e12"/>
          </a:solidFill>
          <a:ln w="0">
            <a:noFill/>
          </a:ln>
          <a:effectLst>
            <a:outerShdw dist="25318" dir="7190755" blurRad="0" rotWithShape="0">
              <a:srgbClr val="000000">
                <a:alpha val="45000"/>
              </a:srgbClr>
            </a:outerShdw>
          </a:effectLst>
        </p:spPr>
        <p:style>
          <a:lnRef idx="0"/>
          <a:fillRef idx="0"/>
          <a:effectRef idx="0"/>
          <a:fontRef idx="minor"/>
        </p:style>
        <p: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f4a25"/>
                </a:solidFill>
                <a:latin typeface="Candara"/>
              </a:rPr>
              <a:t>Click to edit the title text format</a:t>
            </a:r>
            <a:endParaRPr b="1" lang="en-US" sz="4800" spc="-1" strike="noStrike">
              <a:solidFill>
                <a:srgbClr val="7f4a25"/>
              </a:solidFill>
              <a:latin typeface="Candara"/>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45720" rIns="45720" tIns="46800" bIns="46800" anchor="t">
            <a:normAutofit/>
          </a:bodyPr>
          <a:p>
            <a:pPr marL="343080" indent="103422240">
              <a:spcBef>
                <a:spcPts val="700"/>
              </a:spcBef>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ick to edit the outline text format</a:t>
            </a:r>
            <a:endParaRPr b="0" lang="en-US" sz="2800" spc="-1" strike="noStrike">
              <a:solidFill>
                <a:srgbClr val="000000"/>
              </a:solidFill>
              <a:latin typeface="Candara"/>
            </a:endParaRPr>
          </a:p>
          <a:p>
            <a:pPr lvl="1" marL="5572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cond Outline Level</a:t>
            </a:r>
            <a:endParaRPr b="0" lang="en-US" sz="2800" spc="-1" strike="noStrike">
              <a:solidFill>
                <a:srgbClr val="000000"/>
              </a:solidFill>
              <a:latin typeface="Candara"/>
            </a:endParaRPr>
          </a:p>
          <a:p>
            <a:pPr lvl="2" marL="81288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ird Outline Level</a:t>
            </a:r>
            <a:endParaRPr b="0" lang="en-US" sz="2800" spc="-1" strike="noStrike">
              <a:solidFill>
                <a:srgbClr val="000000"/>
              </a:solidFill>
              <a:latin typeface="Candara"/>
            </a:endParaRPr>
          </a:p>
          <a:p>
            <a:pPr lvl="3" marL="1068480" indent="-228600">
              <a:spcBef>
                <a:spcPts val="700"/>
              </a:spcBef>
              <a:buClr>
                <a:srgbClr val="79533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th Outline Level</a:t>
            </a:r>
            <a:endParaRPr b="0" lang="en-US" sz="2800" spc="-1" strike="noStrike">
              <a:solidFill>
                <a:srgbClr val="000000"/>
              </a:solidFill>
              <a:latin typeface="Candara"/>
            </a:endParaRPr>
          </a:p>
          <a:p>
            <a:pPr lvl="4" marL="1316160" indent="-228600">
              <a:spcBef>
                <a:spcPts val="700"/>
              </a:spcBef>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fth Outline Level</a:t>
            </a:r>
            <a:endParaRPr b="0" lang="en-US" sz="2800" spc="-1" strike="noStrike">
              <a:solidFill>
                <a:srgbClr val="000000"/>
              </a:solidFill>
              <a:latin typeface="Candara"/>
            </a:endParaRPr>
          </a:p>
          <a:p>
            <a:pPr lvl="5"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xth Outline Level</a:t>
            </a:r>
            <a:endParaRPr b="0" lang="en-US" sz="2800" spc="-1" strike="noStrike">
              <a:solidFill>
                <a:srgbClr val="000000"/>
              </a:solidFill>
              <a:latin typeface="Candara"/>
            </a:endParaRPr>
          </a:p>
          <a:p>
            <a:pPr lvl="6" marL="1316160" indent="-22860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venth Outline Level</a:t>
            </a:r>
            <a:endParaRPr b="0" lang="en-US" sz="2800" spc="-1" strike="noStrike">
              <a:solidFill>
                <a:srgbClr val="000000"/>
              </a:solidFill>
              <a:latin typeface="Candara"/>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339"/>
                </a:solidFill>
                <a:latin typeface="Candara"/>
                <a:ea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F183-6171-4619-9EF2-DED3E4AE0665}" type="slidenum">
              <a:rPr b="0" lang="en-US" sz="1200" spc="-1" strike="noStrike">
                <a:solidFill>
                  <a:srgbClr val="795339"/>
                </a:solidFill>
                <a:latin typeface="Candara"/>
                <a:ea typeface="Candar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Rectangle 2" descr=""/>
          <p:cNvPicPr/>
          <p:nvPr/>
        </p:nvPicPr>
        <p:blipFill>
          <a:blip r:embed="rId1"/>
          <a:stretch/>
        </p:blipFill>
        <p:spPr>
          <a:xfrm>
            <a:off x="682560" y="407880"/>
            <a:ext cx="7785000" cy="1219320"/>
          </a:xfrm>
          <a:prstGeom prst="rect">
            <a:avLst/>
          </a:prstGeom>
          <a:ln w="0">
            <a:noFill/>
          </a:ln>
        </p:spPr>
      </p:pic>
      <p:sp>
        <p:nvSpPr>
          <p:cNvPr id="84" name="PlaceHolder 1"/>
          <p:cNvSpPr>
            <a:spLocks noGrp="1"/>
          </p:cNvSpPr>
          <p:nvPr>
            <p:ph type="subTitle"/>
          </p:nvPr>
        </p:nvSpPr>
        <p:spPr>
          <a:xfrm>
            <a:off x="990720" y="2133360"/>
            <a:ext cx="6781680" cy="349092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n to page 554. Read the section titled </a:t>
            </a:r>
            <a:r>
              <a:rPr b="1" lang="en-US" sz="3000" spc="-1" strike="noStrike">
                <a:solidFill>
                  <a:srgbClr val="ff0000"/>
                </a:solidFill>
                <a:latin typeface="Candara"/>
              </a:rPr>
              <a:t>"Taking Control of Hawaii" </a:t>
            </a:r>
            <a:r>
              <a:rPr b="0" lang="en-US" sz="3000" spc="-1" strike="noStrike">
                <a:solidFill>
                  <a:srgbClr val="000000"/>
                </a:solidFill>
                <a:latin typeface="Candara"/>
              </a:rPr>
              <a:t>Recount the events that lead to the annexation of Hawaii. What did the US have to apologize for in 1993? Was the apology Necessary why? Why not? </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2" descr=""/>
          <p:cNvPicPr/>
          <p:nvPr/>
        </p:nvPicPr>
        <p:blipFill>
          <a:blip r:embed="rId1"/>
          <a:stretch/>
        </p:blipFill>
        <p:spPr>
          <a:xfrm>
            <a:off x="682560" y="-311040"/>
            <a:ext cx="7785000" cy="1182600"/>
          </a:xfrm>
          <a:prstGeom prst="rect">
            <a:avLst/>
          </a:prstGeom>
          <a:ln w="0">
            <a:noFill/>
          </a:ln>
        </p:spPr>
      </p:pic>
      <p:sp>
        <p:nvSpPr>
          <p:cNvPr id="117" name=""/>
          <p:cNvSpPr txBox="1"/>
          <p:nvPr/>
        </p:nvSpPr>
        <p:spPr>
          <a:xfrm>
            <a:off x="0" y="685440"/>
            <a:ext cx="4495680" cy="6172200"/>
          </a:xfrm>
          <a:prstGeom prst="rect">
            <a:avLst/>
          </a:prstGeom>
          <a:noFill/>
          <a:ln w="0">
            <a:noFill/>
          </a:ln>
        </p:spPr>
        <p:txBody>
          <a:bodyPr lIns="45720" rIns="45720" anchor="t">
            <a:normAutofit/>
          </a:bodyPr>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governs Puerto Rico as a _____________:</a:t>
            </a: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om 1900-1917 the US </a:t>
            </a:r>
            <a:endParaRPr b="0" lang="en-US" sz="2800" spc="-1" strike="noStrike">
              <a:solidFill>
                <a:srgbClr val="000000"/>
              </a:solidFill>
              <a:latin typeface="Candara"/>
            </a:endParaRPr>
          </a:p>
          <a:p>
            <a:pPr lvl="1" marL="747720" indent="-533520">
              <a:buClr>
                <a:srgbClr val="79533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ose PR’s__________ &amp; ½ of____________</a:t>
            </a:r>
            <a:endParaRPr b="0" lang="en-US" sz="24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917 Puerto Ricans are granted:</a:t>
            </a: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952 Puerto Rico gains the ability to:</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ough US still controls:</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p:txBody>
      </p:sp>
      <p:pic>
        <p:nvPicPr>
          <p:cNvPr id="118" name="Picture 2" descr="http://cache.daylife.com/imageserve/00kqcs80Y8bR5/340x.jpg"/>
          <p:cNvPicPr/>
          <p:nvPr/>
        </p:nvPicPr>
        <p:blipFill>
          <a:blip r:embed="rId2"/>
          <a:stretch/>
        </p:blipFill>
        <p:spPr>
          <a:xfrm>
            <a:off x="4724280" y="1055520"/>
            <a:ext cx="3886200" cy="490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ectangle 2" descr=""/>
          <p:cNvPicPr/>
          <p:nvPr/>
        </p:nvPicPr>
        <p:blipFill>
          <a:blip r:embed="rId1"/>
          <a:stretch/>
        </p:blipFill>
        <p:spPr>
          <a:xfrm>
            <a:off x="682560" y="-311040"/>
            <a:ext cx="7785000" cy="1182600"/>
          </a:xfrm>
          <a:prstGeom prst="rect">
            <a:avLst/>
          </a:prstGeom>
          <a:ln w="0">
            <a:noFill/>
          </a:ln>
        </p:spPr>
      </p:pic>
      <p:sp>
        <p:nvSpPr>
          <p:cNvPr id="120" name=""/>
          <p:cNvSpPr txBox="1"/>
          <p:nvPr/>
        </p:nvSpPr>
        <p:spPr>
          <a:xfrm>
            <a:off x="152280" y="1294920"/>
            <a:ext cx="8839440" cy="4419720"/>
          </a:xfrm>
          <a:prstGeom prst="rect">
            <a:avLst/>
          </a:prstGeom>
          <a:noFill/>
          <a:ln w="0">
            <a:noFill/>
          </a:ln>
        </p:spPr>
        <p:txBody>
          <a:bodyPr lIns="45720" rIns="45720" anchor="t">
            <a:norm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urn to 568; in your own words describe the Roosevelt Corollary to the Monroe Doctrine. What did Roosevelt hope to achieve with this? Was this good for the US? Was it good for Latin American countries? Was it good for Europe? Explain. </a:t>
            </a:r>
            <a:r>
              <a:rPr b="0" lang="en-US" sz="2800" spc="-1" strike="noStrike">
                <a:solidFill>
                  <a:srgbClr val="000000"/>
                </a:solidFill>
                <a:latin typeface="Candara"/>
              </a:rPr>
              <a:t>	</a:t>
            </a:r>
            <a:endParaRPr b="0" lang="en-US" sz="28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http://z.about.com/d/geography/1/0/3/L/camerica.jpg"/>
          <p:cNvPicPr/>
          <p:nvPr/>
        </p:nvPicPr>
        <p:blipFill>
          <a:blip r:embed="rId1"/>
          <a:stretch/>
        </p:blipFill>
        <p:spPr>
          <a:xfrm>
            <a:off x="0" y="0"/>
            <a:ext cx="9144000" cy="6858000"/>
          </a:xfrm>
          <a:prstGeom prst="rect">
            <a:avLst/>
          </a:prstGeom>
          <a:ln w="0">
            <a:noFill/>
          </a:ln>
        </p:spPr>
      </p:pic>
      <p:sp>
        <p:nvSpPr>
          <p:cNvPr id="122" name="Ink 2"/>
          <p:cNvSpPr/>
          <p:nvPr/>
        </p:nvSpPr>
        <p:spPr>
          <a:xfrm>
            <a:off x="401760" y="3527280"/>
            <a:ext cx="839520" cy="563760"/>
          </a:xfrm>
          <a:custGeom>
            <a:avLst/>
            <a:gdLst/>
            <a:ahLst/>
            <a:rect l="l" t="t" r="r" b="b"/>
            <a:pathLst>
              <a:path w="2333" h="1564">
                <a:moveTo>
                  <a:pt x="1116" y="11162"/>
                </a:moveTo>
                <a:cubicBezTo>
                  <a:pt x="1116" y="10864"/>
                  <a:pt x="1105" y="10558"/>
                  <a:pt x="1141" y="10269"/>
                </a:cubicBezTo>
                <a:cubicBezTo>
                  <a:pt x="1156" y="10154"/>
                  <a:pt x="1141" y="9854"/>
                  <a:pt x="1141" y="9823"/>
                </a:cubicBezTo>
                <a:cubicBezTo>
                  <a:pt x="1196" y="9877"/>
                  <a:pt x="1202" y="9931"/>
                  <a:pt x="1240" y="9996"/>
                </a:cubicBezTo>
                <a:cubicBezTo>
                  <a:pt x="1285" y="10074"/>
                  <a:pt x="1315" y="10173"/>
                  <a:pt x="1364" y="10244"/>
                </a:cubicBezTo>
                <a:cubicBezTo>
                  <a:pt x="1406" y="10305"/>
                  <a:pt x="1446" y="10388"/>
                  <a:pt x="1463" y="10468"/>
                </a:cubicBezTo>
                <a:cubicBezTo>
                  <a:pt x="1477" y="10531"/>
                  <a:pt x="1485" y="10582"/>
                  <a:pt x="1513" y="10641"/>
                </a:cubicBezTo>
                <a:cubicBezTo>
                  <a:pt x="1547" y="10712"/>
                  <a:pt x="1541" y="10742"/>
                  <a:pt x="1563" y="10815"/>
                </a:cubicBezTo>
                <a:cubicBezTo>
                  <a:pt x="1571" y="10841"/>
                  <a:pt x="1611" y="10887"/>
                  <a:pt x="1612" y="10889"/>
                </a:cubicBezTo>
                <a:cubicBezTo>
                  <a:pt x="1628" y="10947"/>
                  <a:pt x="1594" y="10940"/>
                  <a:pt x="1612" y="10889"/>
                </a:cubicBezTo>
                <a:cubicBezTo>
                  <a:pt x="1634" y="10829"/>
                  <a:pt x="1626" y="10786"/>
                  <a:pt x="1637" y="10716"/>
                </a:cubicBezTo>
                <a:cubicBezTo>
                  <a:pt x="1652" y="10622"/>
                  <a:pt x="1688" y="10508"/>
                  <a:pt x="1712" y="10418"/>
                </a:cubicBezTo>
                <a:cubicBezTo>
                  <a:pt x="1735" y="10333"/>
                  <a:pt x="1761" y="10290"/>
                  <a:pt x="1761" y="10195"/>
                </a:cubicBezTo>
                <a:cubicBezTo>
                  <a:pt x="1761" y="10125"/>
                  <a:pt x="1786" y="10076"/>
                  <a:pt x="1786" y="9996"/>
                </a:cubicBezTo>
                <a:cubicBezTo>
                  <a:pt x="1786" y="9955"/>
                  <a:pt x="1786" y="9913"/>
                  <a:pt x="1786" y="9872"/>
                </a:cubicBezTo>
                <a:cubicBezTo>
                  <a:pt x="1786" y="9914"/>
                  <a:pt x="1779" y="9906"/>
                  <a:pt x="1786" y="9947"/>
                </a:cubicBezTo>
                <a:cubicBezTo>
                  <a:pt x="1797" y="10010"/>
                  <a:pt x="1817" y="10086"/>
                  <a:pt x="1836" y="10145"/>
                </a:cubicBezTo>
                <a:cubicBezTo>
                  <a:pt x="1867" y="10242"/>
                  <a:pt x="1906" y="10314"/>
                  <a:pt x="1910" y="10418"/>
                </a:cubicBezTo>
                <a:cubicBezTo>
                  <a:pt x="1914" y="10526"/>
                  <a:pt x="1893" y="10637"/>
                  <a:pt x="1935" y="10740"/>
                </a:cubicBezTo>
                <a:cubicBezTo>
                  <a:pt x="1956" y="10793"/>
                  <a:pt x="1960" y="10825"/>
                  <a:pt x="1960" y="10889"/>
                </a:cubicBezTo>
                <a:cubicBezTo>
                  <a:pt x="1960" y="10966"/>
                  <a:pt x="1947" y="11049"/>
                  <a:pt x="1984" y="11112"/>
                </a:cubicBezTo>
              </a:path>
              <a:path w="2333" h="1564">
                <a:moveTo>
                  <a:pt x="2555" y="10542"/>
                </a:moveTo>
                <a:cubicBezTo>
                  <a:pt x="2493" y="10542"/>
                  <a:pt x="2460" y="10552"/>
                  <a:pt x="2431" y="10567"/>
                </a:cubicBezTo>
                <a:cubicBezTo>
                  <a:pt x="2398" y="10583"/>
                  <a:pt x="2406" y="10592"/>
                  <a:pt x="2356" y="10592"/>
                </a:cubicBezTo>
                <a:cubicBezTo>
                  <a:pt x="2325" y="10592"/>
                  <a:pt x="2300" y="10643"/>
                  <a:pt x="2282" y="10666"/>
                </a:cubicBezTo>
                <a:cubicBezTo>
                  <a:pt x="2256" y="10700"/>
                  <a:pt x="2220" y="10726"/>
                  <a:pt x="2208" y="10765"/>
                </a:cubicBezTo>
                <a:cubicBezTo>
                  <a:pt x="2188" y="10827"/>
                  <a:pt x="2219" y="10912"/>
                  <a:pt x="2232" y="10939"/>
                </a:cubicBezTo>
                <a:cubicBezTo>
                  <a:pt x="2250" y="10977"/>
                  <a:pt x="2256" y="11007"/>
                  <a:pt x="2307" y="11013"/>
                </a:cubicBezTo>
                <a:cubicBezTo>
                  <a:pt x="2411" y="11025"/>
                  <a:pt x="2524" y="11013"/>
                  <a:pt x="2629" y="11013"/>
                </a:cubicBezTo>
              </a:path>
              <a:path w="2333" h="1564">
                <a:moveTo>
                  <a:pt x="2729" y="10244"/>
                </a:moveTo>
                <a:cubicBezTo>
                  <a:pt x="2729" y="10387"/>
                  <a:pt x="2720" y="10530"/>
                  <a:pt x="2753" y="10666"/>
                </a:cubicBezTo>
                <a:cubicBezTo>
                  <a:pt x="2773" y="10750"/>
                  <a:pt x="2752" y="10836"/>
                  <a:pt x="2778" y="10914"/>
                </a:cubicBezTo>
                <a:cubicBezTo>
                  <a:pt x="2797" y="10972"/>
                  <a:pt x="2778" y="11074"/>
                  <a:pt x="2778" y="11137"/>
                </a:cubicBezTo>
              </a:path>
              <a:path w="2333" h="1564">
                <a:moveTo>
                  <a:pt x="2753" y="10815"/>
                </a:moveTo>
                <a:cubicBezTo>
                  <a:pt x="2753" y="10755"/>
                  <a:pt x="2763" y="10716"/>
                  <a:pt x="2778" y="10666"/>
                </a:cubicBezTo>
                <a:cubicBezTo>
                  <a:pt x="2788" y="10631"/>
                  <a:pt x="2783" y="10597"/>
                  <a:pt x="2803" y="10567"/>
                </a:cubicBezTo>
                <a:cubicBezTo>
                  <a:pt x="2824" y="10536"/>
                  <a:pt x="2846" y="10525"/>
                  <a:pt x="2877" y="10517"/>
                </a:cubicBezTo>
                <a:cubicBezTo>
                  <a:pt x="2890" y="10478"/>
                  <a:pt x="2889" y="10507"/>
                  <a:pt x="2902" y="10468"/>
                </a:cubicBezTo>
                <a:cubicBezTo>
                  <a:pt x="2925" y="10460"/>
                  <a:pt x="2941" y="10425"/>
                  <a:pt x="2952" y="10393"/>
                </a:cubicBezTo>
                <a:cubicBezTo>
                  <a:pt x="2952" y="10385"/>
                  <a:pt x="2952" y="10376"/>
                  <a:pt x="2952" y="10368"/>
                </a:cubicBezTo>
                <a:cubicBezTo>
                  <a:pt x="2981" y="10359"/>
                  <a:pt x="2997" y="10335"/>
                  <a:pt x="3001" y="10294"/>
                </a:cubicBezTo>
                <a:cubicBezTo>
                  <a:pt x="3001" y="10286"/>
                  <a:pt x="3001" y="10277"/>
                  <a:pt x="3001" y="10269"/>
                </a:cubicBezTo>
                <a:cubicBezTo>
                  <a:pt x="3039" y="10256"/>
                  <a:pt x="3026" y="10240"/>
                  <a:pt x="3026" y="10195"/>
                </a:cubicBezTo>
              </a:path>
              <a:path w="2333" h="1564">
                <a:moveTo>
                  <a:pt x="2902" y="10542"/>
                </a:moveTo>
                <a:cubicBezTo>
                  <a:pt x="2910" y="10542"/>
                  <a:pt x="2919" y="10542"/>
                  <a:pt x="2927" y="10542"/>
                </a:cubicBezTo>
                <a:cubicBezTo>
                  <a:pt x="2940" y="10582"/>
                  <a:pt x="2939" y="10552"/>
                  <a:pt x="2952" y="10592"/>
                </a:cubicBezTo>
                <a:cubicBezTo>
                  <a:pt x="2996" y="10606"/>
                  <a:pt x="2987" y="10618"/>
                  <a:pt x="3026" y="10666"/>
                </a:cubicBezTo>
                <a:cubicBezTo>
                  <a:pt x="3050" y="10696"/>
                  <a:pt x="3072" y="10753"/>
                  <a:pt x="3076" y="10790"/>
                </a:cubicBezTo>
                <a:cubicBezTo>
                  <a:pt x="3081" y="10832"/>
                  <a:pt x="3097" y="10851"/>
                  <a:pt x="3101" y="10889"/>
                </a:cubicBezTo>
                <a:cubicBezTo>
                  <a:pt x="3106" y="10933"/>
                  <a:pt x="3122" y="10970"/>
                  <a:pt x="3125" y="11013"/>
                </a:cubicBezTo>
                <a:cubicBezTo>
                  <a:pt x="3130" y="11087"/>
                  <a:pt x="3125" y="11163"/>
                  <a:pt x="3125" y="11237"/>
                </a:cubicBezTo>
              </a:path>
              <a:path w="2333" h="1564">
                <a:moveTo>
                  <a:pt x="3423" y="11286"/>
                </a:moveTo>
                <a:cubicBezTo>
                  <a:pt x="3397" y="11286"/>
                  <a:pt x="3461" y="11251"/>
                  <a:pt x="3398" y="11286"/>
                </a:cubicBezTo>
                <a:cubicBezTo>
                  <a:pt x="3360" y="11307"/>
                  <a:pt x="3332" y="11328"/>
                  <a:pt x="3299" y="11361"/>
                </a:cubicBezTo>
                <a:cubicBezTo>
                  <a:pt x="3342" y="11361"/>
                  <a:pt x="3359" y="11356"/>
                  <a:pt x="3373" y="11311"/>
                </a:cubicBezTo>
                <a:cubicBezTo>
                  <a:pt x="3384" y="11278"/>
                  <a:pt x="3382" y="11179"/>
                  <a:pt x="3349" y="11162"/>
                </a:cubicBezTo>
                <a:cubicBezTo>
                  <a:pt x="3322" y="11148"/>
                  <a:pt x="3278" y="11180"/>
                  <a:pt x="3274" y="11187"/>
                </a:cubicBezTo>
                <a:cubicBezTo>
                  <a:pt x="3274" y="11212"/>
                  <a:pt x="3274" y="11220"/>
                  <a:pt x="3274" y="11237"/>
                </a:cubicBezTo>
                <a:cubicBezTo>
                  <a:pt x="3325" y="11224"/>
                  <a:pt x="3324" y="11197"/>
                  <a:pt x="3324" y="11261"/>
                </a:cubicBezTo>
              </a:path>
            </a:pathLst>
          </a:custGeom>
          <a:noFill/>
          <a:ln cap="rnd" w="19080">
            <a:solidFill>
              <a:srgbClr val="00b0f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Ink 3"/>
          <p:cNvSpPr/>
          <p:nvPr/>
        </p:nvSpPr>
        <p:spPr>
          <a:xfrm>
            <a:off x="258840" y="4205160"/>
            <a:ext cx="679320" cy="403200"/>
          </a:xfrm>
          <a:custGeom>
            <a:avLst/>
            <a:gdLst/>
            <a:ahLst/>
            <a:rect l="l" t="t" r="r" b="b"/>
            <a:pathLst>
              <a:path w="1886" h="1117">
                <a:moveTo>
                  <a:pt x="719" y="11956"/>
                </a:moveTo>
                <a:cubicBezTo>
                  <a:pt x="727" y="11956"/>
                  <a:pt x="736" y="11956"/>
                  <a:pt x="744" y="11956"/>
                </a:cubicBezTo>
                <a:cubicBezTo>
                  <a:pt x="757" y="11916"/>
                  <a:pt x="756" y="11946"/>
                  <a:pt x="769" y="11906"/>
                </a:cubicBezTo>
                <a:cubicBezTo>
                  <a:pt x="804" y="11894"/>
                  <a:pt x="793" y="11862"/>
                  <a:pt x="843" y="11857"/>
                </a:cubicBezTo>
                <a:cubicBezTo>
                  <a:pt x="901" y="11851"/>
                  <a:pt x="942" y="11847"/>
                  <a:pt x="992" y="11832"/>
                </a:cubicBezTo>
                <a:cubicBezTo>
                  <a:pt x="1052" y="11814"/>
                  <a:pt x="1153" y="11816"/>
                  <a:pt x="1215" y="11807"/>
                </a:cubicBezTo>
                <a:cubicBezTo>
                  <a:pt x="1371" y="11786"/>
                  <a:pt x="1794" y="11807"/>
                  <a:pt x="1637" y="11807"/>
                </a:cubicBezTo>
              </a:path>
              <a:path w="1886" h="1117">
                <a:moveTo>
                  <a:pt x="1290" y="11832"/>
                </a:moveTo>
                <a:cubicBezTo>
                  <a:pt x="1290" y="12105"/>
                  <a:pt x="1290" y="12377"/>
                  <a:pt x="1290" y="12650"/>
                </a:cubicBezTo>
              </a:path>
              <a:path w="1886" h="1117">
                <a:moveTo>
                  <a:pt x="2059" y="11782"/>
                </a:moveTo>
                <a:cubicBezTo>
                  <a:pt x="2059" y="11897"/>
                  <a:pt x="2054" y="12005"/>
                  <a:pt x="2034" y="12105"/>
                </a:cubicBezTo>
                <a:cubicBezTo>
                  <a:pt x="1991" y="12316"/>
                  <a:pt x="2034" y="12582"/>
                  <a:pt x="2034" y="12799"/>
                </a:cubicBezTo>
              </a:path>
              <a:path w="1886" h="1117">
                <a:moveTo>
                  <a:pt x="2034" y="11857"/>
                </a:moveTo>
                <a:cubicBezTo>
                  <a:pt x="2053" y="11781"/>
                  <a:pt x="2100" y="11790"/>
                  <a:pt x="2133" y="11757"/>
                </a:cubicBezTo>
                <a:cubicBezTo>
                  <a:pt x="2137" y="11753"/>
                  <a:pt x="2183" y="11708"/>
                  <a:pt x="2183" y="11708"/>
                </a:cubicBezTo>
                <a:cubicBezTo>
                  <a:pt x="2200" y="11673"/>
                  <a:pt x="2209" y="11683"/>
                  <a:pt x="2257" y="11683"/>
                </a:cubicBezTo>
                <a:cubicBezTo>
                  <a:pt x="2309" y="11683"/>
                  <a:pt x="2310" y="11697"/>
                  <a:pt x="2332" y="11708"/>
                </a:cubicBezTo>
                <a:cubicBezTo>
                  <a:pt x="2371" y="11728"/>
                  <a:pt x="2359" y="11751"/>
                  <a:pt x="2406" y="11782"/>
                </a:cubicBezTo>
                <a:cubicBezTo>
                  <a:pt x="2435" y="11801"/>
                  <a:pt x="2457" y="11806"/>
                  <a:pt x="2480" y="11832"/>
                </a:cubicBezTo>
                <a:cubicBezTo>
                  <a:pt x="2499" y="11854"/>
                  <a:pt x="2519" y="11900"/>
                  <a:pt x="2530" y="11906"/>
                </a:cubicBezTo>
                <a:cubicBezTo>
                  <a:pt x="2565" y="11923"/>
                  <a:pt x="2555" y="11932"/>
                  <a:pt x="2555" y="11981"/>
                </a:cubicBezTo>
                <a:cubicBezTo>
                  <a:pt x="2555" y="12036"/>
                  <a:pt x="2544" y="12052"/>
                  <a:pt x="2530" y="12105"/>
                </a:cubicBezTo>
                <a:cubicBezTo>
                  <a:pt x="2521" y="12140"/>
                  <a:pt x="2495" y="12134"/>
                  <a:pt x="2480" y="12179"/>
                </a:cubicBezTo>
                <a:cubicBezTo>
                  <a:pt x="2468" y="12216"/>
                  <a:pt x="2423" y="12203"/>
                  <a:pt x="2406" y="12229"/>
                </a:cubicBezTo>
                <a:cubicBezTo>
                  <a:pt x="2377" y="12273"/>
                  <a:pt x="2404" y="12259"/>
                  <a:pt x="2356" y="12303"/>
                </a:cubicBezTo>
                <a:cubicBezTo>
                  <a:pt x="2339" y="12319"/>
                  <a:pt x="2286" y="12351"/>
                  <a:pt x="2282" y="12353"/>
                </a:cubicBezTo>
                <a:cubicBezTo>
                  <a:pt x="2249" y="12370"/>
                  <a:pt x="2039" y="12353"/>
                  <a:pt x="2084" y="12353"/>
                </a:cubicBezTo>
                <a:cubicBezTo>
                  <a:pt x="2140" y="12353"/>
                  <a:pt x="2117" y="12373"/>
                  <a:pt x="2158" y="12378"/>
                </a:cubicBezTo>
                <a:cubicBezTo>
                  <a:pt x="2185" y="12381"/>
                  <a:pt x="2204" y="12401"/>
                  <a:pt x="2232" y="12427"/>
                </a:cubicBezTo>
                <a:cubicBezTo>
                  <a:pt x="2260" y="12453"/>
                  <a:pt x="2321" y="12488"/>
                  <a:pt x="2356" y="12502"/>
                </a:cubicBezTo>
                <a:cubicBezTo>
                  <a:pt x="2406" y="12522"/>
                  <a:pt x="2405" y="12536"/>
                  <a:pt x="2431" y="12576"/>
                </a:cubicBezTo>
                <a:cubicBezTo>
                  <a:pt x="2448" y="12601"/>
                  <a:pt x="2487" y="12624"/>
                  <a:pt x="2505" y="12626"/>
                </a:cubicBezTo>
                <a:cubicBezTo>
                  <a:pt x="2532" y="12629"/>
                  <a:pt x="2552" y="12649"/>
                  <a:pt x="2580" y="12675"/>
                </a:cubicBezTo>
                <a:cubicBezTo>
                  <a:pt x="2588" y="12683"/>
                  <a:pt x="2596" y="12692"/>
                  <a:pt x="2604" y="12700"/>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Ink 4"/>
          <p:cNvSpPr/>
          <p:nvPr/>
        </p:nvSpPr>
        <p:spPr>
          <a:xfrm>
            <a:off x="322200" y="4840200"/>
            <a:ext cx="1098720" cy="393840"/>
          </a:xfrm>
          <a:custGeom>
            <a:avLst/>
            <a:gdLst/>
            <a:ahLst/>
            <a:rect l="l" t="t" r="r" b="b"/>
            <a:pathLst>
              <a:path w="3052" h="1093">
                <a:moveTo>
                  <a:pt x="893" y="13717"/>
                </a:moveTo>
                <a:cubicBezTo>
                  <a:pt x="931" y="13688"/>
                  <a:pt x="944" y="13692"/>
                  <a:pt x="992" y="13692"/>
                </a:cubicBezTo>
                <a:cubicBezTo>
                  <a:pt x="1090" y="13692"/>
                  <a:pt x="1173" y="13690"/>
                  <a:pt x="1265" y="13667"/>
                </a:cubicBezTo>
                <a:cubicBezTo>
                  <a:pt x="1440" y="13623"/>
                  <a:pt x="1677" y="13667"/>
                  <a:pt x="1860" y="13667"/>
                </a:cubicBezTo>
              </a:path>
              <a:path w="3052" h="1093">
                <a:moveTo>
                  <a:pt x="1439" y="13717"/>
                </a:moveTo>
                <a:cubicBezTo>
                  <a:pt x="1439" y="13814"/>
                  <a:pt x="1430" y="13899"/>
                  <a:pt x="1414" y="13990"/>
                </a:cubicBezTo>
                <a:cubicBezTo>
                  <a:pt x="1399" y="14075"/>
                  <a:pt x="1461" y="14512"/>
                  <a:pt x="1389" y="14536"/>
                </a:cubicBezTo>
              </a:path>
              <a:path w="3052" h="1093">
                <a:moveTo>
                  <a:pt x="1836" y="14436"/>
                </a:moveTo>
                <a:cubicBezTo>
                  <a:pt x="1865" y="14426"/>
                  <a:pt x="1873" y="14387"/>
                  <a:pt x="1885" y="14362"/>
                </a:cubicBezTo>
                <a:cubicBezTo>
                  <a:pt x="1911" y="14305"/>
                  <a:pt x="1938" y="14244"/>
                  <a:pt x="1960" y="14188"/>
                </a:cubicBezTo>
                <a:cubicBezTo>
                  <a:pt x="1973" y="14156"/>
                  <a:pt x="2000" y="14095"/>
                  <a:pt x="2009" y="14064"/>
                </a:cubicBezTo>
                <a:cubicBezTo>
                  <a:pt x="2024" y="14010"/>
                  <a:pt x="2034" y="13975"/>
                  <a:pt x="2034" y="13915"/>
                </a:cubicBezTo>
                <a:cubicBezTo>
                  <a:pt x="2034" y="13870"/>
                  <a:pt x="2056" y="13856"/>
                  <a:pt x="2059" y="13816"/>
                </a:cubicBezTo>
                <a:cubicBezTo>
                  <a:pt x="2062" y="13769"/>
                  <a:pt x="2059" y="13584"/>
                  <a:pt x="2059" y="13618"/>
                </a:cubicBezTo>
                <a:cubicBezTo>
                  <a:pt x="2059" y="13678"/>
                  <a:pt x="2058" y="13717"/>
                  <a:pt x="2084" y="13767"/>
                </a:cubicBezTo>
                <a:cubicBezTo>
                  <a:pt x="2110" y="13817"/>
                  <a:pt x="2113" y="13869"/>
                  <a:pt x="2133" y="13915"/>
                </a:cubicBezTo>
                <a:cubicBezTo>
                  <a:pt x="2163" y="13986"/>
                  <a:pt x="2202" y="14038"/>
                  <a:pt x="2208" y="14114"/>
                </a:cubicBezTo>
                <a:cubicBezTo>
                  <a:pt x="2210" y="14145"/>
                  <a:pt x="2242" y="14213"/>
                  <a:pt x="2257" y="14238"/>
                </a:cubicBezTo>
                <a:cubicBezTo>
                  <a:pt x="2280" y="14277"/>
                  <a:pt x="2318" y="14321"/>
                  <a:pt x="2332" y="14362"/>
                </a:cubicBezTo>
                <a:cubicBezTo>
                  <a:pt x="2344" y="14398"/>
                  <a:pt x="2353" y="14410"/>
                  <a:pt x="2356" y="14436"/>
                </a:cubicBezTo>
                <a:cubicBezTo>
                  <a:pt x="2356" y="14461"/>
                  <a:pt x="2356" y="14469"/>
                  <a:pt x="2356" y="14486"/>
                </a:cubicBezTo>
              </a:path>
              <a:path w="3052" h="1093">
                <a:moveTo>
                  <a:pt x="1960" y="14312"/>
                </a:moveTo>
                <a:cubicBezTo>
                  <a:pt x="2084" y="14312"/>
                  <a:pt x="2208" y="14312"/>
                  <a:pt x="2332" y="14312"/>
                </a:cubicBezTo>
              </a:path>
              <a:path w="3052" h="1093">
                <a:moveTo>
                  <a:pt x="3026" y="13742"/>
                </a:moveTo>
                <a:cubicBezTo>
                  <a:pt x="3026" y="13674"/>
                  <a:pt x="3019" y="13648"/>
                  <a:pt x="3001" y="13593"/>
                </a:cubicBezTo>
                <a:cubicBezTo>
                  <a:pt x="2987" y="13550"/>
                  <a:pt x="2962" y="13529"/>
                  <a:pt x="2927" y="13494"/>
                </a:cubicBezTo>
                <a:cubicBezTo>
                  <a:pt x="2904" y="13471"/>
                  <a:pt x="2896" y="13467"/>
                  <a:pt x="2902" y="13444"/>
                </a:cubicBezTo>
                <a:cubicBezTo>
                  <a:pt x="2844" y="13444"/>
                  <a:pt x="2787" y="13444"/>
                  <a:pt x="2729" y="13444"/>
                </a:cubicBezTo>
                <a:cubicBezTo>
                  <a:pt x="2717" y="13479"/>
                  <a:pt x="2722" y="13469"/>
                  <a:pt x="2679" y="13469"/>
                </a:cubicBezTo>
                <a:cubicBezTo>
                  <a:pt x="2664" y="13529"/>
                  <a:pt x="2628" y="13497"/>
                  <a:pt x="2604" y="13543"/>
                </a:cubicBezTo>
                <a:cubicBezTo>
                  <a:pt x="2515" y="13718"/>
                  <a:pt x="2604" y="14189"/>
                  <a:pt x="2604" y="14387"/>
                </a:cubicBezTo>
              </a:path>
              <a:path w="3052" h="1093">
                <a:moveTo>
                  <a:pt x="2332" y="14114"/>
                </a:moveTo>
                <a:cubicBezTo>
                  <a:pt x="2377" y="14114"/>
                  <a:pt x="2391" y="14093"/>
                  <a:pt x="2431" y="14089"/>
                </a:cubicBezTo>
                <a:cubicBezTo>
                  <a:pt x="2584" y="14072"/>
                  <a:pt x="2748" y="14089"/>
                  <a:pt x="2902" y="14089"/>
                </a:cubicBezTo>
              </a:path>
              <a:path w="3052" h="1093">
                <a:moveTo>
                  <a:pt x="3225" y="13667"/>
                </a:moveTo>
                <a:cubicBezTo>
                  <a:pt x="3473" y="13667"/>
                  <a:pt x="4142" y="13543"/>
                  <a:pt x="3944" y="13692"/>
                </a:cubicBezTo>
                <a:cubicBezTo>
                  <a:pt x="3919" y="13692"/>
                  <a:pt x="3911" y="13692"/>
                  <a:pt x="3894" y="13692"/>
                </a:cubicBezTo>
              </a:path>
              <a:path w="3052" h="1093">
                <a:moveTo>
                  <a:pt x="3547" y="13717"/>
                </a:moveTo>
                <a:cubicBezTo>
                  <a:pt x="3547" y="13965"/>
                  <a:pt x="3547" y="14213"/>
                  <a:pt x="3547" y="14461"/>
                </a:cubicBezTo>
              </a:path>
            </a:pathLst>
          </a:custGeom>
          <a:noFill/>
          <a:ln cap="rnd" w="19080">
            <a:solidFill>
              <a:srgbClr val="f59d5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Ink 5"/>
          <p:cNvSpPr/>
          <p:nvPr/>
        </p:nvSpPr>
        <p:spPr>
          <a:xfrm>
            <a:off x="250920" y="5607000"/>
            <a:ext cx="500040" cy="189000"/>
          </a:xfrm>
          <a:custGeom>
            <a:avLst/>
            <a:gdLst/>
            <a:ahLst/>
            <a:rect l="l" t="t" r="r" b="b"/>
            <a:pathLst>
              <a:path w="1390" h="522">
                <a:moveTo>
                  <a:pt x="695" y="15602"/>
                </a:moveTo>
                <a:cubicBezTo>
                  <a:pt x="708" y="15625"/>
                  <a:pt x="716" y="15626"/>
                  <a:pt x="719" y="15677"/>
                </a:cubicBezTo>
                <a:cubicBezTo>
                  <a:pt x="723" y="15740"/>
                  <a:pt x="734" y="15799"/>
                  <a:pt x="744" y="15850"/>
                </a:cubicBezTo>
                <a:cubicBezTo>
                  <a:pt x="758" y="15926"/>
                  <a:pt x="756" y="15926"/>
                  <a:pt x="794" y="15999"/>
                </a:cubicBezTo>
                <a:cubicBezTo>
                  <a:pt x="827" y="16062"/>
                  <a:pt x="828" y="16069"/>
                  <a:pt x="893" y="16073"/>
                </a:cubicBezTo>
                <a:cubicBezTo>
                  <a:pt x="938" y="16076"/>
                  <a:pt x="952" y="16091"/>
                  <a:pt x="992" y="16098"/>
                </a:cubicBezTo>
                <a:cubicBezTo>
                  <a:pt x="1055" y="16109"/>
                  <a:pt x="1039" y="16070"/>
                  <a:pt x="1067" y="16049"/>
                </a:cubicBezTo>
                <a:cubicBezTo>
                  <a:pt x="1104" y="16022"/>
                  <a:pt x="1118" y="16017"/>
                  <a:pt x="1141" y="15974"/>
                </a:cubicBezTo>
                <a:cubicBezTo>
                  <a:pt x="1174" y="15913"/>
                  <a:pt x="1237" y="15863"/>
                  <a:pt x="1265" y="15801"/>
                </a:cubicBezTo>
                <a:cubicBezTo>
                  <a:pt x="1294" y="15737"/>
                  <a:pt x="1284" y="15712"/>
                  <a:pt x="1290" y="15652"/>
                </a:cubicBezTo>
                <a:cubicBezTo>
                  <a:pt x="1297" y="15580"/>
                  <a:pt x="1290" y="15725"/>
                  <a:pt x="1290" y="15726"/>
                </a:cubicBezTo>
                <a:cubicBezTo>
                  <a:pt x="1290" y="15784"/>
                  <a:pt x="1317" y="15849"/>
                  <a:pt x="1339" y="15900"/>
                </a:cubicBezTo>
                <a:cubicBezTo>
                  <a:pt x="1364" y="15958"/>
                  <a:pt x="1381" y="16007"/>
                  <a:pt x="1439" y="16024"/>
                </a:cubicBezTo>
                <a:cubicBezTo>
                  <a:pt x="1486" y="16038"/>
                  <a:pt x="1523" y="16008"/>
                  <a:pt x="1538" y="15999"/>
                </a:cubicBezTo>
                <a:cubicBezTo>
                  <a:pt x="1578" y="15974"/>
                  <a:pt x="1624" y="15972"/>
                  <a:pt x="1662" y="15949"/>
                </a:cubicBezTo>
                <a:cubicBezTo>
                  <a:pt x="1708" y="15921"/>
                  <a:pt x="1695" y="15902"/>
                  <a:pt x="1736" y="15875"/>
                </a:cubicBezTo>
                <a:cubicBezTo>
                  <a:pt x="1776" y="15849"/>
                  <a:pt x="1777" y="15839"/>
                  <a:pt x="1811" y="15801"/>
                </a:cubicBezTo>
                <a:cubicBezTo>
                  <a:pt x="1843" y="15766"/>
                  <a:pt x="1843" y="15754"/>
                  <a:pt x="1860" y="15726"/>
                </a:cubicBezTo>
                <a:cubicBezTo>
                  <a:pt x="1878" y="15696"/>
                  <a:pt x="1883" y="15665"/>
                  <a:pt x="1885" y="15627"/>
                </a:cubicBezTo>
                <a:cubicBezTo>
                  <a:pt x="1885" y="15602"/>
                  <a:pt x="1885" y="15594"/>
                  <a:pt x="1885" y="15577"/>
                </a:cubicBezTo>
              </a:path>
              <a:path w="1390" h="522">
                <a:moveTo>
                  <a:pt x="2084" y="15825"/>
                </a:moveTo>
                <a:cubicBezTo>
                  <a:pt x="2084" y="15891"/>
                  <a:pt x="2084" y="15958"/>
                  <a:pt x="2084" y="16024"/>
                </a:cubicBezTo>
                <a:cubicBezTo>
                  <a:pt x="2049" y="16036"/>
                  <a:pt x="2059" y="16031"/>
                  <a:pt x="2059" y="16073"/>
                </a:cubicBezTo>
                <a:cubicBezTo>
                  <a:pt x="2034" y="16073"/>
                  <a:pt x="2026" y="16073"/>
                  <a:pt x="2034" y="16098"/>
                </a:cubicBezTo>
              </a:path>
              <a:path w="1390" h="522">
                <a:moveTo>
                  <a:pt x="2034" y="15602"/>
                </a:moveTo>
                <a:lnTo>
                  <a:pt x="2034" y="15602"/>
                </a:lnTo>
              </a:path>
            </a:pathLst>
          </a:custGeom>
          <a:noFill/>
          <a:ln cap="rnd" w="1908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Ink 6"/>
          <p:cNvSpPr/>
          <p:nvPr/>
        </p:nvSpPr>
        <p:spPr>
          <a:xfrm>
            <a:off x="901800" y="5562720"/>
            <a:ext cx="662040" cy="322200"/>
          </a:xfrm>
          <a:custGeom>
            <a:avLst/>
            <a:gdLst/>
            <a:ahLst/>
            <a:rect l="l" t="t" r="r" b="b"/>
            <a:pathLst>
              <a:path w="1837" h="894">
                <a:moveTo>
                  <a:pt x="2505" y="15453"/>
                </a:moveTo>
                <a:cubicBezTo>
                  <a:pt x="2505" y="15701"/>
                  <a:pt x="2505" y="15949"/>
                  <a:pt x="2505" y="16197"/>
                </a:cubicBezTo>
              </a:path>
              <a:path w="1837" h="894">
                <a:moveTo>
                  <a:pt x="3101" y="15602"/>
                </a:moveTo>
                <a:cubicBezTo>
                  <a:pt x="3016" y="15602"/>
                  <a:pt x="2927" y="15605"/>
                  <a:pt x="2877" y="15627"/>
                </a:cubicBezTo>
                <a:cubicBezTo>
                  <a:pt x="2848" y="15640"/>
                  <a:pt x="2825" y="15649"/>
                  <a:pt x="2803" y="15652"/>
                </a:cubicBezTo>
                <a:cubicBezTo>
                  <a:pt x="2803" y="15652"/>
                  <a:pt x="2731" y="15675"/>
                  <a:pt x="2729" y="15677"/>
                </a:cubicBezTo>
                <a:cubicBezTo>
                  <a:pt x="2713" y="15697"/>
                  <a:pt x="2713" y="15699"/>
                  <a:pt x="2704" y="15726"/>
                </a:cubicBezTo>
                <a:cubicBezTo>
                  <a:pt x="2715" y="15758"/>
                  <a:pt x="2744" y="15756"/>
                  <a:pt x="2753" y="15776"/>
                </a:cubicBezTo>
                <a:cubicBezTo>
                  <a:pt x="2767" y="15805"/>
                  <a:pt x="2794" y="15817"/>
                  <a:pt x="2828" y="15850"/>
                </a:cubicBezTo>
                <a:cubicBezTo>
                  <a:pt x="2858" y="15880"/>
                  <a:pt x="2862" y="15875"/>
                  <a:pt x="2902" y="15875"/>
                </a:cubicBezTo>
                <a:cubicBezTo>
                  <a:pt x="2902" y="15931"/>
                  <a:pt x="2922" y="15909"/>
                  <a:pt x="2927" y="15949"/>
                </a:cubicBezTo>
                <a:cubicBezTo>
                  <a:pt x="2934" y="16000"/>
                  <a:pt x="2947" y="15986"/>
                  <a:pt x="2952" y="16024"/>
                </a:cubicBezTo>
                <a:cubicBezTo>
                  <a:pt x="2958" y="16075"/>
                  <a:pt x="2961" y="16136"/>
                  <a:pt x="2927" y="16173"/>
                </a:cubicBezTo>
                <a:cubicBezTo>
                  <a:pt x="2905" y="16197"/>
                  <a:pt x="2874" y="16219"/>
                  <a:pt x="2853" y="16222"/>
                </a:cubicBezTo>
                <a:cubicBezTo>
                  <a:pt x="2783" y="16231"/>
                  <a:pt x="2713" y="16214"/>
                  <a:pt x="2679" y="16197"/>
                </a:cubicBezTo>
                <a:cubicBezTo>
                  <a:pt x="2650" y="16182"/>
                  <a:pt x="2637" y="16186"/>
                  <a:pt x="2679" y="16173"/>
                </a:cubicBezTo>
              </a:path>
              <a:path w="1837" h="894">
                <a:moveTo>
                  <a:pt x="3349" y="15776"/>
                </a:moveTo>
                <a:cubicBezTo>
                  <a:pt x="3322" y="15776"/>
                  <a:pt x="3261" y="15783"/>
                  <a:pt x="3249" y="15801"/>
                </a:cubicBezTo>
                <a:cubicBezTo>
                  <a:pt x="3237" y="15819"/>
                  <a:pt x="3211" y="15843"/>
                  <a:pt x="3200" y="15875"/>
                </a:cubicBezTo>
                <a:cubicBezTo>
                  <a:pt x="3187" y="15913"/>
                  <a:pt x="3167" y="15927"/>
                  <a:pt x="3150" y="15949"/>
                </a:cubicBezTo>
                <a:cubicBezTo>
                  <a:pt x="3118" y="15991"/>
                  <a:pt x="3125" y="16017"/>
                  <a:pt x="3125" y="16073"/>
                </a:cubicBezTo>
                <a:cubicBezTo>
                  <a:pt x="3125" y="16098"/>
                  <a:pt x="3125" y="16123"/>
                  <a:pt x="3125" y="16148"/>
                </a:cubicBezTo>
                <a:cubicBezTo>
                  <a:pt x="3222" y="16148"/>
                  <a:pt x="3338" y="16153"/>
                  <a:pt x="3398" y="16123"/>
                </a:cubicBezTo>
                <a:cubicBezTo>
                  <a:pt x="3434" y="16105"/>
                  <a:pt x="3426" y="16102"/>
                  <a:pt x="3448" y="16073"/>
                </a:cubicBezTo>
                <a:cubicBezTo>
                  <a:pt x="3477" y="16035"/>
                  <a:pt x="3473" y="16022"/>
                  <a:pt x="3473" y="15974"/>
                </a:cubicBezTo>
                <a:cubicBezTo>
                  <a:pt x="3473" y="15924"/>
                  <a:pt x="3473" y="15875"/>
                  <a:pt x="3473" y="15825"/>
                </a:cubicBezTo>
                <a:cubicBezTo>
                  <a:pt x="3427" y="15825"/>
                  <a:pt x="3386" y="15839"/>
                  <a:pt x="3373" y="15801"/>
                </a:cubicBezTo>
              </a:path>
              <a:path w="1837" h="894">
                <a:moveTo>
                  <a:pt x="3746" y="16247"/>
                </a:moveTo>
                <a:cubicBezTo>
                  <a:pt x="3746" y="16201"/>
                  <a:pt x="3763" y="16184"/>
                  <a:pt x="3770" y="16148"/>
                </a:cubicBezTo>
                <a:cubicBezTo>
                  <a:pt x="3783" y="16085"/>
                  <a:pt x="3755" y="16059"/>
                  <a:pt x="3795" y="15999"/>
                </a:cubicBezTo>
                <a:cubicBezTo>
                  <a:pt x="3824" y="15956"/>
                  <a:pt x="3799" y="15913"/>
                  <a:pt x="3820" y="15875"/>
                </a:cubicBezTo>
                <a:cubicBezTo>
                  <a:pt x="3844" y="15831"/>
                  <a:pt x="3845" y="15804"/>
                  <a:pt x="3845" y="15751"/>
                </a:cubicBezTo>
                <a:cubicBezTo>
                  <a:pt x="3845" y="15743"/>
                  <a:pt x="3845" y="15734"/>
                  <a:pt x="3845" y="15726"/>
                </a:cubicBezTo>
                <a:cubicBezTo>
                  <a:pt x="3884" y="15739"/>
                  <a:pt x="3886" y="15782"/>
                  <a:pt x="3919" y="15825"/>
                </a:cubicBezTo>
                <a:cubicBezTo>
                  <a:pt x="3946" y="15861"/>
                  <a:pt x="3969" y="15917"/>
                  <a:pt x="3994" y="15949"/>
                </a:cubicBezTo>
                <a:cubicBezTo>
                  <a:pt x="4035" y="16001"/>
                  <a:pt x="4096" y="16033"/>
                  <a:pt x="4118" y="16098"/>
                </a:cubicBezTo>
                <a:cubicBezTo>
                  <a:pt x="4132" y="16140"/>
                  <a:pt x="4182" y="16178"/>
                  <a:pt x="4192" y="16197"/>
                </a:cubicBezTo>
                <a:cubicBezTo>
                  <a:pt x="4208" y="16230"/>
                  <a:pt x="4239" y="16274"/>
                  <a:pt x="4242" y="16297"/>
                </a:cubicBezTo>
                <a:cubicBezTo>
                  <a:pt x="4244" y="16316"/>
                  <a:pt x="4266" y="16365"/>
                  <a:pt x="4266" y="16321"/>
                </a:cubicBezTo>
                <a:cubicBezTo>
                  <a:pt x="4266" y="16246"/>
                  <a:pt x="4245" y="16129"/>
                  <a:pt x="4291" y="16073"/>
                </a:cubicBezTo>
                <a:cubicBezTo>
                  <a:pt x="4316" y="16042"/>
                  <a:pt x="4331" y="15990"/>
                  <a:pt x="4341" y="15949"/>
                </a:cubicBezTo>
                <a:cubicBezTo>
                  <a:pt x="4373" y="15821"/>
                  <a:pt x="4341" y="15637"/>
                  <a:pt x="4341" y="15503"/>
                </a:cubicBezTo>
              </a:path>
            </a:pathLst>
          </a:custGeom>
          <a:noFill/>
          <a:ln cap="rnd" w="19080">
            <a:solidFill>
              <a:srgbClr val="703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Ink 7"/>
          <p:cNvSpPr/>
          <p:nvPr/>
        </p:nvSpPr>
        <p:spPr>
          <a:xfrm>
            <a:off x="723960" y="4419720"/>
            <a:ext cx="7920" cy="98280"/>
          </a:xfrm>
          <a:custGeom>
            <a:avLst/>
            <a:gdLst/>
            <a:ahLst/>
            <a:rect l="l" t="t" r="r" b="b"/>
            <a:pathLst>
              <a:path w="26" h="274">
                <a:moveTo>
                  <a:pt x="2034" y="12278"/>
                </a:moveTo>
                <a:cubicBezTo>
                  <a:pt x="2034" y="12311"/>
                  <a:pt x="2034" y="12345"/>
                  <a:pt x="2034" y="12378"/>
                </a:cubicBezTo>
                <a:cubicBezTo>
                  <a:pt x="1996" y="12390"/>
                  <a:pt x="2009" y="12407"/>
                  <a:pt x="2009" y="12452"/>
                </a:cubicBezTo>
                <a:cubicBezTo>
                  <a:pt x="2009" y="12485"/>
                  <a:pt x="2009" y="12518"/>
                  <a:pt x="2009" y="12551"/>
                </a:cubicBezTo>
              </a:path>
            </a:pathLst>
          </a:custGeom>
          <a:noFill/>
          <a:ln cap="sq" w="127080">
            <a:solidFill>
              <a:srgbClr val="c0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Ink 8"/>
          <p:cNvSpPr/>
          <p:nvPr/>
        </p:nvSpPr>
        <p:spPr>
          <a:xfrm>
            <a:off x="455760" y="4295880"/>
            <a:ext cx="17280" cy="214200"/>
          </a:xfrm>
          <a:custGeom>
            <a:avLst/>
            <a:gdLst/>
            <a:ahLst/>
            <a:rect l="l" t="t" r="r" b="b"/>
            <a:pathLst>
              <a:path w="51" h="596">
                <a:moveTo>
                  <a:pt x="1290" y="11931"/>
                </a:moveTo>
                <a:cubicBezTo>
                  <a:pt x="1298" y="11931"/>
                  <a:pt x="1307" y="11931"/>
                  <a:pt x="1315" y="11931"/>
                </a:cubicBezTo>
                <a:cubicBezTo>
                  <a:pt x="1315" y="12005"/>
                  <a:pt x="1315" y="12080"/>
                  <a:pt x="1315" y="12154"/>
                </a:cubicBezTo>
                <a:cubicBezTo>
                  <a:pt x="1277" y="12167"/>
                  <a:pt x="1290" y="12184"/>
                  <a:pt x="1290" y="12229"/>
                </a:cubicBezTo>
                <a:cubicBezTo>
                  <a:pt x="1290" y="12320"/>
                  <a:pt x="1290" y="12411"/>
                  <a:pt x="1290" y="12502"/>
                </a:cubicBezTo>
                <a:cubicBezTo>
                  <a:pt x="1265" y="12502"/>
                  <a:pt x="1257" y="12502"/>
                  <a:pt x="1265" y="12526"/>
                </a:cubicBezTo>
              </a:path>
            </a:pathLst>
          </a:custGeom>
          <a:noFill/>
          <a:ln cap="sq" w="127080">
            <a:solidFill>
              <a:srgbClr val="ff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Ink 9"/>
          <p:cNvSpPr/>
          <p:nvPr/>
        </p:nvSpPr>
        <p:spPr>
          <a:xfrm>
            <a:off x="741240" y="4295880"/>
            <a:ext cx="1800" cy="268200"/>
          </a:xfrm>
          <a:custGeom>
            <a:avLst/>
            <a:gdLst/>
            <a:ahLst/>
            <a:rect l="l" t="t" r="r" b="b"/>
            <a:pathLst>
              <a:path w="1" h="745">
                <a:moveTo>
                  <a:pt x="2059" y="11931"/>
                </a:moveTo>
                <a:cubicBezTo>
                  <a:pt x="2059" y="12179"/>
                  <a:pt x="2059" y="12427"/>
                  <a:pt x="2059" y="12675"/>
                </a:cubicBezTo>
              </a:path>
            </a:pathLst>
          </a:custGeom>
          <a:noFill/>
          <a:ln cap="sq" w="127080">
            <a:solidFill>
              <a:srgbClr val="ff00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Ink 10"/>
          <p:cNvSpPr/>
          <p:nvPr/>
        </p:nvSpPr>
        <p:spPr>
          <a:xfrm>
            <a:off x="500040" y="5037120"/>
            <a:ext cx="19080" cy="169920"/>
          </a:xfrm>
          <a:custGeom>
            <a:avLst/>
            <a:gdLst/>
            <a:ahLst/>
            <a:rect l="l" t="t" r="r" b="b"/>
            <a:pathLst>
              <a:path w="51" h="472">
                <a:moveTo>
                  <a:pt x="1439" y="13990"/>
                </a:moveTo>
                <a:cubicBezTo>
                  <a:pt x="1439" y="14106"/>
                  <a:pt x="1439" y="14221"/>
                  <a:pt x="1439" y="14337"/>
                </a:cubicBezTo>
                <a:cubicBezTo>
                  <a:pt x="1401" y="14350"/>
                  <a:pt x="1414" y="14367"/>
                  <a:pt x="1414" y="14412"/>
                </a:cubicBezTo>
                <a:cubicBezTo>
                  <a:pt x="1414" y="14454"/>
                  <a:pt x="1424" y="14449"/>
                  <a:pt x="1389" y="14461"/>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Ink 11"/>
          <p:cNvSpPr/>
          <p:nvPr/>
        </p:nvSpPr>
        <p:spPr>
          <a:xfrm>
            <a:off x="1285920" y="4991040"/>
            <a:ext cx="9360" cy="169920"/>
          </a:xfrm>
          <a:custGeom>
            <a:avLst/>
            <a:gdLst/>
            <a:ahLst/>
            <a:rect l="l" t="t" r="r" b="b"/>
            <a:pathLst>
              <a:path w="26" h="472">
                <a:moveTo>
                  <a:pt x="3572" y="13866"/>
                </a:moveTo>
                <a:cubicBezTo>
                  <a:pt x="3580" y="13866"/>
                  <a:pt x="3589" y="13866"/>
                  <a:pt x="3597" y="13866"/>
                </a:cubicBezTo>
                <a:cubicBezTo>
                  <a:pt x="3597" y="14023"/>
                  <a:pt x="3597" y="14180"/>
                  <a:pt x="3597" y="14337"/>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Ink 12"/>
          <p:cNvSpPr/>
          <p:nvPr/>
        </p:nvSpPr>
        <p:spPr>
          <a:xfrm>
            <a:off x="928800" y="4938840"/>
            <a:ext cx="1440" cy="204840"/>
          </a:xfrm>
          <a:custGeom>
            <a:avLst/>
            <a:gdLst/>
            <a:ahLst/>
            <a:rect l="l" t="t" r="r" b="b"/>
            <a:pathLst>
              <a:path w="1" h="572">
                <a:moveTo>
                  <a:pt x="2580" y="13717"/>
                </a:moveTo>
                <a:cubicBezTo>
                  <a:pt x="2580" y="13907"/>
                  <a:pt x="2580" y="14098"/>
                  <a:pt x="2580" y="14288"/>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Ink 13"/>
          <p:cNvSpPr/>
          <p:nvPr/>
        </p:nvSpPr>
        <p:spPr>
          <a:xfrm>
            <a:off x="509760" y="4964040"/>
            <a:ext cx="9360" cy="233280"/>
          </a:xfrm>
          <a:custGeom>
            <a:avLst/>
            <a:gdLst/>
            <a:ahLst/>
            <a:rect l="l" t="t" r="r" b="b"/>
            <a:pathLst>
              <a:path w="26" h="646">
                <a:moveTo>
                  <a:pt x="1439" y="13791"/>
                </a:moveTo>
                <a:cubicBezTo>
                  <a:pt x="1439" y="13986"/>
                  <a:pt x="1474" y="14237"/>
                  <a:pt x="1414" y="14412"/>
                </a:cubicBezTo>
                <a:cubicBezTo>
                  <a:pt x="1414" y="14420"/>
                  <a:pt x="1414" y="14428"/>
                  <a:pt x="1414" y="14436"/>
                </a:cubicBezTo>
              </a:path>
            </a:pathLst>
          </a:custGeom>
          <a:noFill/>
          <a:ln cap="sq" w="127080">
            <a:solidFill>
              <a:srgbClr val="f9c49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Ink 14"/>
          <p:cNvSpPr/>
          <p:nvPr/>
        </p:nvSpPr>
        <p:spPr>
          <a:xfrm>
            <a:off x="901800" y="5616720"/>
            <a:ext cx="1440" cy="169560"/>
          </a:xfrm>
          <a:custGeom>
            <a:avLst/>
            <a:gdLst/>
            <a:ahLst/>
            <a:rect l="l" t="t" r="r" b="b"/>
            <a:pathLst>
              <a:path w="1" h="472">
                <a:moveTo>
                  <a:pt x="2505" y="15602"/>
                </a:moveTo>
                <a:cubicBezTo>
                  <a:pt x="2505" y="15759"/>
                  <a:pt x="2505" y="15916"/>
                  <a:pt x="2505" y="16073"/>
                </a:cubicBezTo>
              </a:path>
            </a:pathLst>
          </a:custGeom>
          <a:noFill/>
          <a:ln cap="sq" w="127080">
            <a:solidFill>
              <a:srgbClr val="5f4b79">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Ink 15"/>
          <p:cNvSpPr/>
          <p:nvPr/>
        </p:nvSpPr>
        <p:spPr>
          <a:xfrm>
            <a:off x="1357200" y="5715000"/>
            <a:ext cx="44640" cy="115920"/>
          </a:xfrm>
          <a:custGeom>
            <a:avLst/>
            <a:gdLst/>
            <a:ahLst/>
            <a:rect l="l" t="t" r="r" b="b"/>
            <a:pathLst>
              <a:path w="125" h="323">
                <a:moveTo>
                  <a:pt x="3894" y="15875"/>
                </a:moveTo>
                <a:cubicBezTo>
                  <a:pt x="3894" y="15883"/>
                  <a:pt x="3894" y="15892"/>
                  <a:pt x="3894" y="15900"/>
                </a:cubicBezTo>
                <a:cubicBezTo>
                  <a:pt x="3866" y="15910"/>
                  <a:pt x="3849" y="15934"/>
                  <a:pt x="3845" y="15974"/>
                </a:cubicBezTo>
                <a:cubicBezTo>
                  <a:pt x="3845" y="15999"/>
                  <a:pt x="3845" y="16007"/>
                  <a:pt x="3845" y="16024"/>
                </a:cubicBezTo>
                <a:cubicBezTo>
                  <a:pt x="3807" y="16037"/>
                  <a:pt x="3820" y="16053"/>
                  <a:pt x="3820" y="16098"/>
                </a:cubicBezTo>
                <a:cubicBezTo>
                  <a:pt x="3820" y="16123"/>
                  <a:pt x="3820" y="16131"/>
                  <a:pt x="3820" y="16148"/>
                </a:cubicBezTo>
                <a:cubicBezTo>
                  <a:pt x="3789" y="16158"/>
                  <a:pt x="3781" y="16166"/>
                  <a:pt x="3770" y="16197"/>
                </a:cubicBezTo>
              </a:path>
            </a:pathLst>
          </a:custGeom>
          <a:noFill/>
          <a:ln cap="sq" w="127080">
            <a:solidFill>
              <a:srgbClr val="b2a3c6">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Ink 16"/>
          <p:cNvSpPr/>
          <p:nvPr/>
        </p:nvSpPr>
        <p:spPr>
          <a:xfrm>
            <a:off x="1527120" y="5607000"/>
            <a:ext cx="61920" cy="243000"/>
          </a:xfrm>
          <a:custGeom>
            <a:avLst/>
            <a:gdLst/>
            <a:ahLst/>
            <a:rect l="l" t="t" r="r" b="b"/>
            <a:pathLst>
              <a:path w="174" h="671">
                <a:moveTo>
                  <a:pt x="4415" y="15577"/>
                </a:moveTo>
                <a:cubicBezTo>
                  <a:pt x="4415" y="15647"/>
                  <a:pt x="4409" y="15693"/>
                  <a:pt x="4390" y="15751"/>
                </a:cubicBezTo>
                <a:cubicBezTo>
                  <a:pt x="4368" y="15817"/>
                  <a:pt x="4390" y="15929"/>
                  <a:pt x="4390" y="15999"/>
                </a:cubicBezTo>
                <a:cubicBezTo>
                  <a:pt x="4356" y="16011"/>
                  <a:pt x="4366" y="16007"/>
                  <a:pt x="4366" y="16049"/>
                </a:cubicBezTo>
                <a:cubicBezTo>
                  <a:pt x="4331" y="16060"/>
                  <a:pt x="4341" y="16056"/>
                  <a:pt x="4341" y="16098"/>
                </a:cubicBezTo>
                <a:cubicBezTo>
                  <a:pt x="4301" y="16111"/>
                  <a:pt x="4331" y="16110"/>
                  <a:pt x="4291" y="16123"/>
                </a:cubicBezTo>
                <a:cubicBezTo>
                  <a:pt x="4284" y="16152"/>
                  <a:pt x="4274" y="16168"/>
                  <a:pt x="4266" y="16197"/>
                </a:cubicBezTo>
                <a:cubicBezTo>
                  <a:pt x="4232" y="16209"/>
                  <a:pt x="4242" y="16205"/>
                  <a:pt x="4242" y="16247"/>
                </a:cubicBezTo>
              </a:path>
            </a:pathLst>
          </a:custGeom>
          <a:noFill/>
          <a:ln cap="sq" w="127080">
            <a:solidFill>
              <a:srgbClr val="b2a3c6">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Ink 17"/>
          <p:cNvSpPr/>
          <p:nvPr/>
        </p:nvSpPr>
        <p:spPr>
          <a:xfrm>
            <a:off x="276120" y="5653080"/>
            <a:ext cx="1800" cy="133200"/>
          </a:xfrm>
          <a:custGeom>
            <a:avLst/>
            <a:gdLst/>
            <a:ahLst/>
            <a:rect l="l" t="t" r="r" b="b"/>
            <a:pathLst>
              <a:path w="1" h="373">
                <a:moveTo>
                  <a:pt x="769" y="15701"/>
                </a:moveTo>
                <a:cubicBezTo>
                  <a:pt x="769" y="15825"/>
                  <a:pt x="769" y="15949"/>
                  <a:pt x="769" y="16073"/>
                </a:cubicBezTo>
                <a:cubicBezTo>
                  <a:pt x="769" y="16049"/>
                  <a:pt x="769" y="16041"/>
                  <a:pt x="769" y="16073"/>
                </a:cubicBezTo>
              </a:path>
            </a:pathLst>
          </a:custGeom>
          <a:noFill/>
          <a:ln cap="sq" w="127080">
            <a:solidFill>
              <a:srgbClr val="7030a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Rectangle 2" descr=""/>
          <p:cNvPicPr/>
          <p:nvPr/>
        </p:nvPicPr>
        <p:blipFill>
          <a:blip r:embed="rId1"/>
          <a:stretch/>
        </p:blipFill>
        <p:spPr>
          <a:xfrm>
            <a:off x="682560" y="469800"/>
            <a:ext cx="7796160" cy="2986200"/>
          </a:xfrm>
          <a:prstGeom prst="rect">
            <a:avLst/>
          </a:prstGeom>
          <a:ln w="0">
            <a:noFill/>
          </a:ln>
        </p:spPr>
      </p:pic>
      <p:sp>
        <p:nvSpPr>
          <p:cNvPr id="86" name="PlaceHolder 1"/>
          <p:cNvSpPr>
            <a:spLocks noGrp="1"/>
          </p:cNvSpPr>
          <p:nvPr>
            <p:ph type="subTitle"/>
          </p:nvPr>
        </p:nvSpPr>
        <p:spPr>
          <a:xfrm>
            <a:off x="1371600" y="3657600"/>
            <a:ext cx="6400800" cy="1967040"/>
          </a:xfrm>
          <a:prstGeom prst="rect">
            <a:avLst/>
          </a:prstGeom>
          <a:noFill/>
          <a:ln w="0">
            <a:noFill/>
          </a:ln>
        </p:spPr>
        <p:txBody>
          <a:bodyPr lIns="45720" r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95339"/>
                </a:solidFill>
                <a:latin typeface="Candara"/>
              </a:rPr>
              <a:t>Or the US meets her neighbors to the South.</a:t>
            </a:r>
            <a:endParaRPr b="0" lang="en-US" sz="3000" spc="-1" strike="noStrike">
              <a:solidFill>
                <a:srgbClr val="000000"/>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Rectangle 2" descr=""/>
          <p:cNvPicPr/>
          <p:nvPr/>
        </p:nvPicPr>
        <p:blipFill>
          <a:blip r:embed="rId1"/>
          <a:stretch/>
        </p:blipFill>
        <p:spPr>
          <a:xfrm>
            <a:off x="682560" y="146160"/>
            <a:ext cx="7785000" cy="1182600"/>
          </a:xfrm>
          <a:prstGeom prst="rect">
            <a:avLst/>
          </a:prstGeom>
          <a:ln w="0">
            <a:noFill/>
          </a:ln>
        </p:spPr>
      </p:pic>
      <p:sp>
        <p:nvSpPr>
          <p:cNvPr id="88" name=""/>
          <p:cNvSpPr txBox="1"/>
          <p:nvPr/>
        </p:nvSpPr>
        <p:spPr>
          <a:xfrm>
            <a:off x="76320" y="1142640"/>
            <a:ext cx="4495680" cy="5715000"/>
          </a:xfrm>
          <a:prstGeom prst="rect">
            <a:avLst/>
          </a:prstGeom>
          <a:noFill/>
          <a:ln w="0">
            <a:noFill/>
          </a:ln>
        </p:spPr>
        <p:txBody>
          <a:bodyPr lIns="45720" rIns="45720" anchor="t">
            <a:normAutofit fontScale="91000"/>
          </a:bodyPr>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90s Spain had 2 colonies in the Western Hemi. __________&amp; __________________</a:t>
            </a:r>
            <a:endParaRPr b="0" lang="en-US" sz="28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bans respond with _____________ under leadership of:</a:t>
            </a:r>
            <a:endParaRPr b="0" lang="en-US" sz="28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ain responds by</a:t>
            </a:r>
            <a:endParaRPr b="0" lang="en-US" sz="2800" spc="-1" strike="noStrike">
              <a:solidFill>
                <a:srgbClr val="000000"/>
              </a:solidFill>
              <a:latin typeface="Candara"/>
            </a:endParaRPr>
          </a:p>
          <a:p>
            <a:pPr lvl="1" marL="506880" indent="-20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a:t>
            </a:r>
            <a:endParaRPr b="0" lang="en-US" sz="2400" spc="-1" strike="noStrike">
              <a:solidFill>
                <a:srgbClr val="000000"/>
              </a:solidFill>
              <a:latin typeface="Candara"/>
            </a:endParaRPr>
          </a:p>
          <a:p>
            <a:pPr lvl="1" marL="506880" indent="-207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a:t>
            </a:r>
            <a:endParaRPr b="0" lang="en-US" sz="2400" spc="-1" strike="noStrike">
              <a:solidFill>
                <a:srgbClr val="000000"/>
              </a:solidFill>
              <a:latin typeface="Candara"/>
            </a:endParaRPr>
          </a:p>
          <a:p>
            <a:pPr indent="9442620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ns sympathize w/:</a:t>
            </a:r>
            <a:endParaRPr b="0" lang="en-US" sz="2800" spc="-1" strike="noStrike">
              <a:solidFill>
                <a:srgbClr val="000000"/>
              </a:solidFill>
              <a:latin typeface="Candara"/>
            </a:endParaRPr>
          </a:p>
        </p:txBody>
      </p:sp>
      <p:pic>
        <p:nvPicPr>
          <p:cNvPr id="89" name="Picture 15" descr="http://upload.wikimedia.org/wikipedia/commons/d/dc/Spanish_Empire(Total_Expansion).jpg"/>
          <p:cNvPicPr/>
          <p:nvPr/>
        </p:nvPicPr>
        <p:blipFill>
          <a:blip r:embed="rId2"/>
          <a:srcRect l="0" t="24873" r="59621" b="0"/>
          <a:stretch/>
        </p:blipFill>
        <p:spPr>
          <a:xfrm>
            <a:off x="4724280" y="1436760"/>
            <a:ext cx="4267440" cy="542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Rectangle 2" descr=""/>
          <p:cNvPicPr/>
          <p:nvPr/>
        </p:nvPicPr>
        <p:blipFill>
          <a:blip r:embed="rId1"/>
          <a:stretch/>
        </p:blipFill>
        <p:spPr>
          <a:xfrm>
            <a:off x="682560" y="146160"/>
            <a:ext cx="7785000" cy="1182600"/>
          </a:xfrm>
          <a:prstGeom prst="rect">
            <a:avLst/>
          </a:prstGeom>
          <a:ln w="0">
            <a:noFill/>
          </a:ln>
        </p:spPr>
      </p:pic>
      <p:sp>
        <p:nvSpPr>
          <p:cNvPr id="91" name=""/>
          <p:cNvSpPr txBox="1"/>
          <p:nvPr/>
        </p:nvSpPr>
        <p:spPr>
          <a:xfrm>
            <a:off x="0" y="990360"/>
            <a:ext cx="5562720" cy="5715000"/>
          </a:xfrm>
          <a:prstGeom prst="rect">
            <a:avLst/>
          </a:prstGeom>
          <a:noFill/>
          <a:ln w="0">
            <a:noFill/>
          </a:ln>
        </p:spPr>
        <p:txBody>
          <a:bodyPr lIns="45720" rIns="4572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ournalists use ___________________: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o increas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explosion of the </a:t>
            </a:r>
            <a:r>
              <a:rPr b="0" i="1" lang="en-US" sz="2800" spc="-1" strike="noStrike">
                <a:solidFill>
                  <a:srgbClr val="000000"/>
                </a:solidFill>
                <a:latin typeface="Candara"/>
              </a:rPr>
              <a:t>Maine</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ttleship in:</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ain is ______ </a:t>
            </a:r>
            <a:endParaRPr b="0" lang="en-US" sz="2800" spc="-1" strike="noStrike">
              <a:solidFill>
                <a:srgbClr val="000000"/>
              </a:solidFill>
              <a:latin typeface="Candara"/>
            </a:endParaRPr>
          </a:p>
          <a:p>
            <a:pPr lvl="2" marL="469800" indent="-27288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ericans responded with _____________!</a:t>
            </a:r>
            <a:endParaRPr b="0" lang="en-US" sz="2800" spc="-1" strike="noStrike">
              <a:solidFill>
                <a:srgbClr val="000000"/>
              </a:solidFill>
              <a:latin typeface="Candara"/>
            </a:endParaRPr>
          </a:p>
        </p:txBody>
      </p:sp>
      <p:pic>
        <p:nvPicPr>
          <p:cNvPr id="92" name="Picture 5" descr="http://www.evesmag.com/hearstjournal.jpg"/>
          <p:cNvPicPr/>
          <p:nvPr/>
        </p:nvPicPr>
        <p:blipFill>
          <a:blip r:embed="rId2"/>
          <a:srcRect l="0" t="0" r="0" b="75770"/>
          <a:stretch/>
        </p:blipFill>
        <p:spPr>
          <a:xfrm>
            <a:off x="2836800" y="5257800"/>
            <a:ext cx="6307200" cy="1600200"/>
          </a:xfrm>
          <a:prstGeom prst="rect">
            <a:avLst/>
          </a:prstGeom>
          <a:ln w="0">
            <a:noFill/>
          </a:ln>
        </p:spPr>
      </p:pic>
      <p:pic>
        <p:nvPicPr>
          <p:cNvPr id="93" name="Picture 15" descr="http://www.evesmag.com/hearstjournal.jpg"/>
          <p:cNvPicPr/>
          <p:nvPr/>
        </p:nvPicPr>
        <p:blipFill>
          <a:blip r:embed="rId3"/>
          <a:srcRect l="3449" t="53507" r="5518" b="15925"/>
          <a:stretch/>
        </p:blipFill>
        <p:spPr>
          <a:xfrm>
            <a:off x="4038480" y="1447920"/>
            <a:ext cx="5029200" cy="176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Rectangle 2" descr=""/>
          <p:cNvPicPr/>
          <p:nvPr/>
        </p:nvPicPr>
        <p:blipFill>
          <a:blip r:embed="rId1"/>
          <a:stretch/>
        </p:blipFill>
        <p:spPr>
          <a:xfrm>
            <a:off x="1212840" y="-390600"/>
            <a:ext cx="7785000" cy="1189080"/>
          </a:xfrm>
          <a:prstGeom prst="rect">
            <a:avLst/>
          </a:prstGeom>
          <a:ln w="0">
            <a:noFill/>
          </a:ln>
        </p:spPr>
      </p:pic>
      <p:sp>
        <p:nvSpPr>
          <p:cNvPr id="95" name=""/>
          <p:cNvSpPr txBox="1"/>
          <p:nvPr/>
        </p:nvSpPr>
        <p:spPr>
          <a:xfrm>
            <a:off x="0" y="609480"/>
            <a:ext cx="4648320" cy="6019920"/>
          </a:xfrm>
          <a:prstGeom prst="rect">
            <a:avLst/>
          </a:prstGeom>
          <a:noFill/>
          <a:ln w="0">
            <a:noFill/>
          </a:ln>
        </p:spPr>
        <p:txBody>
          <a:bodyPr lIns="45720" rIns="45720" anchor="t">
            <a:normAutofit fontScale="92000"/>
          </a:bodyPr>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pril of 1898:</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recognizes ______’s right to:</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eller Amendment:</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famous </a:t>
            </a:r>
            <a:r>
              <a:rPr b="0" i="1" lang="en-US" sz="2800" spc="-1" strike="noStrike">
                <a:solidFill>
                  <a:srgbClr val="000000"/>
                </a:solidFill>
                <a:latin typeface="Candara"/>
              </a:rPr>
              <a:t>Rough Riders:</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 July US sinks:</a:t>
            </a:r>
            <a:endParaRPr b="0" lang="en-US" sz="2800" spc="-1" strike="noStrike">
              <a:solidFill>
                <a:srgbClr val="000000"/>
              </a:solidFill>
              <a:latin typeface="Candara"/>
            </a:endParaRPr>
          </a:p>
          <a:p>
            <a:pPr indent="954640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and Spain __________.</a:t>
            </a:r>
            <a:endParaRPr b="0" lang="en-US" sz="2800" spc="-1" strike="noStrike">
              <a:solidFill>
                <a:srgbClr val="000000"/>
              </a:solidFill>
              <a:latin typeface="Candara"/>
            </a:endParaRPr>
          </a:p>
        </p:txBody>
      </p:sp>
      <p:pic>
        <p:nvPicPr>
          <p:cNvPr id="96" name="Picture 9" descr="http://www.americancorner.org.tw/americaslibrary/assets/jb/progress/jb_progress_subj_m.jpg"/>
          <p:cNvPicPr/>
          <p:nvPr/>
        </p:nvPicPr>
        <p:blipFill>
          <a:blip r:embed="rId2"/>
          <a:stretch/>
        </p:blipFill>
        <p:spPr>
          <a:xfrm>
            <a:off x="5029200" y="1219320"/>
            <a:ext cx="3657600" cy="3657600"/>
          </a:xfrm>
          <a:prstGeom prst="rect">
            <a:avLst/>
          </a:prstGeom>
          <a:ln w="0">
            <a:noFill/>
          </a:ln>
        </p:spPr>
      </p:pic>
      <p:pic>
        <p:nvPicPr>
          <p:cNvPr id="97" name="Picture 11" descr="http://upload.wikimedia.org/wikipedia/commons/c/c3/Charge_of_the_Rough_Riders_at_San_Juan_Hill.JPG"/>
          <p:cNvPicPr/>
          <p:nvPr/>
        </p:nvPicPr>
        <p:blipFill>
          <a:blip r:embed="rId3"/>
          <a:stretch/>
        </p:blipFill>
        <p:spPr>
          <a:xfrm>
            <a:off x="-27000" y="2057400"/>
            <a:ext cx="9171000" cy="4800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7"/>
                                        </p:tgtEl>
                                        <p:attrNameLst>
                                          <p:attrName>style.visibility</p:attrName>
                                        </p:attrNameLst>
                                      </p:cBhvr>
                                      <p:to>
                                        <p:strVal val="visible"/>
                                      </p:to>
                                    </p:set>
                                    <p:animEffect filter="blinds(horizontal)" transition="in">
                                      <p:cBhvr additive="repl">
                                        <p:cTn id="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Rectangle 2" descr=""/>
          <p:cNvPicPr/>
          <p:nvPr/>
        </p:nvPicPr>
        <p:blipFill>
          <a:blip r:embed="rId1"/>
          <a:stretch/>
        </p:blipFill>
        <p:spPr>
          <a:xfrm>
            <a:off x="682560" y="146160"/>
            <a:ext cx="7785000" cy="1182600"/>
          </a:xfrm>
          <a:prstGeom prst="rect">
            <a:avLst/>
          </a:prstGeom>
          <a:ln w="0">
            <a:noFill/>
          </a:ln>
        </p:spPr>
      </p:pic>
      <p:sp>
        <p:nvSpPr>
          <p:cNvPr id="99" name=""/>
          <p:cNvSpPr txBox="1"/>
          <p:nvPr/>
        </p:nvSpPr>
        <p:spPr>
          <a:xfrm>
            <a:off x="0" y="990360"/>
            <a:ext cx="5562720" cy="5715000"/>
          </a:xfrm>
          <a:prstGeom prst="rect">
            <a:avLst/>
          </a:prstGeom>
          <a:noFill/>
          <a:ln w="0">
            <a:noFill/>
          </a:ln>
        </p:spPr>
        <p:txBody>
          <a:bodyPr lIns="45720" rIns="45720" anchor="t">
            <a:normAutofit fontScale="94000"/>
          </a:bodyPr>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slands in:</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en under _______control since 1500</a:t>
            </a:r>
            <a:endParaRPr b="0" lang="en-US" sz="2800" spc="-1" strike="noStrike">
              <a:solidFill>
                <a:srgbClr val="000000"/>
              </a:solidFill>
              <a:latin typeface="Candara"/>
            </a:endParaRPr>
          </a:p>
          <a:p>
            <a:pPr indent="975391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 not yet _________, ordered one of his commanders in secret to attack Spain’s fleet in ____________ if:</a:t>
            </a:r>
            <a:endParaRPr b="0" lang="en-US" sz="2800" spc="-1" strike="noStrike">
              <a:solidFill>
                <a:srgbClr val="000000"/>
              </a:solidFill>
              <a:latin typeface="Candara"/>
            </a:endParaRPr>
          </a:p>
          <a:p>
            <a:pPr lvl="2" marL="441360" indent="-25632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____________take control of Manila Bay</a:t>
            </a:r>
            <a:endParaRPr b="0" lang="en-US" sz="2800" spc="-1" strike="noStrike">
              <a:solidFill>
                <a:srgbClr val="000000"/>
              </a:solidFill>
              <a:latin typeface="Candara"/>
            </a:endParaRPr>
          </a:p>
          <a:p>
            <a:pPr lvl="2" marL="441360" indent="-256320">
              <a:buClr>
                <a:srgbClr val="ad2e2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a singl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ndara"/>
            </a:endParaRPr>
          </a:p>
        </p:txBody>
      </p:sp>
      <p:pic>
        <p:nvPicPr>
          <p:cNvPr id="100" name="Picture 2" descr="http://www.homeofheroes.com/wallofhonor/spanish_am/images/03_victory_newspaper.jpg"/>
          <p:cNvPicPr/>
          <p:nvPr/>
        </p:nvPicPr>
        <p:blipFill>
          <a:blip r:embed="rId2"/>
          <a:stretch/>
        </p:blipFill>
        <p:spPr>
          <a:xfrm>
            <a:off x="6696000" y="1143000"/>
            <a:ext cx="2448000" cy="3048120"/>
          </a:xfrm>
          <a:prstGeom prst="rect">
            <a:avLst/>
          </a:prstGeom>
          <a:ln w="0">
            <a:noFill/>
          </a:ln>
        </p:spPr>
      </p:pic>
      <p:pic>
        <p:nvPicPr>
          <p:cNvPr id="101" name="Picture 4" descr="http://ilanziv.files.wordpress.com/2008/11/map-philippines.gif"/>
          <p:cNvPicPr/>
          <p:nvPr/>
        </p:nvPicPr>
        <p:blipFill>
          <a:blip r:embed="rId3"/>
          <a:stretch/>
        </p:blipFill>
        <p:spPr>
          <a:xfrm>
            <a:off x="5257800" y="3809880"/>
            <a:ext cx="2752560" cy="304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Rectangle 2" descr=""/>
          <p:cNvPicPr/>
          <p:nvPr/>
        </p:nvPicPr>
        <p:blipFill>
          <a:blip r:embed="rId1"/>
          <a:stretch/>
        </p:blipFill>
        <p:spPr>
          <a:xfrm>
            <a:off x="682560" y="146160"/>
            <a:ext cx="7785000" cy="1182600"/>
          </a:xfrm>
          <a:prstGeom prst="rect">
            <a:avLst/>
          </a:prstGeom>
          <a:ln w="0">
            <a:noFill/>
          </a:ln>
        </p:spPr>
      </p:pic>
      <p:sp>
        <p:nvSpPr>
          <p:cNvPr id="103" name=""/>
          <p:cNvSpPr txBox="1"/>
          <p:nvPr/>
        </p:nvSpPr>
        <p:spPr>
          <a:xfrm>
            <a:off x="0" y="1142640"/>
            <a:ext cx="4495680" cy="5715000"/>
          </a:xfrm>
          <a:prstGeom prst="rect">
            <a:avLst/>
          </a:prstGeom>
          <a:noFill/>
          <a:ln w="0">
            <a:noFill/>
          </a:ln>
        </p:spPr>
        <p:txBody>
          <a:bodyPr lIns="45720" rIns="45720" anchor="t">
            <a:normAutofit fontScale="88000"/>
          </a:bodyPr>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was __________ for war</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1) </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2)</a:t>
            </a:r>
            <a:endParaRPr b="0" lang="en-US" sz="2800" spc="-1" strike="noStrike">
              <a:solidFill>
                <a:srgbClr val="000000"/>
              </a:solidFill>
              <a:latin typeface="Candara"/>
            </a:endParaRPr>
          </a:p>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netary cost:</a:t>
            </a:r>
            <a:endParaRPr b="0" lang="en-US" sz="2800" spc="-1" strike="noStrike">
              <a:solidFill>
                <a:srgbClr val="000000"/>
              </a:solidFill>
              <a:latin typeface="Candara"/>
            </a:endParaRPr>
          </a:p>
          <a:p>
            <a:pPr indent="9131328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is now an ____________________ nation</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1) US gains _______ for trade</a:t>
            </a:r>
            <a:endParaRPr b="0" lang="en-US" sz="2800" spc="-1" strike="noStrike">
              <a:solidFill>
                <a:srgbClr val="000000"/>
              </a:solidFill>
              <a:latin typeface="Candar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2) Also gains:</a:t>
            </a:r>
            <a:endParaRPr b="0" lang="en-US" sz="2800" spc="-1" strike="noStrike">
              <a:solidFill>
                <a:srgbClr val="000000"/>
              </a:solidFill>
              <a:latin typeface="Candara"/>
            </a:endParaRPr>
          </a:p>
        </p:txBody>
      </p:sp>
      <p:pic>
        <p:nvPicPr>
          <p:cNvPr id="104" name="Picture 7" descr="http://www.historycooperative.org/journals/jah/88.4/images/kramer_f2.jpg"/>
          <p:cNvPicPr/>
          <p:nvPr/>
        </p:nvPicPr>
        <p:blipFill>
          <a:blip r:embed="rId2"/>
          <a:srcRect l="46585" t="0" r="0" b="0"/>
          <a:stretch/>
        </p:blipFill>
        <p:spPr>
          <a:xfrm>
            <a:off x="4648320" y="1585800"/>
            <a:ext cx="4495680" cy="52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6" descr="http://upload.wikimedia.org/wikipedia/en/thumb/d/d9/CommunistSplit.png/800px-CommunistSplit.png"/>
          <p:cNvPicPr/>
          <p:nvPr/>
        </p:nvPicPr>
        <p:blipFill>
          <a:blip r:embed="rId1"/>
          <a:srcRect l="0" t="0" r="67369" b="0"/>
          <a:stretch/>
        </p:blipFill>
        <p:spPr>
          <a:xfrm>
            <a:off x="5257800" y="1419120"/>
            <a:ext cx="3809880" cy="5438880"/>
          </a:xfrm>
          <a:prstGeom prst="rect">
            <a:avLst/>
          </a:prstGeom>
          <a:ln w="0">
            <a:noFill/>
          </a:ln>
        </p:spPr>
      </p:pic>
      <p:pic>
        <p:nvPicPr>
          <p:cNvPr id="106" name="Rectangle 2" descr=""/>
          <p:cNvPicPr/>
          <p:nvPr/>
        </p:nvPicPr>
        <p:blipFill>
          <a:blip r:embed="rId2"/>
          <a:stretch/>
        </p:blipFill>
        <p:spPr>
          <a:xfrm>
            <a:off x="682560" y="146160"/>
            <a:ext cx="7785000" cy="1182600"/>
          </a:xfrm>
          <a:prstGeom prst="rect">
            <a:avLst/>
          </a:prstGeom>
          <a:ln w="0">
            <a:noFill/>
          </a:ln>
        </p:spPr>
      </p:pic>
      <p:sp>
        <p:nvSpPr>
          <p:cNvPr id="107" name=""/>
          <p:cNvSpPr txBox="1"/>
          <p:nvPr/>
        </p:nvSpPr>
        <p:spPr>
          <a:xfrm>
            <a:off x="0" y="1142640"/>
            <a:ext cx="4495680" cy="5715000"/>
          </a:xfrm>
          <a:prstGeom prst="rect">
            <a:avLst/>
          </a:prstGeom>
          <a:noFill/>
          <a:ln w="0">
            <a:noFill/>
          </a:ln>
        </p:spPr>
        <p:txBody>
          <a:bodyPr lIns="45720" rIns="45720" anchor="t">
            <a:normAutofit/>
          </a:bodyPr>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ad to give up ______&amp; cede ______ ______, ____&amp; _____________ to US.</a:t>
            </a:r>
            <a:endParaRPr b="0" lang="en-US" sz="2800" spc="-1" strike="noStrike">
              <a:solidFill>
                <a:srgbClr val="000000"/>
              </a:solidFill>
              <a:latin typeface="Candara"/>
            </a:endParaRPr>
          </a:p>
          <a:p>
            <a:pPr indent="103765320">
              <a:buClr>
                <a:srgbClr val="ad2e2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paid Spain $20 Million for _________________. </a:t>
            </a:r>
            <a:endParaRPr b="0" lang="en-US" sz="2800" spc="-1" strike="noStrike">
              <a:solidFill>
                <a:srgbClr val="000000"/>
              </a:solidFill>
              <a:latin typeface="Candara"/>
            </a:endParaRPr>
          </a:p>
        </p:txBody>
      </p:sp>
      <p:pic>
        <p:nvPicPr>
          <p:cNvPr id="108" name="Picture 10" descr="http://www.oxfam.org.au/world/asia/asiamap.gif"/>
          <p:cNvPicPr/>
          <p:nvPr/>
        </p:nvPicPr>
        <p:blipFill>
          <a:blip r:embed="rId3"/>
          <a:srcRect l="13715" t="22505" r="0" b="0"/>
          <a:stretch/>
        </p:blipFill>
        <p:spPr>
          <a:xfrm>
            <a:off x="4648320" y="4114800"/>
            <a:ext cx="3046320" cy="2743200"/>
          </a:xfrm>
          <a:prstGeom prst="rect">
            <a:avLst/>
          </a:prstGeom>
          <a:ln w="0">
            <a:noFill/>
          </a:ln>
        </p:spPr>
      </p:pic>
      <p:sp>
        <p:nvSpPr>
          <p:cNvPr id="109" name="Ink 4"/>
          <p:cNvSpPr/>
          <p:nvPr/>
        </p:nvSpPr>
        <p:spPr>
          <a:xfrm>
            <a:off x="6093000" y="5075280"/>
            <a:ext cx="822240" cy="754200"/>
          </a:xfrm>
          <a:custGeom>
            <a:avLst/>
            <a:gdLst/>
            <a:ahLst/>
            <a:rect l="l" t="t" r="r" b="b"/>
            <a:pathLst>
              <a:path w="2287" h="2096">
                <a:moveTo>
                  <a:pt x="19209" y="14478"/>
                </a:moveTo>
                <a:cubicBezTo>
                  <a:pt x="19184" y="14439"/>
                  <a:pt x="19208" y="14411"/>
                  <a:pt x="19177" y="14383"/>
                </a:cubicBezTo>
                <a:cubicBezTo>
                  <a:pt x="19149" y="14357"/>
                  <a:pt x="19059" y="14311"/>
                  <a:pt x="19018" y="14288"/>
                </a:cubicBezTo>
                <a:cubicBezTo>
                  <a:pt x="18961" y="14255"/>
                  <a:pt x="18914" y="14215"/>
                  <a:pt x="18860" y="14192"/>
                </a:cubicBezTo>
                <a:cubicBezTo>
                  <a:pt x="18827" y="14178"/>
                  <a:pt x="18765" y="14164"/>
                  <a:pt x="18732" y="14160"/>
                </a:cubicBezTo>
                <a:cubicBezTo>
                  <a:pt x="18679" y="14153"/>
                  <a:pt x="18613" y="14134"/>
                  <a:pt x="18574" y="14129"/>
                </a:cubicBezTo>
                <a:cubicBezTo>
                  <a:pt x="18502" y="14120"/>
                  <a:pt x="18409" y="14104"/>
                  <a:pt x="18352" y="14097"/>
                </a:cubicBezTo>
                <a:cubicBezTo>
                  <a:pt x="17891" y="14041"/>
                  <a:pt x="17388" y="14097"/>
                  <a:pt x="16923" y="14097"/>
                </a:cubicBezTo>
                <a:cubicBezTo>
                  <a:pt x="16923" y="14447"/>
                  <a:pt x="16733" y="15701"/>
                  <a:pt x="16954" y="15938"/>
                </a:cubicBezTo>
                <a:cubicBezTo>
                  <a:pt x="16954" y="15938"/>
                  <a:pt x="17040" y="15996"/>
                  <a:pt x="17050" y="16002"/>
                </a:cubicBezTo>
                <a:cubicBezTo>
                  <a:pt x="17089" y="16025"/>
                  <a:pt x="17131" y="16037"/>
                  <a:pt x="17177" y="16066"/>
                </a:cubicBezTo>
                <a:cubicBezTo>
                  <a:pt x="17214" y="16089"/>
                  <a:pt x="17265" y="16080"/>
                  <a:pt x="17304" y="16097"/>
                </a:cubicBezTo>
                <a:cubicBezTo>
                  <a:pt x="17330" y="16108"/>
                  <a:pt x="17370" y="16109"/>
                  <a:pt x="17399" y="16129"/>
                </a:cubicBezTo>
                <a:cubicBezTo>
                  <a:pt x="17461" y="16171"/>
                  <a:pt x="17453" y="16181"/>
                  <a:pt x="17526" y="16192"/>
                </a:cubicBezTo>
                <a:cubicBezTo>
                  <a:pt x="17819" y="16236"/>
                  <a:pt x="18438" y="16258"/>
                  <a:pt x="18669" y="16161"/>
                </a:cubicBezTo>
                <a:cubicBezTo>
                  <a:pt x="18720" y="16139"/>
                  <a:pt x="18781" y="16104"/>
                  <a:pt x="18828" y="16066"/>
                </a:cubicBezTo>
                <a:cubicBezTo>
                  <a:pt x="18874" y="16029"/>
                  <a:pt x="18895" y="15972"/>
                  <a:pt x="18923" y="15938"/>
                </a:cubicBezTo>
                <a:cubicBezTo>
                  <a:pt x="18973" y="15878"/>
                  <a:pt x="19003" y="15850"/>
                  <a:pt x="19018" y="15780"/>
                </a:cubicBezTo>
                <a:cubicBezTo>
                  <a:pt x="19029" y="15725"/>
                  <a:pt x="19039" y="15707"/>
                  <a:pt x="19050" y="15684"/>
                </a:cubicBezTo>
                <a:cubicBezTo>
                  <a:pt x="19082" y="15618"/>
                  <a:pt x="19079" y="15610"/>
                  <a:pt x="19082" y="15526"/>
                </a:cubicBezTo>
                <a:cubicBezTo>
                  <a:pt x="19085" y="15446"/>
                  <a:pt x="19106" y="15367"/>
                  <a:pt x="19114" y="15304"/>
                </a:cubicBezTo>
                <a:cubicBezTo>
                  <a:pt x="19154" y="14987"/>
                  <a:pt x="19114" y="14638"/>
                  <a:pt x="19114" y="1431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 name="Ink 5"/>
          <p:cNvSpPr/>
          <p:nvPr/>
        </p:nvSpPr>
        <p:spPr>
          <a:xfrm>
            <a:off x="7635960" y="3749760"/>
            <a:ext cx="102960" cy="125280"/>
          </a:xfrm>
          <a:custGeom>
            <a:avLst/>
            <a:gdLst/>
            <a:ahLst/>
            <a:rect l="l" t="t" r="r" b="b"/>
            <a:pathLst>
              <a:path w="287" h="350">
                <a:moveTo>
                  <a:pt x="21463" y="10541"/>
                </a:moveTo>
                <a:cubicBezTo>
                  <a:pt x="21463" y="10509"/>
                  <a:pt x="21463" y="10499"/>
                  <a:pt x="21463" y="10478"/>
                </a:cubicBezTo>
                <a:cubicBezTo>
                  <a:pt x="21423" y="10478"/>
                  <a:pt x="21379" y="10467"/>
                  <a:pt x="21368" y="10446"/>
                </a:cubicBezTo>
                <a:cubicBezTo>
                  <a:pt x="21346" y="10402"/>
                  <a:pt x="21334" y="10414"/>
                  <a:pt x="21272" y="10414"/>
                </a:cubicBezTo>
                <a:cubicBezTo>
                  <a:pt x="21241" y="10414"/>
                  <a:pt x="21230" y="10414"/>
                  <a:pt x="21209" y="10414"/>
                </a:cubicBezTo>
                <a:cubicBezTo>
                  <a:pt x="21209" y="10530"/>
                  <a:pt x="21209" y="10647"/>
                  <a:pt x="21209" y="10763"/>
                </a:cubicBezTo>
                <a:cubicBezTo>
                  <a:pt x="21294" y="10763"/>
                  <a:pt x="21378" y="10763"/>
                  <a:pt x="21463" y="10763"/>
                </a:cubicBezTo>
                <a:cubicBezTo>
                  <a:pt x="21463" y="10692"/>
                  <a:pt x="21488" y="10720"/>
                  <a:pt x="21495" y="10668"/>
                </a:cubicBezTo>
                <a:cubicBezTo>
                  <a:pt x="21501" y="10617"/>
                  <a:pt x="21495" y="10561"/>
                  <a:pt x="21495" y="10509"/>
                </a:cubicBezTo>
              </a:path>
            </a:pathLst>
          </a:custGeom>
          <a:noFill/>
          <a:ln cap="rnd"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Ink 6"/>
          <p:cNvSpPr/>
          <p:nvPr/>
        </p:nvSpPr>
        <p:spPr>
          <a:xfrm>
            <a:off x="7105680" y="5715000"/>
            <a:ext cx="57240" cy="69840"/>
          </a:xfrm>
          <a:custGeom>
            <a:avLst/>
            <a:gdLst/>
            <a:ahLst/>
            <a:rect l="l" t="t" r="r" b="b"/>
            <a:pathLst>
              <a:path w="159" h="192">
                <a:moveTo>
                  <a:pt x="19114" y="15875"/>
                </a:moveTo>
                <a:cubicBezTo>
                  <a:pt x="19098" y="15924"/>
                  <a:pt x="19082" y="15901"/>
                  <a:pt x="19082" y="15970"/>
                </a:cubicBezTo>
                <a:cubicBezTo>
                  <a:pt x="19082" y="16002"/>
                  <a:pt x="19082" y="16013"/>
                  <a:pt x="19082" y="16034"/>
                </a:cubicBezTo>
                <a:cubicBezTo>
                  <a:pt x="19138" y="16034"/>
                  <a:pt x="19233" y="16058"/>
                  <a:pt x="19240" y="16002"/>
                </a:cubicBezTo>
                <a:cubicBezTo>
                  <a:pt x="19246" y="15950"/>
                  <a:pt x="19248" y="15951"/>
                  <a:pt x="19209" y="15938"/>
                </a:cubicBezTo>
                <a:cubicBezTo>
                  <a:pt x="19161" y="15954"/>
                  <a:pt x="19161" y="15986"/>
                  <a:pt x="19209" y="16002"/>
                </a:cubicBezTo>
              </a:path>
              <a:path w="159" h="192">
                <a:moveTo>
                  <a:pt x="19209" y="15907"/>
                </a:moveTo>
                <a:cubicBezTo>
                  <a:pt x="19209" y="15936"/>
                  <a:pt x="19209" y="16109"/>
                  <a:pt x="19209" y="16034"/>
                </a:cubicBezTo>
                <a:cubicBezTo>
                  <a:pt x="19209" y="15984"/>
                  <a:pt x="19229" y="15945"/>
                  <a:pt x="19177" y="15938"/>
                </a:cubicBezTo>
                <a:cubicBezTo>
                  <a:pt x="19145" y="15938"/>
                  <a:pt x="19135" y="15938"/>
                  <a:pt x="19114" y="15938"/>
                </a:cubicBezTo>
                <a:cubicBezTo>
                  <a:pt x="19131" y="15990"/>
                  <a:pt x="19128" y="15950"/>
                  <a:pt x="19145" y="16002"/>
                </a:cubicBezTo>
              </a:path>
            </a:pathLst>
          </a:custGeom>
          <a:noFill/>
          <a:ln cap="rnd" w="19080">
            <a:solidFill>
              <a:srgbClr val="ff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http://upload.wikimedia.org/wikipedia/commons/1/16/Platt_amendment_page_1.jpg"/>
          <p:cNvPicPr/>
          <p:nvPr/>
        </p:nvPicPr>
        <p:blipFill>
          <a:blip r:embed="rId1"/>
          <a:stretch/>
        </p:blipFill>
        <p:spPr>
          <a:xfrm>
            <a:off x="5410080" y="1447920"/>
            <a:ext cx="2838600" cy="3752640"/>
          </a:xfrm>
          <a:prstGeom prst="rect">
            <a:avLst/>
          </a:prstGeom>
          <a:ln w="0">
            <a:noFill/>
          </a:ln>
        </p:spPr>
      </p:pic>
      <p:pic>
        <p:nvPicPr>
          <p:cNvPr id="113" name="Rectangle 2" descr=""/>
          <p:cNvPicPr/>
          <p:nvPr/>
        </p:nvPicPr>
        <p:blipFill>
          <a:blip r:embed="rId2"/>
          <a:stretch/>
        </p:blipFill>
        <p:spPr>
          <a:xfrm>
            <a:off x="682560" y="146160"/>
            <a:ext cx="7785000" cy="1182600"/>
          </a:xfrm>
          <a:prstGeom prst="rect">
            <a:avLst/>
          </a:prstGeom>
          <a:ln w="0">
            <a:noFill/>
          </a:ln>
        </p:spPr>
      </p:pic>
      <p:sp>
        <p:nvSpPr>
          <p:cNvPr id="114" name=""/>
          <p:cNvSpPr txBox="1"/>
          <p:nvPr/>
        </p:nvSpPr>
        <p:spPr>
          <a:xfrm>
            <a:off x="0" y="1142640"/>
            <a:ext cx="4495680" cy="5715000"/>
          </a:xfrm>
          <a:prstGeom prst="rect">
            <a:avLst/>
          </a:prstGeom>
          <a:noFill/>
          <a:ln w="0">
            <a:noFill/>
          </a:ln>
        </p:spPr>
        <p:txBody>
          <a:bodyPr lIns="45720" rIns="45720" anchor="t">
            <a:normAutofit/>
          </a:bodyPr>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 helps Cuba draft a ________________ which includes the Platt Amendment b/c:</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r>
              <a:rPr b="0" lang="en-US" sz="2800" spc="-1" strike="noStrike">
                <a:solidFill>
                  <a:srgbClr val="000000"/>
                </a:solidFill>
                <a:latin typeface="Candara"/>
              </a:rPr>
              <a:t>the Amendment:</a:t>
            </a:r>
            <a:endParaRPr b="0" lang="en-US" sz="2800" spc="-1" strike="noStrike">
              <a:solidFill>
                <a:srgbClr val="000000"/>
              </a:solidFill>
              <a:latin typeface="Candar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ndara"/>
            </a:endParaRPr>
          </a:p>
          <a:p>
            <a:pPr marL="533520" indent="-533520">
              <a:buClr>
                <a:srgbClr val="ad2e27"/>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tectorate:  </a:t>
            </a:r>
            <a:endParaRPr b="0" lang="en-US" sz="2800" spc="-1" strike="noStrike">
              <a:solidFill>
                <a:srgbClr val="000000"/>
              </a:solidFill>
              <a:latin typeface="Candara"/>
            </a:endParaRPr>
          </a:p>
        </p:txBody>
      </p:sp>
      <p:pic>
        <p:nvPicPr>
          <p:cNvPr id="115" name="Picture 5" descr="http://www.smplanet.com/imperialism/gifs/cartoon.gif"/>
          <p:cNvPicPr/>
          <p:nvPr/>
        </p:nvPicPr>
        <p:blipFill>
          <a:blip r:embed="rId3"/>
          <a:stretch/>
        </p:blipFill>
        <p:spPr>
          <a:xfrm>
            <a:off x="0" y="1765440"/>
            <a:ext cx="9144000" cy="5092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14:10:34Z</dcterms:created>
  <dc:creator>Christine Sturges</dc:creator>
  <dc:description/>
  <dc:language>en-US</dc:language>
  <cp:lastModifiedBy>IT Clone User</cp:lastModifiedBy>
  <dcterms:modified xsi:type="dcterms:W3CDTF">2009-11-13T21:06:11Z</dcterms:modified>
  <cp:revision>223</cp:revision>
  <dc:subject/>
  <dc:title>Spanish Imperialism, Cuban Rebellion, US Imperialism:</dc:title>
</cp:coreProperties>
</file>