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D54C-55B4-4955-8DBD-B57543FE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5A79-0371-4363-B637-DEDA1DF5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AC1-C455-4F08-8C21-3F17A2E5E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5D83-919A-49FF-99E2-F96FAB27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344D-1035-4969-9BDC-63047F2F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70D3-9831-463A-A208-EA9C225A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5F5-CFCC-4719-832E-1EAB2AC5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8CC8-B3FE-4B27-88BD-DB3CC309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F1F-4E7A-4DFF-8E2B-9B92C43E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456B-34DD-4277-AA72-EF6F06B4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3DB2-6394-42A3-91E2-0CBA3C8E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D66-B3A4-4D7B-BC14-EEC4208D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5C7A-19F0-429A-9E7C-BF35B8482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Journ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1/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Arial"/>
              </a:rPr>
              <a:t>Turn to page 57 in your book. Read this excerpt from the Salem Witch Trials. Answer the questions in the </a:t>
            </a:r>
            <a:r>
              <a:rPr b="0" i="1" lang="en-US" sz="3200" spc="-1" strike="noStrike">
                <a:solidFill>
                  <a:srgbClr val="f2f2f2"/>
                </a:solidFill>
                <a:latin typeface="Arial"/>
              </a:rPr>
              <a:t>Reading Like a Historian </a:t>
            </a:r>
            <a:r>
              <a:rPr b="0" lang="en-US" sz="3200" spc="-1" strike="noStrike">
                <a:solidFill>
                  <a:srgbClr val="f2f2f2"/>
                </a:solidFill>
                <a:latin typeface="Arial"/>
              </a:rPr>
              <a:t>section at the bottom of the p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Georg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838080" y="11430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</a:rPr>
              <a:t>buffer zone bt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</a:rPr>
              <a:t>James Oglethro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</a:rPr>
              <a:t>Did n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</a:rPr>
              <a:t>Did n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</a:rPr>
              <a:t>Early settlers inclu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.</a:t>
            </a:r>
            <a:r>
              <a:rPr b="0" lang="en-U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Times New Roman"/>
              </a:rPr>
              <a:t>Englishmen in 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b.</a:t>
            </a:r>
            <a:r>
              <a:rPr b="0" lang="en-U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Times New Roman"/>
              </a:rPr>
              <a:t>The very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.</a:t>
            </a:r>
            <a:r>
              <a:rPr b="0" lang="en-U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Times New Roman"/>
              </a:rPr>
              <a:t>Religious refug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http://www.waterfordlifestyle.com/images/maps/east-coast2.jpg"/>
          <p:cNvPicPr/>
          <p:nvPr/>
        </p:nvPicPr>
        <p:blipFill>
          <a:blip r:embed="rId1"/>
          <a:srcRect l="8404" t="18740" r="15133" b="1159"/>
          <a:stretch/>
        </p:blipFill>
        <p:spPr>
          <a:xfrm>
            <a:off x="4648320" y="1295280"/>
            <a:ext cx="4190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ddle and Southern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York, New Jersey, Delaware, North&amp;South Carolina, Pennsylvania, Maryland, Geo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New kinds of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English Civil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Proprietary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Given to supporters o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Different from Joint-Stock companies b/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The Middle Colonies"/>
          <p:cNvPicPr/>
          <p:nvPr/>
        </p:nvPicPr>
        <p:blipFill>
          <a:blip r:embed="rId1"/>
          <a:stretch/>
        </p:blipFill>
        <p:spPr>
          <a:xfrm>
            <a:off x="5257800" y="1447920"/>
            <a:ext cx="35244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New Yor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686160" y="1143000"/>
            <a:ext cx="5791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Times New Roman"/>
              </a:rPr>
              <a:t>James, Duke of York is ________’s br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Times New Roman"/>
              </a:rPr>
              <a:t>Very 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</a:rPr>
              <a:t>Allow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Times New Roman"/>
              </a:rPr>
              <a:t>Small plot of land is given to Sir George Carteret; this is now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skreb.co.uk/Duke%20of%20York%20and%20Albany.jpg"/>
          <p:cNvPicPr/>
          <p:nvPr/>
        </p:nvPicPr>
        <p:blipFill>
          <a:blip r:embed="rId1"/>
          <a:stretch/>
        </p:blipFill>
        <p:spPr>
          <a:xfrm>
            <a:off x="5308560" y="1752480"/>
            <a:ext cx="3835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Pennsylvan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53388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</a:rPr>
              <a:t>William Penn _____for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Safe haven for_______ who we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Don’t fol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Believed in equality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acifists who ref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s ___________ as R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</a:rPr>
              <a:t>Charter of Liberties sets u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www.americanrevolution.com/images/WilliamPennLastFarewell.jpg"/>
          <p:cNvPicPr/>
          <p:nvPr/>
        </p:nvPicPr>
        <p:blipFill>
          <a:blip r:embed="rId1"/>
          <a:stretch/>
        </p:blipFill>
        <p:spPr>
          <a:xfrm>
            <a:off x="5867280" y="2247840"/>
            <a:ext cx="32767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maps4.com/delaware_map.gif"/>
          <p:cNvPicPr/>
          <p:nvPr/>
        </p:nvPicPr>
        <p:blipFill>
          <a:blip r:embed="rId1"/>
          <a:srcRect l="10454" t="10454" r="5966" b="11945"/>
          <a:stretch/>
        </p:blipFill>
        <p:spPr>
          <a:xfrm>
            <a:off x="5181480" y="3352680"/>
            <a:ext cx="3962520" cy="3505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Dela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90720"/>
            <a:ext cx="5410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William Penn persuades the Duke of ________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enn wants Delaware b/c it would connect ________________to the Atlanti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1/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go back in time and find yourself in the colony of Jamestown. A magical wizard gives you the option of staying where you are or moving to another of the 13 original colonies; if you leave where do you go and why? If you stay tell me w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Carol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838440" y="1218960"/>
            <a:ext cx="5105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</a:rPr>
              <a:t>Named aft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</a:rPr>
              <a:t>Offered religious tolerance to all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</a:rPr>
              <a:t>2 regions of Carolina develo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</a:rPr>
              <a:t>S.Carolin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</a:rPr>
              <a:t>N.Carolin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ttp://www.travel-as-you-like-it.com/Resorts/carolinas/images/carolinas_map.gif"/>
          <p:cNvPicPr/>
          <p:nvPr/>
        </p:nvPicPr>
        <p:blipFill>
          <a:blip r:embed="rId1"/>
          <a:stretch/>
        </p:blipFill>
        <p:spPr>
          <a:xfrm>
            <a:off x="4191120" y="1905120"/>
            <a:ext cx="495288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Maryl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762480" y="11430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Times New Roman"/>
              </a:rPr>
              <a:t>Lord Baltimo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Times New Roman"/>
              </a:rPr>
              <a:t>Safe haven for Cathol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Times New Roman"/>
              </a:rPr>
              <a:t>_______________allows for all </a:t>
            </a:r>
            <a:r>
              <a:rPr b="0" i="1" lang="en-US" sz="4000" spc="-1" strike="noStrike">
                <a:solidFill>
                  <a:srgbClr val="f2f2f2"/>
                </a:solidFill>
                <a:latin typeface="Times New Roman"/>
              </a:rPr>
              <a:t>Christians</a:t>
            </a:r>
            <a:r>
              <a:rPr b="0" lang="en-US" sz="4000" spc="-1" strike="noStrike">
                <a:solidFill>
                  <a:srgbClr val="f2f2f2"/>
                </a:solidFill>
                <a:latin typeface="Times New Roman"/>
              </a:rPr>
              <a:t> to have religious freedoms in the col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The Southern Colonies"/>
          <p:cNvPicPr/>
          <p:nvPr/>
        </p:nvPicPr>
        <p:blipFill>
          <a:blip r:embed="rId1"/>
          <a:stretch/>
        </p:blipFill>
        <p:spPr>
          <a:xfrm>
            <a:off x="4952880" y="1295280"/>
            <a:ext cx="35244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1:37:50Z</dcterms:created>
  <dc:creator>Christine Sturges</dc:creator>
  <dc:description/>
  <dc:language>en-US</dc:language>
  <cp:lastModifiedBy>TPS</cp:lastModifiedBy>
  <dcterms:modified xsi:type="dcterms:W3CDTF">2009-01-23T20:25:43Z</dcterms:modified>
  <cp:revision>49</cp:revision>
  <dc:subject/>
  <dc:title>Middle and Southern Colonies</dc:title>
</cp:coreProperties>
</file>