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40D6-4903-4F97-887B-F640F3F9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540-ABD1-4DC3-9F8C-F605461E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C697-E683-411B-9ABB-F39FF9D3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9AB-5DAD-4FB2-9DA2-02ECAB29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6EB-7CFC-4F94-8FA4-C08C82B5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961D-50C2-4E45-BC66-C51BD721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E5B5-6857-45D6-ACF9-BFF4B3F4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B5D3-2201-4055-A922-D0AA716D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F4B-FE8F-4DF2-9558-E817CB05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107-10D2-4A04-806E-2235B250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748-F773-462C-9E79-3C9552ED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BBF1-98BB-4243-A75B-9C0D512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5A93-82F5-4DE8-BD02-3D587EB0C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Journ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1/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Arial"/>
              </a:rPr>
              <a:t>Turn to page 57 in your book. Read this excerpt from the Salem Witch Trials. Answer the questions in the </a:t>
            </a:r>
            <a:r>
              <a:rPr b="0" i="1" lang="en-US" sz="3200" spc="-1" strike="noStrike">
                <a:solidFill>
                  <a:srgbClr val="f2f2f2"/>
                </a:solidFill>
                <a:latin typeface="Arial"/>
              </a:rPr>
              <a:t>Reading Like a Historian </a:t>
            </a:r>
            <a:r>
              <a:rPr b="0" lang="en-US" sz="3200" spc="-1" strike="noStrike">
                <a:solidFill>
                  <a:srgbClr val="f2f2f2"/>
                </a:solidFill>
                <a:latin typeface="Arial"/>
              </a:rPr>
              <a:t>section at the bottom of the p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Georg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838080" y="1143000"/>
            <a:ext cx="5410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buffer zone bt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James Oglethro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Did n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Did no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Early settlers inclu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.</a:t>
            </a: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Englishmen in 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b.</a:t>
            </a: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The very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.</a:t>
            </a: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2f2f2"/>
                </a:solidFill>
                <a:latin typeface="Times New Roman"/>
              </a:rPr>
              <a:t>Religious refug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://www.waterfordlifestyle.com/images/maps/east-coast2.jpg"/>
          <p:cNvPicPr/>
          <p:nvPr/>
        </p:nvPicPr>
        <p:blipFill>
          <a:blip r:embed="rId1"/>
          <a:srcRect l="8404" t="18740" r="15133" b="1159"/>
          <a:stretch/>
        </p:blipFill>
        <p:spPr>
          <a:xfrm>
            <a:off x="4648320" y="1295280"/>
            <a:ext cx="4190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ddle and Southern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York, New Jersey, Delaware, North&amp;South Carolina, Pennsylvania, Maryland, Geor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Arial"/>
              </a:rPr>
              <a:t>New kinds of colon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English Civil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Proprietary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Given to supporters o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2f2f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Arial"/>
              </a:rPr>
              <a:t>Different from Joint-Stock companies b/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The Middle Colonies"/>
          <p:cNvPicPr/>
          <p:nvPr/>
        </p:nvPicPr>
        <p:blipFill>
          <a:blip r:embed="rId1"/>
          <a:stretch/>
        </p:blipFill>
        <p:spPr>
          <a:xfrm>
            <a:off x="5257800" y="1447920"/>
            <a:ext cx="35244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New Y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686160" y="1143000"/>
            <a:ext cx="5791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James, Duke of York is ________’s bro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Very 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Allow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Small plot of land is given to Sir George Carteret; this is now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www.skreb.co.uk/Duke%20of%20York%20and%20Albany.jpg"/>
          <p:cNvPicPr/>
          <p:nvPr/>
        </p:nvPicPr>
        <p:blipFill>
          <a:blip r:embed="rId1"/>
          <a:stretch/>
        </p:blipFill>
        <p:spPr>
          <a:xfrm>
            <a:off x="5308560" y="1752480"/>
            <a:ext cx="3835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Pennsylvan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53388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William Penn _____for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Safe haven for_______ who we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Don’t fol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Believed in equality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acifists who ref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s ___________ as R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Charter of Liberties sets u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americanrevolution.com/images/WilliamPennLastFarewell.jpg"/>
          <p:cNvPicPr/>
          <p:nvPr/>
        </p:nvPicPr>
        <p:blipFill>
          <a:blip r:embed="rId1"/>
          <a:stretch/>
        </p:blipFill>
        <p:spPr>
          <a:xfrm>
            <a:off x="5867280" y="2247840"/>
            <a:ext cx="32767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maps4.com/delaware_map.gif"/>
          <p:cNvPicPr/>
          <p:nvPr/>
        </p:nvPicPr>
        <p:blipFill>
          <a:blip r:embed="rId1"/>
          <a:srcRect l="10454" t="10454" r="5966" b="11945"/>
          <a:stretch/>
        </p:blipFill>
        <p:spPr>
          <a:xfrm>
            <a:off x="5181480" y="335268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Dela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990720"/>
            <a:ext cx="54100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William Penn persuades the Duke of ________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enn wants Delaware b/c it would connect ________________to the Atlanti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1/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 go back in time and find yourself in the colony of Jamestown. A magical wizard gives you the option of staying where you are or moving to another of the 13 original colonies; if you leave where do you go and why? If you stay tell me wh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Carol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838440" y="1218960"/>
            <a:ext cx="5105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Named aft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Offered religious tolerance to all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2 regions of Carolina develop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S.Caroli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2f2f2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f2f2"/>
                </a:solidFill>
                <a:latin typeface="Times New Roman"/>
              </a:rPr>
              <a:t>N.Caroli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ttp://www.travel-as-you-like-it.com/Resorts/carolinas/images/carolinas_map.gif"/>
          <p:cNvPicPr/>
          <p:nvPr/>
        </p:nvPicPr>
        <p:blipFill>
          <a:blip r:embed="rId1"/>
          <a:stretch/>
        </p:blipFill>
        <p:spPr>
          <a:xfrm>
            <a:off x="4191120" y="1905120"/>
            <a:ext cx="49528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2f2f2"/>
                </a:solidFill>
                <a:latin typeface="Times New Roman"/>
              </a:rPr>
              <a:t>Maryla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762480" y="11430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Lord Baltimo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Safe haven for Cathol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_______________allows for all </a:t>
            </a:r>
            <a:r>
              <a:rPr b="0" i="1" lang="en-US" sz="4000" spc="-1" strike="noStrike">
                <a:solidFill>
                  <a:srgbClr val="f2f2f2"/>
                </a:solidFill>
                <a:latin typeface="Times New Roman"/>
              </a:rPr>
              <a:t>Christians</a:t>
            </a:r>
            <a:r>
              <a:rPr b="0" lang="en-US" sz="4000" spc="-1" strike="noStrike">
                <a:solidFill>
                  <a:srgbClr val="f2f2f2"/>
                </a:solidFill>
                <a:latin typeface="Times New Roman"/>
              </a:rPr>
              <a:t> to have religious freedoms in the col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The Southern Colonies"/>
          <p:cNvPicPr/>
          <p:nvPr/>
        </p:nvPicPr>
        <p:blipFill>
          <a:blip r:embed="rId1"/>
          <a:stretch/>
        </p:blipFill>
        <p:spPr>
          <a:xfrm>
            <a:off x="4952880" y="1295280"/>
            <a:ext cx="35244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01:37:50Z</dcterms:created>
  <dc:creator>Christine Sturges</dc:creator>
  <dc:description/>
  <dc:language>en-US</dc:language>
  <cp:lastModifiedBy>TPS</cp:lastModifiedBy>
  <dcterms:modified xsi:type="dcterms:W3CDTF">2009-01-23T20:25:43Z</dcterms:modified>
  <cp:revision>49</cp:revision>
  <dc:subject/>
  <dc:title>Middle and Southern Colonies</dc:title>
</cp:coreProperties>
</file>