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289-7E08-484B-9334-C8FF31CD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888-55DA-4BD1-AEFF-6D3EE47C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5A5-75EC-40EA-8B9B-EC2586A5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F257-D3C0-45CC-806D-E4EEF308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D57E-FF15-4461-8726-E9800CEE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1055-138D-4808-8095-C41B7414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BFBA-FA0A-450A-BE02-F6DF7CB8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8B8-6E3C-47C3-9CFC-B669ABA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F224-57E7-431E-A6D9-56C1A0D6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9A6B-1C25-4A05-9802-275DB6B7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B363-7C0B-47D7-A512-738D7A0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A00D-5974-4D0D-823D-D8094BB8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F861-641E-4730-9B2D-51A2AAE3BC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y for quiz on 1/29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on’s Rebe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 of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, Rolfs, J. Smith, Powhatan, Pocahon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’s fir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ten Co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islativ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flower Co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le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’d colonists leave England for Americ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0:41:59Z</dcterms:created>
  <dc:creator>TPS</dc:creator>
  <dc:description/>
  <dc:language>en-US</dc:language>
  <cp:lastModifiedBy>TPS</cp:lastModifiedBy>
  <dcterms:modified xsi:type="dcterms:W3CDTF">2009-01-27T20:46:31Z</dcterms:modified>
  <cp:revision>1</cp:revision>
  <dc:subject/>
  <dc:title>Study for quiz on 1/29….</dc:title>
</cp:coreProperties>
</file>