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C95-86BE-472D-94FD-29315049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A0CD-A337-4A09-9E04-F05E176E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3C40-868C-4B46-A9EA-8DDDD55E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DDB-66EF-4948-A0E4-E1C64AF7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F3C8-12B6-464E-B644-75461681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431-3648-484C-B7F5-462BF659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DA4-6FD6-4C52-88AF-055BFD55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AB1-81D8-4011-A4E1-BE9CAD2C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493-E5B1-4174-97F1-D16610E6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9366-CFD8-455B-B7A9-93BA70E2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866-1368-454F-A414-A165B49E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3FA-9B4D-4228-98E9-880CF5E8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420C-240D-42D4-95D3-CD5F2E8EB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udy for quiz on 1/29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on’s Rebell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e of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o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nn, Rolfs, J. Smith, Powhatan, Pocahont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’s fir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ten Constit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islative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flower Com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le of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’d colonists leave England for Americ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20:41:59Z</dcterms:created>
  <dc:creator>TPS</dc:creator>
  <dc:description/>
  <dc:language>en-US</dc:language>
  <cp:lastModifiedBy>TPS</cp:lastModifiedBy>
  <dcterms:modified xsi:type="dcterms:W3CDTF">2009-01-27T20:46:31Z</dcterms:modified>
  <cp:revision>1</cp:revision>
  <dc:subject/>
  <dc:title>Study for quiz on 1/29….</dc:title>
</cp:coreProperties>
</file>