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4947-7C34-4C94-8416-F776D02F4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5A9F-2E15-4594-A92F-8D44FD06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C9DD-53FA-46CF-896C-E11CDFAA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2BD0-8443-4026-AF37-0151195D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349-482A-4958-BC94-EA80A2895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C3E-7923-410A-AD0E-E3091A573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00FE-FB31-4FF8-814F-0C94D5920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FA5A-1E31-4887-B53A-6F0AB6BA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418-CA2E-408E-AFAA-7C87CFFA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5BA6-9372-445E-8139-28BCF197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8A90-A605-4109-B63E-05FDB1D5F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2B29-1193-41DF-900F-C9802D42E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DB20-E6A2-4ED9-820E-B65BD148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FF3B-3C1C-4FA0-9549-4E56C3A0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316-3ED1-4D4E-A368-C75ED539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B3A-299B-419E-9827-FE3D2165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3A68-E4DE-4EDE-AEED-B19366CC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71CBF-2259-476B-953B-E814B944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8524-EF48-443E-8505-BBC3A93D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FBE7-6B31-4499-993F-39D74433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1D06-3C84-4954-B1CE-7311101F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E69C-97F9-4DFE-9DB9-91B1942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9CA0-561D-4ADA-88DD-6DFF64B3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B90F-67BB-46F3-9FF9-AD2AF074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5074-FFA2-4FEB-BD77-31458FFB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0D60-B5AF-416A-96AA-02F7D2AC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EF96-5FF2-4D7B-A3C9-62D8538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94E2-6C2F-4F4D-8A7D-262854B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7396-C272-419A-9174-B3BE0593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2CD7-428E-4942-9285-FB935B3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70B9-C58B-4C43-B123-4DF12B26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554A-9C85-4876-98B0-99926CCC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6EA-DCD5-4EF5-B08B-6C6951B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496-7496-4C42-B533-B5557F21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546-A580-4DB2-95E1-5FF0E40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075-6E2E-48E5-A29A-CB197E7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7A6-BA5D-47B0-B651-9E0AD36F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5D38-7F57-4E56-86FA-F83F391C5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4551-DB42-4487-9E70-270FF73ED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ppery.com/fullsize.php?name=Fertile-Crescent-Ma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Fertile Cresc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er, Babylon and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gyptian Govern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ians ruled in Dynasties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are called Pharao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t to be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’t includ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reauc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http://www.guardiantravel.com/osiris.jpg"/>
          <p:cNvPicPr/>
          <p:nvPr/>
        </p:nvPicPr>
        <p:blipFill>
          <a:blip r:embed="rId1"/>
          <a:stretch/>
        </p:blipFill>
        <p:spPr>
          <a:xfrm>
            <a:off x="5486400" y="1728720"/>
            <a:ext cx="25718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ureaucrac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gyptian Relig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theistic mea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araohs were so important that Egypti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ptians mummified the dead b/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yramid had__________the king would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eople could be mummified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unmuseum.mus.pa.us/crosspyr.jpg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wo Reg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Egypt is in the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ir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_____________, to 100 mil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Egypt is in t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s, king of___________, unites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le is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list.org/~mdoyle/eg-150.gif"/>
          <p:cNvPicPr/>
          <p:nvPr/>
        </p:nvPicPr>
        <p:blipFill>
          <a:blip r:embed="rId1"/>
          <a:stretch/>
        </p:blipFill>
        <p:spPr>
          <a:xfrm>
            <a:off x="4724280" y="1555920"/>
            <a:ext cx="4156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etween Two Rivers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name the area______________b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etween the ___________&amp; ___________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is region as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Fertile Crescent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528920"/>
            <a:ext cx="43434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 entire civilization is created based on flooding:</a:t>
            </a:r>
            <a:br>
              <a:rPr sz="4400"/>
            </a:b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 </a:t>
            </a:r>
            <a:r>
              <a:rPr b="0" lang="en-US" sz="3200" spc="-1" strike="noStrike">
                <a:solidFill>
                  <a:srgbClr val="23005f"/>
                </a:solidFill>
                <a:latin typeface="Futura"/>
              </a:rPr>
              <a:t>Sumerian Firsts</a:t>
            </a:r>
            <a:endParaRPr b="0" lang="en-US" sz="32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of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://www.ecfs.org/Projects/Fieldston272/ClassNotes/INDEXED%20SLIDES/Sumerian_Babylonian/Iranian%20Bowl2.gif"/>
          <p:cNvPicPr/>
          <p:nvPr/>
        </p:nvPicPr>
        <p:blipFill>
          <a:blip r:embed="rId1"/>
          <a:stretch/>
        </p:blipFill>
        <p:spPr>
          <a:xfrm>
            <a:off x="5334120" y="1998720"/>
            <a:ext cx="352404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ammurabi’s Co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248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er is made of ____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same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differing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murabi is a_____who unifies Sumer by crea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blogs.record-eagle.com/wp-content/uploads/2010/07/hammurabi-code.jpg"/>
          <p:cNvPicPr/>
          <p:nvPr/>
        </p:nvPicPr>
        <p:blipFill>
          <a:blip r:embed="rId1"/>
          <a:stretch/>
        </p:blipFill>
        <p:spPr>
          <a:xfrm>
            <a:off x="6095880" y="1371600"/>
            <a:ext cx="2752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umerian Hierarch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62120" y="1523880"/>
            <a:ext cx="7391160" cy="4953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733920" y="2514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819520" y="3733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5029200" y="2133720"/>
            <a:ext cx="121932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95880" y="17524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ing family/royal officials/high pri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200400" y="2835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ests /scribes/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415908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asant Far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ccomplishments in Sum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iggur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in Su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ne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form of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be school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murabi’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e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ttp://www.wayfaring.info/images/ziggurat_ur_recona.jpg"/>
          <p:cNvPicPr/>
          <p:nvPr/>
        </p:nvPicPr>
        <p:blipFill>
          <a:blip r:embed="rId1"/>
          <a:stretch/>
        </p:blipFill>
        <p:spPr>
          <a:xfrm>
            <a:off x="4476600" y="2133720"/>
            <a:ext cx="46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8/25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65 in your book. Read the 2 documents found there. Answer 4 or the 6 questions for these documents, (not 4 for each but for the two documents as a who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cient Egyp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olly the gift of the Nile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are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ian gov’t help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___to create reserv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ditches for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ests educate peopl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www.uphaa.com/uploads/8/ig21_above_nile_river_02.jpg"/>
          <p:cNvPicPr/>
          <p:nvPr/>
        </p:nvPicPr>
        <p:blipFill>
          <a:blip r:embed="rId1"/>
          <a:stretch/>
        </p:blipFill>
        <p:spPr>
          <a:xfrm>
            <a:off x="4408560" y="2133720"/>
            <a:ext cx="473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2:26:21Z</dcterms:created>
  <dc:creator>Christine Sturges</dc:creator>
  <dc:description/>
  <dc:language>en-US</dc:language>
  <cp:lastModifiedBy>IT Clone User</cp:lastModifiedBy>
  <dcterms:modified xsi:type="dcterms:W3CDTF">2010-08-25T14:04:02Z</dcterms:modified>
  <cp:revision>101</cp:revision>
  <dc:subject/>
  <dc:title>The Fertile Crescent</dc:title>
</cp:coreProperties>
</file>