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move the sli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7FDE-25AF-4FC8-99FD-833415F9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0818-B665-4266-96A7-D971AD116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2C59-F7A1-4B71-BFF3-90B523B27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811D-48BF-43F0-9FB9-6A42B501F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9BA8-9F7E-4CBD-A9C4-63C2796E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90A5-B3D1-47DC-AEB4-8084A7D6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ED2-D26D-4777-9C54-114D6036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1F8D-BD23-4671-88B9-9CF2113D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A1D0-FEBA-4BA5-8738-444909CAC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65F8-A5EC-4EB9-B01E-FBBBD037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FB50-FB31-453D-B524-2D3C852D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EA66-4FCB-47D9-923E-D3DFBBBF0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CA60-15E8-48E0-A1B4-43B22BBC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3AF-6750-4C98-BFE7-F41D40DD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62F-F5C3-4F7F-943C-FAFB1892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00D-64FB-406E-B958-DB39399B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87C-042D-4B72-840B-D3979B22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FF89-3A55-4F02-B203-D7D25CA1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5B84-815E-41AF-AE5D-F80AA22C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8008-CCD5-4204-8CEB-8E7DAFC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DAE8-8EDC-4EDE-98D6-C3FE922E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F35C-C91B-4606-8EE2-2472BA7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B5A9-B36D-47F5-9EB8-89C8628E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ABE7-4372-4CFB-92B8-B9C37AF3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8D0-5E98-49B6-A0E8-0C68DA22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D336-A3E8-4E67-BE17-0FF9C100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EA23-E20E-43BC-AFEB-76BBC15B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7FA6-33B9-4FFE-8110-6FD6339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9942-D827-4EEB-B01C-7C9ADF3A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C543-E143-4C09-8E82-B647F54A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C3C4-EB58-4675-BF7A-B5BBC982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047C-E620-45C5-AFC5-EE0956A4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CAF-AE49-4C6F-A5E3-AA416718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2D8-31A1-40D0-9D3C-340B7577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E7F-E1C1-436F-AA26-535C4092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18AC-8498-4323-93A2-9D199FA8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D3F-4BF7-4FE5-8B78-FD9C743C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9D25-FB0E-4B3E-97F6-9A8B21E01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BBDB-1A8F-4BC3-92AA-36597FAF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appery.com/fullsize.php?name=Fertile-Crescent-Ma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Fertile Cresc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er, Babylon and Egy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Egyptian Governmen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ians ruled in Dynasties 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are called Pharao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ught to be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’t included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ureaucra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http://www.guardiantravel.com/osiris.jpg"/>
          <p:cNvPicPr/>
          <p:nvPr/>
        </p:nvPicPr>
        <p:blipFill>
          <a:blip r:embed="rId1"/>
          <a:stretch/>
        </p:blipFill>
        <p:spPr>
          <a:xfrm>
            <a:off x="5486400" y="1728720"/>
            <a:ext cx="257184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ureaucrac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Egyptian Religio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theistic mea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araohs were so important that Egypti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gyptians mummified the dead b/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yramid had__________the king would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people could be mummified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http://unmuseum.mus.pa.us/crosspyr.jpg"/>
          <p:cNvPicPr/>
          <p:nvPr/>
        </p:nvPicPr>
        <p:blipFill>
          <a:blip r:embed="rId1"/>
          <a:stretch/>
        </p:blipFill>
        <p:spPr>
          <a:xfrm>
            <a:off x="4572000" y="1981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wo Region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Egypt is in the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fir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a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_____________, to 100 miles fr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Egypt is in the 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es, king of___________, unites the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le is 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www.list.org/~mdoyle/eg-150.gif"/>
          <p:cNvPicPr/>
          <p:nvPr/>
        </p:nvPicPr>
        <p:blipFill>
          <a:blip r:embed="rId1"/>
          <a:stretch/>
        </p:blipFill>
        <p:spPr>
          <a:xfrm>
            <a:off x="4724280" y="1555920"/>
            <a:ext cx="41562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Between Two Rivers</a:t>
            </a: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name the area______________b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between the ___________&amp; ___________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this region as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Fertile Crescent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1528920"/>
            <a:ext cx="43434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 entire civilization is created based on flooding:</a:t>
            </a:r>
            <a:br>
              <a:rPr sz="4400"/>
            </a:b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 </a:t>
            </a:r>
            <a:r>
              <a:rPr b="0" lang="en-US" sz="3200" spc="-1" strike="noStrike">
                <a:solidFill>
                  <a:srgbClr val="23005f"/>
                </a:solidFill>
                <a:latin typeface="Futura"/>
              </a:rPr>
              <a:t>Sumerian Firsts</a:t>
            </a:r>
            <a:endParaRPr b="0" lang="en-US" sz="32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of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http://www.ecfs.org/Projects/Fieldston272/ClassNotes/INDEXED%20SLIDES/Sumerian_Babylonian/Iranian%20Bowl2.gif"/>
          <p:cNvPicPr/>
          <p:nvPr/>
        </p:nvPicPr>
        <p:blipFill>
          <a:blip r:embed="rId1"/>
          <a:stretch/>
        </p:blipFill>
        <p:spPr>
          <a:xfrm>
            <a:off x="5334120" y="1998720"/>
            <a:ext cx="352404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Hammurabi’s Cod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6248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er is made of ____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the same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differing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for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mmurabi is a_____who unifies Sumer by crea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blogs.record-eagle.com/wp-content/uploads/2010/07/hammurabi-code.jpg"/>
          <p:cNvPicPr/>
          <p:nvPr/>
        </p:nvPicPr>
        <p:blipFill>
          <a:blip r:embed="rId1"/>
          <a:stretch/>
        </p:blipFill>
        <p:spPr>
          <a:xfrm>
            <a:off x="6095880" y="1371600"/>
            <a:ext cx="2752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umerian Hierarch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762120" y="1523880"/>
            <a:ext cx="7391160" cy="49532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733920" y="2514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819520" y="373392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5029200" y="2133720"/>
            <a:ext cx="121932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095880" y="17524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ing family/royal officials/high pri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200400" y="28353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ests /scribes/ 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276720" y="415908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asant Farm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ccomplishments in Sum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Ziggur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in Sum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unei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st form of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be school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mmurabi’s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e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 la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h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http://www.wayfaring.info/images/ziggurat_ur_recona.jpg"/>
          <p:cNvPicPr/>
          <p:nvPr/>
        </p:nvPicPr>
        <p:blipFill>
          <a:blip r:embed="rId1"/>
          <a:stretch/>
        </p:blipFill>
        <p:spPr>
          <a:xfrm>
            <a:off x="4476600" y="2133720"/>
            <a:ext cx="46674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rnal 8/25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65 in your book. Read the 2 documents found there. Answer 4 or the 6 questions for these documents, (not 4 for each but for the two documents as a whol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cient Egyp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Wholly the gift of the Nile</a:t>
            </a: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ods are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ptian gov’t helps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____to create reservo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 ditches for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ests educate people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www.uphaa.com/uploads/8/ig21_above_nile_river_02.jpg"/>
          <p:cNvPicPr/>
          <p:nvPr/>
        </p:nvPicPr>
        <p:blipFill>
          <a:blip r:embed="rId1"/>
          <a:stretch/>
        </p:blipFill>
        <p:spPr>
          <a:xfrm>
            <a:off x="4408560" y="2133720"/>
            <a:ext cx="47354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2:26:21Z</dcterms:created>
  <dc:creator>Christine Sturges</dc:creator>
  <dc:description/>
  <dc:language>en-US</dc:language>
  <cp:lastModifiedBy>IT Clone User</cp:lastModifiedBy>
  <dcterms:modified xsi:type="dcterms:W3CDTF">2010-08-25T14:04:02Z</dcterms:modified>
  <cp:revision>101</cp:revision>
  <dc:subject/>
  <dc:title>The Fertile Crescent</dc:title>
</cp:coreProperties>
</file>