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5B0-D4F4-493E-A4B0-79062B04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D43-4FBE-498A-B291-934BFEB3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70BE-2C32-4C3C-952B-E152F623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255-D7AD-46C9-BDF1-22CEFF113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CE02-FEB1-4C6F-9047-42A38A4C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7D37-7986-41D7-A104-C502D1AD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1784-0DE4-4C7C-892E-02F070D6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3137-945D-4B76-8267-C0192CE9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B800-F63E-4CF3-9DF8-FB0C0CF9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A177-559B-4CE9-8778-84BA5205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C092-AACE-4EB8-BE57-BD95CF85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078-B85A-4B9A-B558-7B0CE5B7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2490-EA1F-4067-80AB-21EE93A6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1F09-3752-4801-ADE8-2D85343B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0DB1-9571-47CA-936E-C09055BD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85A5-8436-4825-9ADB-AC18BEC1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1A2E-5523-44D9-9523-2927868E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0EE1-8160-4511-BA29-567859F0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D3B-0D72-402A-A702-884C0C38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A87-0340-432F-86CE-9B6C25C6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AD72-3EC6-43F6-AE20-8AFDD277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1E10-584E-47B9-82C8-D253BEEE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013-4E61-4107-8499-B6CA8F6E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9CC6-6556-4193-A509-8FA286C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06BC-1BD1-4259-B9E8-9034A4CA6538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89EB-C4E9-4CC5-AB76-6D5CF194612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23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page 333; what was the Dred Scott decision? What was Scott’s argument? What was the court’s? How did the North and South react to the decision?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uses for Seces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lavery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tate’s Right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ulture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incoln’s Election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7" descr="http://www.glencoe.com/qe/images/b96/q2459/tak8_obj1_union.gif"/>
          <p:cNvPicPr/>
          <p:nvPr/>
        </p:nvPicPr>
        <p:blipFill>
          <a:blip r:embed="rId1"/>
          <a:stretch/>
        </p:blipFill>
        <p:spPr>
          <a:xfrm>
            <a:off x="3962520" y="2476440"/>
            <a:ext cx="51814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actions to Seces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486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ot all Southerner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eelings were varied in the_____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 them go! The Union is bette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ession is ______as long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ession is NOT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incoln tries to ease southern concern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2" descr="http://blog.chicagohistory.org/wp-content/uploads/uniondissolvedbroadsidefull.jpg"/>
          <p:cNvPicPr/>
          <p:nvPr/>
        </p:nvPicPr>
        <p:blipFill>
          <a:blip r:embed="rId1"/>
          <a:srcRect l="18226" t="0" r="19553" b="0"/>
          <a:stretch/>
        </p:blipFill>
        <p:spPr>
          <a:xfrm>
            <a:off x="6095880" y="1371600"/>
            <a:ext cx="2667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al Attempt at Pe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486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rittenden Compromi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low slavery to continu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n it forever i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amendment could eve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ittenden 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rthern states and all southern states who had not yet_______ met in D.C. for:                                       this also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Picture 4" descr="Stars and Bars"/>
          <p:cNvPicPr/>
          <p:nvPr/>
        </p:nvPicPr>
        <p:blipFill>
          <a:blip r:embed="rId1"/>
          <a:stretch/>
        </p:blipFill>
        <p:spPr>
          <a:xfrm>
            <a:off x="5810400" y="1295280"/>
            <a:ext cx="3333600" cy="2038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www.sonofthesouth.net/leefoundation/Flags/confederate-battle-flag.jpg"/>
          <p:cNvPicPr/>
          <p:nvPr/>
        </p:nvPicPr>
        <p:blipFill>
          <a:blip r:embed="rId2"/>
          <a:stretch/>
        </p:blipFill>
        <p:spPr>
          <a:xfrm>
            <a:off x="5715000" y="3733920"/>
            <a:ext cx="26478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S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Jefferson Dav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onstitution modeled on 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la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te’s righ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Confederate States of America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7" descr="http://johnhuntmorgan.scv.org/images/davis.jpg"/>
          <p:cNvPicPr/>
          <p:nvPr/>
        </p:nvPicPr>
        <p:blipFill>
          <a:blip r:embed="rId1"/>
          <a:stretch/>
        </p:blipFill>
        <p:spPr>
          <a:xfrm>
            <a:off x="4910040" y="1941480"/>
            <a:ext cx="322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15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34290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page 356 and read “The Inside Story.” Based on what you read, do you agree or disagree with the following statemen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Robert E. Lee is the greatest traitor of the United St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ll me why you agree or disagree.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Issue at Ft. Sumt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t. Sumter i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SA demand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 they will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erson writes to Lincoln b/c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nding troop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urning the fort ove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tead he send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7" descr="http://upload.wikimedia.org/wikipedia/en/thumb/1/16/Fort_Sumter_Flag.svg/800px-Fort_Sumter_Flag.svg.png"/>
          <p:cNvPicPr/>
          <p:nvPr/>
        </p:nvPicPr>
        <p:blipFill>
          <a:blip r:embed="rId1"/>
          <a:stretch/>
        </p:blipFill>
        <p:spPr>
          <a:xfrm>
            <a:off x="4656240" y="2819520"/>
            <a:ext cx="448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rt Sumter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vis, president of the ____,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fort was a symbol of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 attack woul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 attack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Union ____________the fort the next d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Picture 5" descr="http://www.worldbook.com/wb/images/content_spotlight/civil_war/fort_sumter.jpg"/>
          <p:cNvPicPr/>
          <p:nvPr/>
        </p:nvPicPr>
        <p:blipFill>
          <a:blip r:embed="rId1"/>
          <a:stretch/>
        </p:blipFill>
        <p:spPr>
          <a:xfrm>
            <a:off x="4024440" y="3581280"/>
            <a:ext cx="5119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ncoln’s call to w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ncoln calls for 75,000 troop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me ______states had not yet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ncoln’s call for troop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ny did not suppor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 more stat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2" descr="http://www.civilwar.org/education/assets/images/soldier_web.jpg"/>
          <p:cNvPicPr/>
          <p:nvPr/>
        </p:nvPicPr>
        <p:blipFill>
          <a:blip r:embed="rId1"/>
          <a:stretch/>
        </p:blipFill>
        <p:spPr>
          <a:xfrm>
            <a:off x="5410080" y="1752480"/>
            <a:ext cx="327672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Border Stat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laveholding states who had ____ seceded and mad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 of them ________, ________,_______, ________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ryland was most important b/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shington DC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D seceded DC would be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5" descr="http://0032dfe.netsolhost.com/solpass/6ss/Images/slavestatessmaller.JPG"/>
          <p:cNvPicPr/>
          <p:nvPr/>
        </p:nvPicPr>
        <p:blipFill>
          <a:blip r:embed="rId1"/>
          <a:stretch/>
        </p:blipFill>
        <p:spPr>
          <a:xfrm>
            <a:off x="4095720" y="2819520"/>
            <a:ext cx="50482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2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 page 372 read about the Emancipation Proclamation. What was this? Do you think it was strong enough or could Lincoln have done more? Explain your reason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2114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9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931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page 325; read about the Kansas-Nebraska Act. What was the situation surrounding the creation of this law? How did this change the balance of free and slave states? Why was it controversial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Make sure you change your map!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worst part of the war…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Sickn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_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rty medical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rty drinking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nnie Bal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861 Lincoln approv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6" descr="http://upload.wikimedia.org/wikipedia/commons/thumb/a/af/Aam_in_civil_war_burying_dead.jpg/557px-Aam_in_civil_war_burying_dead.jpg"/>
          <p:cNvPicPr/>
          <p:nvPr/>
        </p:nvPicPr>
        <p:blipFill>
          <a:blip r:embed="rId1"/>
          <a:stretch/>
        </p:blipFill>
        <p:spPr>
          <a:xfrm>
            <a:off x="4613400" y="1941480"/>
            <a:ext cx="381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Camp lif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75% of time is spent in 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or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cle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food lead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7" descr="http://www.legendsofamerica.com/photos-americanhistory/Dinner%20in%20Camp-500.jpg"/>
          <p:cNvPicPr/>
          <p:nvPr/>
        </p:nvPicPr>
        <p:blipFill>
          <a:blip r:embed="rId1"/>
          <a:stretch/>
        </p:blipFill>
        <p:spPr>
          <a:xfrm>
            <a:off x="4537080" y="1941480"/>
            <a:ext cx="397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Prison Camps (CSA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ersonvil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ilt for ______ housed 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e stream used f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0 me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5% di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7" descr="http://www.rootsweb.com/~gamacon/images/Andersonville1.jpg"/>
          <p:cNvPicPr/>
          <p:nvPr/>
        </p:nvPicPr>
        <p:blipFill>
          <a:blip r:embed="rId1"/>
          <a:stretch/>
        </p:blipFill>
        <p:spPr>
          <a:xfrm>
            <a:off x="4038480" y="2022480"/>
            <a:ext cx="51055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Prison Camps (Union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mi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 of harsh treatment in CSA camps lead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meat =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4% of the prisoners di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08280" y="1941480"/>
            <a:ext cx="402876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www.scv674.org/Coin%20Graphics/elmira.jpg"/>
          <p:cNvPicPr/>
          <p:nvPr/>
        </p:nvPicPr>
        <p:blipFill>
          <a:blip r:embed="rId2"/>
          <a:stretch/>
        </p:blipFill>
        <p:spPr>
          <a:xfrm>
            <a:off x="4419720" y="1828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The draft (CSA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941120"/>
            <a:ext cx="8839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iginally only had to serve for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862 Davis extend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18-35 had to serv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cluded from dra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me states block ____________in their s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The draft (Union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941120"/>
            <a:ext cx="8839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863 Lincoln enacts ___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 could ______ for ‘replacement’ soldi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s leads to the idea of a “poor man's_____” b/c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_______are an anti-war group who encouraged Union soldiers to desert o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ncoln ends Habeas Corpus or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cause of the Copperhea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12/1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pg. 386. Read the “Primary Sources” section in the green box. Answer the two questions at the botto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ree Major Batt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ancellorsville,Gettysburg, Vicksbur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ncellorsvil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356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oker hopes to ____________CS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e sees this coming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40,000 troop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0,000 troop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vides army again and puts __________ Jackson in charge of the attacking porti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ion is taken __________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vic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onewall Jackson is kill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7" descr="http://www.sonofthesouth.net/leefoundation/civil-war/1863/may/battle-chancellorsville.jpg"/>
          <p:cNvPicPr/>
          <p:nvPr/>
        </p:nvPicPr>
        <p:blipFill>
          <a:blip r:embed="rId1"/>
          <a:stretch/>
        </p:blipFill>
        <p:spPr>
          <a:xfrm>
            <a:off x="4508640" y="2646360"/>
            <a:ext cx="4028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kidport.com/RefLib/UsaHistory/CivilWar/Images/ConfedWeapo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The Civil War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atter with Kansas?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2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11.3. What role did African Americans and women play in the Civil War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ttysburg: it was all about sho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356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oth armies mov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e want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oker want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stop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ncoln_____Hook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e hears about a shipment of ______; sends troo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et Union Ar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Picture 11" descr="http://www.treasurenet.com/westeast/data/relichunter/200510.image6.jpg"/>
          <p:cNvPicPr/>
          <p:nvPr/>
        </p:nvPicPr>
        <p:blipFill>
          <a:blip r:embed="rId1"/>
          <a:stretch/>
        </p:blipFill>
        <p:spPr>
          <a:xfrm>
            <a:off x="4508640" y="2071800"/>
            <a:ext cx="402876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ttysburg: day 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356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SA pushes _____ bac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________________ replaces Stonew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ngstreet’s advic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e ignores Longstre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7" descr="http://www.us-civilwar.com/graphics/longstreet.jpg"/>
          <p:cNvPicPr/>
          <p:nvPr/>
        </p:nvPicPr>
        <p:blipFill>
          <a:blip r:embed="rId1"/>
          <a:stretch/>
        </p:blipFill>
        <p:spPr>
          <a:xfrm>
            <a:off x="4548240" y="1941480"/>
            <a:ext cx="3949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ttysburg: day 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356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SA pushes thru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ion soldiers secure a hill called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hing is 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,000 CSA dead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7" descr="http://college.hmco.com/history/us/resources/shared/primary/source/images/gettysburg2.jpg"/>
          <p:cNvPicPr/>
          <p:nvPr/>
        </p:nvPicPr>
        <p:blipFill>
          <a:blip r:embed="rId1"/>
          <a:stretch/>
        </p:blipFill>
        <p:spPr>
          <a:xfrm>
            <a:off x="4508640" y="2446200"/>
            <a:ext cx="40287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ttysburg: day 3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356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tillery 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ts can be hear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ither army mov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e decides to____. Longstreet, again, advises against th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ckett’s Charg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rge toward the un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½ di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ttysburg is 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Picture 7" descr="http://upload.wikimedia.org/wikipedia/en/thumb/8/80/GeorgePickett.jpeg/240px-GeorgePickett.jpeg"/>
          <p:cNvPicPr/>
          <p:nvPr/>
        </p:nvPicPr>
        <p:blipFill>
          <a:blip r:embed="rId1"/>
          <a:stretch/>
        </p:blipFill>
        <p:spPr>
          <a:xfrm>
            <a:off x="4419720" y="762120"/>
            <a:ext cx="3632040" cy="4114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college.hmco.com/history/us/resources/shared/primary/source/images/gettysburg1.jpg"/>
          <p:cNvPicPr/>
          <p:nvPr/>
        </p:nvPicPr>
        <p:blipFill>
          <a:blip r:embed="rId2"/>
          <a:stretch/>
        </p:blipFill>
        <p:spPr>
          <a:xfrm>
            <a:off x="5114880" y="4095720"/>
            <a:ext cx="4029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icksbur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356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nt want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res on city from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idents are forced 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tack lasts 47 day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residents run out of _____ the CSA surrend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Picture 7" descr="http://www.sonofthesouth.net/leefoundation/civil-war/1863/march/battle-vicksburg-1500.jpg"/>
          <p:cNvPicPr/>
          <p:nvPr/>
        </p:nvPicPr>
        <p:blipFill>
          <a:blip r:embed="rId1"/>
          <a:stretch/>
        </p:blipFill>
        <p:spPr>
          <a:xfrm>
            <a:off x="4508640" y="2587680"/>
            <a:ext cx="40287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12/16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Oval 4"/>
          <p:cNvSpPr/>
          <p:nvPr/>
        </p:nvSpPr>
        <p:spPr>
          <a:xfrm>
            <a:off x="1447920" y="2209680"/>
            <a:ext cx="3886200" cy="3657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4114800" y="2209680"/>
            <a:ext cx="3886200" cy="3657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0" y="1690560"/>
            <a:ext cx="9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mancipation Proclamation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372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Amendment 393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28600" y="5943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mplete the diagr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38232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herman’s March and Appomattox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page 394. How did Sherman’s march lead to the end of the war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ppened at Appomattox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p Quiz!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was the first state to secede from the Union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uring the war the South was known a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General in charge of the Union wa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General in charge of the South wa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is Appomattox important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ame three Civil War batt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ll me something interesting about ONE Civil War gener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o was Jefferson Davi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ame 2 causes of the Civil Wa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3752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eeding Kansas: Popular Sovereignt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24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n Kansas this mean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854. Elected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n 1855 free-soilers elect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y 1856 Kansas ha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Picture 5" descr="http://www.irwinator.com/126/w83.jpg"/>
          <p:cNvPicPr/>
          <p:nvPr/>
        </p:nvPicPr>
        <p:blipFill>
          <a:blip r:embed="rId1"/>
          <a:stretch/>
        </p:blipFill>
        <p:spPr>
          <a:xfrm>
            <a:off x="4962600" y="762120"/>
            <a:ext cx="350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-13752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eeding Kansas: Sack of Lawrence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941480"/>
            <a:ext cx="424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Lawrenc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enter of 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esident Pierce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800 pro-slavery me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y destroy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5" descr="http://www.legendsofamerica.com/photos-americanhistory/LawrenceDestruction-500.jpg"/>
          <p:cNvPicPr/>
          <p:nvPr/>
        </p:nvPicPr>
        <p:blipFill>
          <a:blip r:embed="rId1"/>
          <a:stretch/>
        </p:blipFill>
        <p:spPr>
          <a:xfrm>
            <a:off x="4191120" y="1905120"/>
            <a:ext cx="49528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533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eeding Kansas: John Brow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243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ttawatomie Massac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85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small band of followers and his son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Picture 5" descr="http://images.google.com/url?q=http://www.geocities.com/Heartland/Park/9580/kansas.gif&amp;usg=AFQjCNF67_23tP8rM6RBiYtKeDFJiDhyqA"/>
          <p:cNvPicPr/>
          <p:nvPr/>
        </p:nvPicPr>
        <p:blipFill>
          <a:blip r:embed="rId1"/>
          <a:srcRect l="31398" t="0" r="0" b="0"/>
          <a:stretch/>
        </p:blipFill>
        <p:spPr>
          <a:xfrm>
            <a:off x="4572000" y="1819440"/>
            <a:ext cx="4572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-13752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eeding Kansas: Lecompton Constitu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41120"/>
            <a:ext cx="914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-slave gov’t writ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________will not sup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‘compromise’ ei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KS would be a ________sta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OR-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more NEW ________in KS. Slaves already there woul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. Buchanan ________the LC but ______ reject it and writ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Picture 5" descr="http://upload.wikimedia.org/wikipedia/en/thumb/d/d7/Forcing_Slavery_Freesoilers_Throats.jpg/300px-Forcing_Slavery_Freesoilers_Throats.jpg"/>
          <p:cNvPicPr/>
          <p:nvPr/>
        </p:nvPicPr>
        <p:blipFill>
          <a:blip r:embed="rId1"/>
          <a:srcRect l="9801" t="0" r="0" b="0"/>
          <a:stretch/>
        </p:blipFill>
        <p:spPr>
          <a:xfrm>
            <a:off x="5486400" y="1154160"/>
            <a:ext cx="3657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13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 pg 339 read “Lincoln’s Early Politics” and “Lincoln in Congress.” Explain Lincoln's ideas about slavery and the power of the governmen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th Seced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nation splits apar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59:29Z</dcterms:created>
  <dc:creator>TPS</dc:creator>
  <dc:description/>
  <dc:language>en-US</dc:language>
  <cp:lastModifiedBy>IT Clone User</cp:lastModifiedBy>
  <dcterms:modified xsi:type="dcterms:W3CDTF">2010-04-22T14:57:44Z</dcterms:modified>
  <cp:revision>137</cp:revision>
  <dc:subject/>
  <dc:title>The Civil War</dc:title>
</cp:coreProperties>
</file>