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13.jpeg" ContentType="image/jpeg"/>
  <Override PartName="/ppt/media/image26.jpeg" ContentType="image/jpeg"/>
  <Override PartName="/ppt/media/image5.jpeg" ContentType="image/jpeg"/>
  <Override PartName="/ppt/media/image28.jpeg" ContentType="image/jpeg"/>
  <Override PartName="/ppt/media/image7.jpeg" ContentType="image/jpeg"/>
  <Override PartName="/ppt/media/image27.jpeg" ContentType="image/jpeg"/>
  <Override PartName="/ppt/media/image6.jpeg" ContentType="image/jpeg"/>
  <Override PartName="/ppt/media/image10.png" ContentType="image/pn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1.png" ContentType="image/png"/>
  <Override PartName="/ppt/media/image16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4.jpeg" ContentType="image/jpeg"/>
  <Override PartName="/ppt/media/image22.png" ContentType="image/pn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9F76-048B-449B-B7B5-A4EE0FACA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B99E-E91D-4AF3-95DA-2DE1F2886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868A-EBB0-4C61-977A-F729F24D6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9069-8680-4A38-AB9D-3DDF83E30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4D4F6-F143-41E0-B7F4-475A59E19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1B31E-094B-4DB4-9773-147272196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35BD4-804A-4B90-B3DB-A8E437553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62567-89C0-431D-A527-C78A6149D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98702-3269-4D97-81D9-4D84B498E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02927-DA4A-41D6-A13F-B85E27ADB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7516E-FEA6-44B2-9294-FB6B17151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9362-5EC3-470C-A36D-E5E341B8C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79C85-BE5C-49FC-8C04-81A588BA6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B7962-D4F5-48B2-9065-D7C3AFAA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C630B-309C-47CA-86EC-27F8D3674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CA72C-DEFA-46AE-9D13-284D46EA9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4D1C2-3887-4957-9F1B-EE58738AD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9AB3-6384-4B05-82C8-A1FA3A7C6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1762-1F3C-4C39-B553-04C366AA7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B130-9E00-4A9D-958C-571CCD8F3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3831-FEDC-4E17-923F-5A2441C6D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84E4-5A00-48EA-BD9F-86A5C4C4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6D50-F41A-4CE2-BA8E-194606C24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A9A2-B001-4EE1-A15D-1755B332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Picture 3" descr="D:\FRONTPAGE THEMES\ARTSY\ARTHSEPA.PNG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4" descr="P:\!Themes\Artsy\Arthsepa.gif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938E5-C2AF-42C6-8575-9799E1D4BCB0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Picture 3" descr="D:\FRONTPAGE THEMES\ARTSY\ARTBANNA.PNG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4" descr="P:\!Themes\Artsy\Arthsepa.gif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64518-8EB5-4F42-8F34-B1B01591D340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Journal 4/23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66520" y="3429000"/>
            <a:ext cx="6102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urn to page 333; what was the Dred Scott decision? What was Scott’s argument? What was the court’s? How did the North and South react to the decision?  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7160" y="15192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auses for Secess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8320" y="1941120"/>
            <a:ext cx="402732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Slavery: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State’s Rights: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Culture: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Lincoln’s Election: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3" name="Picture 7" descr="http://www.glencoe.com/qe/images/b96/q2459/tak8_obj1_union.gif"/>
          <p:cNvPicPr/>
          <p:nvPr/>
        </p:nvPicPr>
        <p:blipFill>
          <a:blip r:embed="rId1"/>
          <a:stretch/>
        </p:blipFill>
        <p:spPr>
          <a:xfrm>
            <a:off x="3962520" y="2476440"/>
            <a:ext cx="518148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7160" y="15192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eactions to Secess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5486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Not all Southerners: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Feelings were varied in the_____ 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Let them go! The Union is better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ession is ______as long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ession is NOT_______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Lincoln tries to ease southern concern: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6" name="Picture 2" descr="http://blog.chicagohistory.org/wp-content/uploads/uniondissolvedbroadsidefull.jpg"/>
          <p:cNvPicPr/>
          <p:nvPr/>
        </p:nvPicPr>
        <p:blipFill>
          <a:blip r:embed="rId1"/>
          <a:srcRect l="18226" t="0" r="19553" b="0"/>
          <a:stretch/>
        </p:blipFill>
        <p:spPr>
          <a:xfrm>
            <a:off x="6095880" y="1371600"/>
            <a:ext cx="26672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7160" y="15192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Final Attempt at Peac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5486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Crittenden Compromise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llow slavery to continue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an it forever in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No amendment could ever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rittenden _____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orthern states and all southern states who had not yet_______ met in D.C. for:                                       this also______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9" name="Picture 4" descr="Stars and Bars"/>
          <p:cNvPicPr/>
          <p:nvPr/>
        </p:nvPicPr>
        <p:blipFill>
          <a:blip r:embed="rId1"/>
          <a:stretch/>
        </p:blipFill>
        <p:spPr>
          <a:xfrm>
            <a:off x="5810400" y="1295280"/>
            <a:ext cx="3333600" cy="20383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http://www.sonofthesouth.net/leefoundation/Flags/confederate-battle-flag.jpg"/>
          <p:cNvPicPr/>
          <p:nvPr/>
        </p:nvPicPr>
        <p:blipFill>
          <a:blip r:embed="rId2"/>
          <a:stretch/>
        </p:blipFill>
        <p:spPr>
          <a:xfrm>
            <a:off x="5715000" y="3733920"/>
            <a:ext cx="264780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17160" y="15192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he CS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8320" y="1941120"/>
            <a:ext cx="402732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Jefferson Davi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Constitution modeled on U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laver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tate’s righ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The Confederate States of America 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3" name="Picture 7" descr="http://johnhuntmorgan.scv.org/images/davis.jpg"/>
          <p:cNvPicPr/>
          <p:nvPr/>
        </p:nvPicPr>
        <p:blipFill>
          <a:blip r:embed="rId1"/>
          <a:stretch/>
        </p:blipFill>
        <p:spPr>
          <a:xfrm>
            <a:off x="4910040" y="1941480"/>
            <a:ext cx="3224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Journal 4/15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3429000"/>
            <a:ext cx="8686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urn to page 356 and read “The Inside Story.” Based on what you read, do you agree or disagree with the following statement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cc"/>
                </a:solidFill>
                <a:uFillTx/>
                <a:latin typeface="Arial"/>
              </a:rPr>
              <a:t>Robert E. Lee is the greatest traitor of the United Stat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ell me why you agree or disagree.   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he Issue at Ft. Sumter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191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t. Sumter i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SA demand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r they will_______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nderson writes to Lincoln b/c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nding troops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urning the fort over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nstead he send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8" name="Picture 7" descr="http://upload.wikimedia.org/wikipedia/en/thumb/1/16/Fort_Sumter_Flag.svg/800px-Fort_Sumter_Flag.svg.png"/>
          <p:cNvPicPr/>
          <p:nvPr/>
        </p:nvPicPr>
        <p:blipFill>
          <a:blip r:embed="rId1"/>
          <a:stretch/>
        </p:blipFill>
        <p:spPr>
          <a:xfrm>
            <a:off x="4656240" y="2819520"/>
            <a:ext cx="448776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Fort Sumter continued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4419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avis, president of the ____,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e fort was a symbol of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n attack would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He attack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ff33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e Union ____________the fort the next da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1" name="Picture 5" descr="http://www.worldbook.com/wb/images/content_spotlight/civil_war/fort_sumter.jpg"/>
          <p:cNvPicPr/>
          <p:nvPr/>
        </p:nvPicPr>
        <p:blipFill>
          <a:blip r:embed="rId1"/>
          <a:stretch/>
        </p:blipFill>
        <p:spPr>
          <a:xfrm>
            <a:off x="4024440" y="3581280"/>
            <a:ext cx="51195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incoln’s call to war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4419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incoln calls for 75,000 troops to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ome ______states had not yet_______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1009800" indent="-609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Lincoln’s call for troops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1009800" indent="-609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any did not support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 more state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4" name="Picture 2" descr="http://www.civilwar.org/education/assets/images/soldier_web.jpg"/>
          <p:cNvPicPr/>
          <p:nvPr/>
        </p:nvPicPr>
        <p:blipFill>
          <a:blip r:embed="rId1"/>
          <a:stretch/>
        </p:blipFill>
        <p:spPr>
          <a:xfrm>
            <a:off x="5410080" y="1752480"/>
            <a:ext cx="3276720" cy="47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he Border Stat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4495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laveholding states who had ____ seceded and made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4 of them ________, ________,_______, ________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aryland was most important b/c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ashington DC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f MD seceded DC would be: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7" name="Picture 5" descr="http://0032dfe.netsolhost.com/solpass/6ss/Images/slavestatessmaller.JPG"/>
          <p:cNvPicPr/>
          <p:nvPr/>
        </p:nvPicPr>
        <p:blipFill>
          <a:blip r:embed="rId1"/>
          <a:stretch/>
        </p:blipFill>
        <p:spPr>
          <a:xfrm>
            <a:off x="4095720" y="2819520"/>
            <a:ext cx="5048280" cy="24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76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Journal 4/20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n page 372 read about the Emancipation Proclamation. What was this? Do you think it was strong enough or could Lincoln have done more? Explain your reasoning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1211400"/>
            <a:ext cx="7772400" cy="76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Journal 4/9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37720" y="3429000"/>
            <a:ext cx="79311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urn to page 325; read about the Kansas-Nebraska Act. What was the situation surrounding the creation of this law? How did this change the balance of free and slave states? Why was it controversial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Arial"/>
              </a:rPr>
              <a:t>Make sure you change your map!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Outside the Fighting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e worst part of the war…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Outside the fighting: Sicknes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8320" y="1941480"/>
            <a:ext cx="402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o _________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irty medical_______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irty drinking_______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innie Ball”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1861 Lincoln approve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4" name="Picture 6" descr="http://upload.wikimedia.org/wikipedia/commons/thumb/a/af/Aam_in_civil_war_burying_dead.jpg/557px-Aam_in_civil_war_burying_dead.jpg"/>
          <p:cNvPicPr/>
          <p:nvPr/>
        </p:nvPicPr>
        <p:blipFill>
          <a:blip r:embed="rId1"/>
          <a:stretch/>
        </p:blipFill>
        <p:spPr>
          <a:xfrm>
            <a:off x="4613400" y="1941480"/>
            <a:ext cx="3819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Outside the fighting: Camp lif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8320" y="1941120"/>
            <a:ext cx="402732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75% of time is spent in ________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oring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Unclea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______________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ack of food leads to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2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7" name="Picture 7" descr="http://www.legendsofamerica.com/photos-americanhistory/Dinner%20in%20Camp-500.jpg"/>
          <p:cNvPicPr/>
          <p:nvPr/>
        </p:nvPicPr>
        <p:blipFill>
          <a:blip r:embed="rId1"/>
          <a:stretch/>
        </p:blipFill>
        <p:spPr>
          <a:xfrm>
            <a:off x="4537080" y="1941480"/>
            <a:ext cx="3971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Outside the fighting: Prison Camps (CSA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8320" y="1941120"/>
            <a:ext cx="402732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ndersonvill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uilt for ______ housed ______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One stream used fo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1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2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3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100 men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15% die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0" name="Picture 7" descr="http://www.rootsweb.com/~gamacon/images/Andersonville1.jpg"/>
          <p:cNvPicPr/>
          <p:nvPr/>
        </p:nvPicPr>
        <p:blipFill>
          <a:blip r:embed="rId1"/>
          <a:stretch/>
        </p:blipFill>
        <p:spPr>
          <a:xfrm>
            <a:off x="4038480" y="2022480"/>
            <a:ext cx="510552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Outside the fighting: Prison Camps (Union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8320" y="1941120"/>
            <a:ext cx="402732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lmir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ews of harsh treatment in CSA camps leads to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o meat =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14% of the prisoners die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508280" y="1941480"/>
            <a:ext cx="4028760" cy="4114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http://www.scv674.org/Coin%20Graphics/elmira.jpg"/>
          <p:cNvPicPr/>
          <p:nvPr/>
        </p:nvPicPr>
        <p:blipFill>
          <a:blip r:embed="rId2"/>
          <a:stretch/>
        </p:blipFill>
        <p:spPr>
          <a:xfrm>
            <a:off x="4419720" y="1828800"/>
            <a:ext cx="42670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Outside the fighting: The draft (CSA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-360" y="1941120"/>
            <a:ext cx="883908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riginally only had to serve for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1862 Davis extend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en18-35 had to serve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xcluded from draf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00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00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2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00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3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ome states block ____________in their stat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Outside the fighting: The draft (Union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-360" y="1941120"/>
            <a:ext cx="883908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1863 Lincoln enacts ___________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en could ______ for ‘replacement’ soldier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is leads to the idea of a “poor man's_____” b/c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_____________are an anti-war group who encouraged Union soldiers to desert or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Lincoln ends Habeas Corpus or: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ecause of the Copperhead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76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Journal 12/12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urn to pg. 386. Read the “Primary Sources” section in the green box. Answer the two questions at the bottom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hree Major Battl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hancellorsville,Gettysburg, Vicksburg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17160" y="15192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hancellorsvill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356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Hooker hopes to ____________CS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Lee sees this coming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40,000 troops: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10,000 troops: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ivides army again and puts __________ Jackson in charge of the attacking portion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Union is taken _________________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______victor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tonewall Jackson is kille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5" name="Picture 7" descr="http://www.sonofthesouth.net/leefoundation/civil-war/1863/may/battle-chancellorsville.jpg"/>
          <p:cNvPicPr/>
          <p:nvPr/>
        </p:nvPicPr>
        <p:blipFill>
          <a:blip r:embed="rId1"/>
          <a:stretch/>
        </p:blipFill>
        <p:spPr>
          <a:xfrm>
            <a:off x="4508640" y="2646360"/>
            <a:ext cx="402876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http://www.kidport.com/RefLib/UsaHistory/CivilWar/Images/ConfedWeapon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"/>
              </a:rPr>
              <a:t>The Civil War</a:t>
            </a:r>
            <a:endParaRPr b="0" lang="en-US" sz="5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’s the matter with Kansas?!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76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Journal 4/22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urn to 11.3. What role did African Americans and women play in the Civil War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17160" y="15192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Gettysburg: it was all about sho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356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oth armies move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ee wants to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Hooker wants to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oes not stop______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Lincoln_____Hooke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ee hears about a shipment of ______; sends troop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eet Union Arm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0" name="Picture 11" descr="http://www.treasurenet.com/westeast/data/relichunter/200510.image6.jpg"/>
          <p:cNvPicPr/>
          <p:nvPr/>
        </p:nvPicPr>
        <p:blipFill>
          <a:blip r:embed="rId1"/>
          <a:stretch/>
        </p:blipFill>
        <p:spPr>
          <a:xfrm>
            <a:off x="4508640" y="2071800"/>
            <a:ext cx="4028760" cy="38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17160" y="15192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Gettysburg: day 1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356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SA pushes _____ back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________________ replaces Stonewal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ongstreet’s advice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2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ee ignores Longstree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3" name="Picture 7" descr="http://www.us-civilwar.com/graphics/longstreet.jpg"/>
          <p:cNvPicPr/>
          <p:nvPr/>
        </p:nvPicPr>
        <p:blipFill>
          <a:blip r:embed="rId1"/>
          <a:stretch/>
        </p:blipFill>
        <p:spPr>
          <a:xfrm>
            <a:off x="4548240" y="1941480"/>
            <a:ext cx="3949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17160" y="15192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Gettysburg: day 2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43560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SA pushes thru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Union soldiers secure a hill called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othing is ________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9,000 CSA dead 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6" name="Picture 7" descr="http://college.hmco.com/history/us/resources/shared/primary/source/images/gettysburg2.jpg"/>
          <p:cNvPicPr/>
          <p:nvPr/>
        </p:nvPicPr>
        <p:blipFill>
          <a:blip r:embed="rId1"/>
          <a:stretch/>
        </p:blipFill>
        <p:spPr>
          <a:xfrm>
            <a:off x="4508640" y="2446200"/>
            <a:ext cx="4028760" cy="31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17160" y="15192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Gettysburg: day 3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356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rtillery _______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hots can be heard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Neither army moving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ee decides to____. Longstreet, again, advises against thi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ickett’s Charge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harge toward the un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½ die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Gettysburg is a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9" name="Picture 7" descr="http://upload.wikimedia.org/wikipedia/en/thumb/8/80/GeorgePickett.jpeg/240px-GeorgePickett.jpeg"/>
          <p:cNvPicPr/>
          <p:nvPr/>
        </p:nvPicPr>
        <p:blipFill>
          <a:blip r:embed="rId1"/>
          <a:stretch/>
        </p:blipFill>
        <p:spPr>
          <a:xfrm>
            <a:off x="4419720" y="762120"/>
            <a:ext cx="3632040" cy="41148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8" descr="http://college.hmco.com/history/us/resources/shared/primary/source/images/gettysburg1.jpg"/>
          <p:cNvPicPr/>
          <p:nvPr/>
        </p:nvPicPr>
        <p:blipFill>
          <a:blip r:embed="rId2"/>
          <a:stretch/>
        </p:blipFill>
        <p:spPr>
          <a:xfrm>
            <a:off x="5114880" y="4095720"/>
            <a:ext cx="402912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17160" y="15192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Vicksburg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4356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Grant wants to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ires on city from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sidents are forced to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ttack lasts 47 day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hen residents run out of _____ the CSA surrender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3" name="Picture 7" descr="http://www.sonofthesouth.net/leefoundation/civil-war/1863/march/battle-vicksburg-1500.jpg"/>
          <p:cNvPicPr/>
          <p:nvPr/>
        </p:nvPicPr>
        <p:blipFill>
          <a:blip r:embed="rId1"/>
          <a:stretch/>
        </p:blipFill>
        <p:spPr>
          <a:xfrm>
            <a:off x="4508640" y="2587680"/>
            <a:ext cx="4028760" cy="28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Journal 12/16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5" name="Oval 4"/>
          <p:cNvSpPr/>
          <p:nvPr/>
        </p:nvSpPr>
        <p:spPr>
          <a:xfrm>
            <a:off x="1447920" y="2209680"/>
            <a:ext cx="3886200" cy="3657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4114800" y="2209680"/>
            <a:ext cx="3886200" cy="3657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0" y="1690560"/>
            <a:ext cx="944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Emancipation Proclamation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372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13</a:t>
            </a:r>
            <a:r>
              <a:rPr b="1" lang="en-US" sz="2800" spc="-1" strike="noStrike" baseline="30000">
                <a:solidFill>
                  <a:srgbClr val="ffffcc"/>
                </a:solidFill>
                <a:latin typeface="Times New Roman"/>
              </a:rPr>
              <a:t>th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Amendment 393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228600" y="59436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Complete the diagram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17160" y="382320"/>
            <a:ext cx="863748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herman’s March and Appomattox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urn to page 394. How did Sherman’s march lead to the end of the war?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hat happened at Appomattox?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6160" y="-36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op Quiz!!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hat was the first state to secede from the Union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uring the war the South was known as…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e General in charge of the Union was…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e General in charge of the South was…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hy is Appomattox important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ame three Civil War battles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ell me something interesting about ONE Civil War general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ho was Jefferson Davis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ame 2 causes of the Civil War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17160" y="-13752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leeding Kansas: Popular Sovereignty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8320" y="1941480"/>
            <a:ext cx="4243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In Kansas this means: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lvl="1" marL="713160" indent="-27432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1854. Elected: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lvl="1" marL="713160" indent="-27432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In 1855 free-soilers elect: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By 1856 Kansas has: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7" name="Picture 5" descr="http://www.irwinator.com/126/w83.jpg"/>
          <p:cNvPicPr/>
          <p:nvPr/>
        </p:nvPicPr>
        <p:blipFill>
          <a:blip r:embed="rId1"/>
          <a:stretch/>
        </p:blipFill>
        <p:spPr>
          <a:xfrm>
            <a:off x="4962600" y="762120"/>
            <a:ext cx="35002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7160" y="-13752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leeding Kansas: Sack of Lawrence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960" y="1941480"/>
            <a:ext cx="4243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hy Lawrence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enter of 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2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President Pierce: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800 pro-slavery men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ey destroy: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0" name="Picture 5" descr="http://www.legendsofamerica.com/photos-americanhistory/LawrenceDestruction-500.jpg"/>
          <p:cNvPicPr/>
          <p:nvPr/>
        </p:nvPicPr>
        <p:blipFill>
          <a:blip r:embed="rId1"/>
          <a:stretch/>
        </p:blipFill>
        <p:spPr>
          <a:xfrm>
            <a:off x="4191120" y="1905120"/>
            <a:ext cx="495288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17160" y="53316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leeding Kansas: John Brown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8320" y="1941120"/>
            <a:ext cx="424332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ottawatomie Massacr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1856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 small band of followers and his son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aid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3" name="Picture 5" descr="http://images.google.com/url?q=http://www.geocities.com/Heartland/Park/9580/kansas.gif&amp;usg=AFQjCNF67_23tP8rM6RBiYtKeDFJiDhyqA"/>
          <p:cNvPicPr/>
          <p:nvPr/>
        </p:nvPicPr>
        <p:blipFill>
          <a:blip r:embed="rId1"/>
          <a:srcRect l="31398" t="0" r="0" b="0"/>
          <a:stretch/>
        </p:blipFill>
        <p:spPr>
          <a:xfrm>
            <a:off x="4572000" y="1819440"/>
            <a:ext cx="4572000" cy="41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17160" y="-13752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leeding Kansas: Lecompton Constitution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941120"/>
            <a:ext cx="914400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ro-slave gov’t write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________will not suppor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 ‘compromise’ eithe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KS would be a ________stat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-OR-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No more NEW ________in KS. Slaves already there would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res. Buchanan ________the LC but ______ reject it and write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6" name="Picture 5" descr="http://upload.wikimedia.org/wikipedia/en/thumb/d/d7/Forcing_Slavery_Freesoilers_Throats.jpg/300px-Forcing_Slavery_Freesoilers_Throats.jpg"/>
          <p:cNvPicPr/>
          <p:nvPr/>
        </p:nvPicPr>
        <p:blipFill>
          <a:blip r:embed="rId1"/>
          <a:srcRect l="9801" t="0" r="0" b="0"/>
          <a:stretch/>
        </p:blipFill>
        <p:spPr>
          <a:xfrm>
            <a:off x="5486400" y="1154160"/>
            <a:ext cx="365760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76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Journal 4/13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n pg 339 read “Lincoln’s Early Politics” and “Lincoln in Congress.” Explain Lincoln's ideas about slavery and the power of the government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he South Seced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e nation splits apart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1T16:59:29Z</dcterms:created>
  <dc:creator>TPS</dc:creator>
  <dc:description/>
  <dc:language>en-US</dc:language>
  <cp:lastModifiedBy>IT Clone User</cp:lastModifiedBy>
  <dcterms:modified xsi:type="dcterms:W3CDTF">2010-04-22T14:57:44Z</dcterms:modified>
  <cp:revision>137</cp:revision>
  <dc:subject/>
  <dc:title>The Civil War</dc:title>
</cp:coreProperties>
</file>