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240D-D42C-4FB6-A482-2D3D58445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embly decided to act quickly after the Storm of the Bastille.  Nobles agreed to end their own privileges.  Now agreed to pay taxes.  Also agreed to abolish feudalism. By the end of August (so…w/in a few months of becoming the National Assemb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embly created the Declaration of the Rights of Man, which stated that all men were created equal….born free and equal… sounds like the Declaration of Independence, except their slogan was “Liberty, Equality, Frater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EE1D-052C-4E3A-9474-13FEEC9AC1F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 women marched from Paris to Versailles, which is about 13 miles away.  Most angry with Marie Antoinette because of her lavish lifestyle.  Women demanded that the Royal family return to Paris….the Royal family became prisoners to their home in France</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DDC5C-24A4-4FEE-9714-D830B017AF5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vil Constitution of the Clergy declared that Church leaders must be elected and the Church lost. In addition, the Church was placed under the state’s control and the National Assembly started selling Church lands to pay for deb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National Assembly creates the Constitution of 1791 which weakened the King’s power by established a limited monarchy. A Legislative Assembly was also created which made laws, collected taxes and decided on issues with war and peace.  In addition, the Constitution of 1791 separated Church and State and gave the power to the people.  Free-elections were established, which meant that citizens vo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 Antoinette and Louis XVI tried to escape, which showed people that he was against the Revolution and reforms…people were extremely upset</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2DC8-59DE-431A-9541-15ED4CA1E68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s-culottes were working class men and women who turned the Revolution Radical.  Radicals controlled the Legislative Assembly and the Sans-culottes gained support by some Legislative Assembly members and they demanded a republic.  Then the National Assembly declared War…first on Austria and then on Prussia and Britain </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89B0-6FD5-478D-8A97-09D196AEA88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a:t>
            </a:r>
            <a:r>
              <a:rPr b="0" lang="en-US" sz="1200" spc="-1" strike="noStrike" baseline="30000">
                <a:solidFill>
                  <a:srgbClr val="000000"/>
                </a:solidFill>
                <a:latin typeface="Arial"/>
              </a:rPr>
              <a:t>nd</a:t>
            </a:r>
            <a:r>
              <a:rPr b="0" lang="en-US" sz="1200" spc="-1" strike="noStrike">
                <a:solidFill>
                  <a:srgbClr val="000000"/>
                </a:solidFill>
                <a:latin typeface="Arial"/>
              </a:rPr>
              <a:t> phase was the Radical Phase which was the bloodiest phase because it included the Reign of Terror time period. Parisians stormed the palace and killed the king’s guards; royal family forced to flee.  Roughly 1200 Priests and Nobles were killed. Louis XVI was then tried and executed by the Guillotine then 8 months later Marie Antoinette was executed by the same device…the Guillotine symbolized the horror of the radical phas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lien Robespierre was partly responsible for the era known as the Reign of Terror….he was a lawyer, politician, and leader of a Public Safety Committee…..He believed in using terror to make people be good……if not criminals needed to be executed…approximately 17,000 were executed…some were innocent peopl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Robespierre was executed and the deaths decreased.  He was known as the “incorruptible” – he was also responsible for executing the King…..if the King is right then the Revolution is wrong…the King must die for the revolution to continu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gn of Terror (Sept. 1793 – July 17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C83E-C622-44FD-93F2-54462971319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egislative body was established called the National Convention.  The National Convention declared that all men over the age of 25 had the right to vote and this established a French republic and abolished the Monarchy.  The National Convention also est. the Committee of Public Safety, who prepared France for War.  They issued a tax whom all had to pay to support war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4B879-B05F-4A6E-B50E-182D5A03972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a:t>
            </a:r>
            <a:r>
              <a:rPr b="0" lang="en-US" sz="1200" spc="-1" strike="noStrike" baseline="30000">
                <a:solidFill>
                  <a:srgbClr val="000000"/>
                </a:solidFill>
                <a:latin typeface="Arial"/>
              </a:rPr>
              <a:t>rd</a:t>
            </a:r>
            <a:r>
              <a:rPr b="0" lang="en-US" sz="1200" spc="-1" strike="noStrike">
                <a:solidFill>
                  <a:srgbClr val="000000"/>
                </a:solidFill>
                <a:latin typeface="Arial"/>
              </a:rPr>
              <a:t> Phase was known as the Directory Phase.  Another Constitution was established which established a 2 house legislature and a 5 man directory.  However, the new government was full of corrupt officials, which was a major weakness.  The Directory Phase did gain peace with Prussia and Spain, but continued fighting with Austria and Brita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ists still have feelings toward the crown and feel some type of tie to the king/queen.  Hungary san-culottes were still rioting, emigrants returned home after fleeing during the radical phase, leaders pushed for social reforms and religious toleration, and the Directory needed someone to step up and become the leader….and some Directory members turned to Napoleon Bonapart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Directory members, Napoleon, and his brother, staged a coup d’etat (Koo de ta), which is just a fancy word for overthrowing the government. The members of the Directory who were involved were basically using Napoleon to overthrow the government so they could come to power. Napoleon along with 2 other Directory members created the Consulate, but Napoleon became the strongest of the three and beat them to the power…he named himself 1</a:t>
            </a:r>
            <a:r>
              <a:rPr b="0" lang="en-US" sz="1200" spc="-1" strike="noStrike" baseline="30000">
                <a:solidFill>
                  <a:srgbClr val="000000"/>
                </a:solidFill>
                <a:latin typeface="Arial"/>
              </a:rPr>
              <a:t>st</a:t>
            </a:r>
            <a:r>
              <a:rPr b="0" lang="en-US" sz="1200" spc="-1" strike="noStrike">
                <a:solidFill>
                  <a:srgbClr val="000000"/>
                </a:solidFill>
                <a:latin typeface="Arial"/>
              </a:rPr>
              <a:t> Consul (Representative) and then a few years later he crowned himself Emperor of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mplemented a new code of laws, which was call the Napoleonic Code. The Enlightenment ideas included equality, religiuos toleration, and abolished of feudalism.   </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2D64-5890-4A69-9379-BEC5F6C859A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builds a massive empire…(look at map in book)…Napoleon effectively used his armies to redraw the map of Europe.  He controlled much of Europe through alliances (placed friends/relatives on throne).  His brother became king of Spain.  He becomes greedy and wants to take control of Britain, but fails miserably.  Napoleon did not even reach British land…they were defeated by Britain's navy.  Since Napoleon could not invade Britain, he decided to try to hurt them economically, so Napoleon implements the Continental System, which closed European ports to British goods.  In response, Britain blockaded European ports as well.  The U.S. gets tossed in the middle of this, because both French and British ships stopped other countries ships to make sure they were not trading with the other side.  At one point, a U.S. ship gets attack and leads to the War of 1812 (btw US and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Continental system failed to hurt Britain, because the British were able to trade with other countries.  In addition, prices increased in Europe because there was a shortage of goods. </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2C49E-A649-4212-B55E-5987B213233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math of French Revolution and Napoleon Bona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druple Alliance – Russia, Austria, Prussian, and Great Brit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dged to act together to maintain balance of power and surprise </a:t>
            </a:r>
            <a:r>
              <a:rPr b="0" lang="en-US" sz="1200" spc="-1" strike="noStrike">
                <a:solidFill>
                  <a:srgbClr val="000000"/>
                </a:solidFill>
                <a:latin typeface="Arial"/>
              </a:rPr>
              <a:t>	</a:t>
            </a:r>
            <a:r>
              <a:rPr b="0" lang="en-US" sz="1200" spc="-1" strike="noStrike">
                <a:solidFill>
                  <a:srgbClr val="000000"/>
                </a:solidFill>
                <a:latin typeface="Arial"/>
              </a:rPr>
              <a:t>revolutionary uprisings – especially in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rt of Europe (League of N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wers met to discuss any problems affecting peace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5F14-FCB6-4707-A06C-C4EF597C06B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 effects of the French Revolution included removing the old social order.  Social class system removed and never re-implemented.  The church lost power.  Nationalism prevails throughout Europe.  State schools were established as well as a system was organized for poor, old soldiers, widows – welfare. Lastly, Slavery was abolished in the Caribbe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6BED-0441-40F7-847E-BBF52C12BC1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A1822-77E7-4C3B-AE67-5B23DCAE776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rance's old social structure, there were 3 e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state consisted of Clergy, which are church officials or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state were mainly nobility, which were high officials in government, military, or cou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state were mainly peasants, but at the top of the third estate were the bourgeoisie, which were doctors, bankers, merchants, lawy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9E1E-CB0C-4D7E-9FF6-2700C42A3C1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ates-General was a legislative body consisting of reps from all three estates.  However, the wealthy and powerful classes controlled the Estates-General and demanded that Louis XVI summons them.  Louis XVI had delegates from each estate write up concerns they had – most called for fairer taxes, freedom of Press, and regular meetings for the Estates-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ith the estates-General is that the third estate always gets out-voted because each estate only had 1 vote. Even though majority of the population were members of the third estate, they only had 1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peasants were not represented because the bourgeoisie (middle-class) represented the third estat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26EB-8C7E-4951-9BBC-595219A1C39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3</a:t>
            </a:r>
            <a:r>
              <a:rPr b="0" lang="en-US" sz="1200" spc="-1" strike="noStrike" baseline="30000">
                <a:solidFill>
                  <a:srgbClr val="000000"/>
                </a:solidFill>
                <a:latin typeface="Arial"/>
              </a:rPr>
              <a:t>rd</a:t>
            </a:r>
            <a:r>
              <a:rPr b="0" lang="en-US" sz="1200" spc="-1" strike="noStrike">
                <a:solidFill>
                  <a:srgbClr val="000000"/>
                </a:solidFill>
                <a:latin typeface="Arial"/>
              </a:rPr>
              <a:t> estate was always out-voted, they wanted to change the voting system so it would be more fair.  The 3</a:t>
            </a:r>
            <a:r>
              <a:rPr b="0" lang="en-US" sz="1200" spc="-1" strike="noStrike" baseline="30000">
                <a:solidFill>
                  <a:srgbClr val="000000"/>
                </a:solidFill>
                <a:latin typeface="Arial"/>
              </a:rPr>
              <a:t>rd</a:t>
            </a:r>
            <a:r>
              <a:rPr b="0" lang="en-US" sz="1200" spc="-1" strike="noStrike">
                <a:solidFill>
                  <a:srgbClr val="000000"/>
                </a:solidFill>
                <a:latin typeface="Arial"/>
              </a:rPr>
              <a:t> estate proposed a majority rules voting system where every delegate gets a vote.  The others did not like that idea, and they argued for weeks about this….eventually the 3</a:t>
            </a:r>
            <a:r>
              <a:rPr b="0" lang="en-US" sz="1200" spc="-1" strike="noStrike" baseline="30000">
                <a:solidFill>
                  <a:srgbClr val="000000"/>
                </a:solidFill>
                <a:latin typeface="Arial"/>
              </a:rPr>
              <a:t>rd</a:t>
            </a:r>
            <a:r>
              <a:rPr b="0" lang="en-US" sz="1200" spc="-1" strike="noStrike">
                <a:solidFill>
                  <a:srgbClr val="000000"/>
                </a:solidFill>
                <a:latin typeface="Arial"/>
              </a:rPr>
              <a:t> Estate declared themselves as the National Assembly, which claimed to represent the people of France.  They were locked out of their meeting place within a few days and moved to a tennis court and took the Tennis Court Oath, which they promised to create a new constit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C92C-067C-4551-9929-1678736015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ly after, the Seize of the Bastille occurred in Paris.  The Bastille was a prison and Parisians believed that guns were stored there.  Approximately 800 Parisians demanded weapons and gunpowder.  The commander of the prison started firing upon the crowd and when the dust settled, the Parisians came out victorious…in a way…they killed the commander and other guards and also released prisoners, however, they never found any weapons or gunpow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ize of the Bastille is significant, because it was a wake-up call to Louis XVI that people of France were tired of the abuse by the mon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French have celebrated Bastille Day ever since, which is their national independence d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ne (shortage of food) spread in 1789. Grain prices increased, unemployment increased, and people of the 3</a:t>
            </a:r>
            <a:r>
              <a:rPr b="0" lang="en-US" sz="1200" spc="-1" strike="noStrike" baseline="30000">
                <a:solidFill>
                  <a:srgbClr val="000000"/>
                </a:solidFill>
                <a:latin typeface="Arial"/>
              </a:rPr>
              <a:t>rd</a:t>
            </a:r>
            <a:r>
              <a:rPr b="0" lang="en-US" sz="1200" spc="-1" strike="noStrike">
                <a:solidFill>
                  <a:srgbClr val="000000"/>
                </a:solidFill>
                <a:latin typeface="Arial"/>
              </a:rPr>
              <a:t> Estate were starving.  Peasants were starving and roaming the countryside for some glimpse of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Fear refers to the time when rumors about attacks on towns spread panic.  Rumors were spreading that government troops were taking crops from peas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sants were scared and hungry and they acted out by stealing grain and burning down old building that stored tax records.  Tax collectors were still trying to collect debts while the peasants sta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2A11C-E412-48E3-984E-2AD75DA2F286}"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4EC78-3F17-4023-A616-70D84C3AB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FB8E6-E1CD-41C1-96A1-2A5D5326F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79D91-22A0-477B-BB9A-E4E50B9A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4F095-1154-44F2-BF3A-BDBA5DE0E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58309-9BDF-4BDF-AD07-536A8C9511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010C1-D428-4249-A42F-29002C4AD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0A6A-F003-481D-9B89-679F6CCD7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041E9-0A9B-4997-B1C3-7337BF49C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00AE3-FA87-41B3-9C52-E92B532A7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B0C47-E806-4C26-BA08-E76B44062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A5407-3420-4567-B92E-BCB102FBD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2BE5C-4019-4D71-85C0-5B571D6A2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8D7F3-EA3F-4F06-A72D-60094543C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F87BB-D3AA-4307-83A9-E77BED70A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8B256-5C82-45E9-86D9-AFB38DAE9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57E43A-1137-4CC6-80A4-C1C236083A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E5DE2-AFB4-47FE-AF94-1EDC0154C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4A650-6305-482F-8326-E548E28CF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760B3-C46B-41DE-BFA4-73485492A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2A15-AD78-4184-940D-960B931E2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42AC-67B8-4C60-9D61-A0BE2053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689E4-F323-4663-97DB-D7EF02976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81F7-98BE-47DA-B6C9-49E04651D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91DCD-5FB5-4973-B786-87240C21C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672DF-22AF-4D28-B1D0-7462DC60ADB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13DF2-998B-416F-BBE7-885D27756819}"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23 and 3/24</a:t>
            </a:r>
            <a:endParaRPr b="1" lang="en-US" sz="24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baseline="30000">
                <a:solidFill>
                  <a:srgbClr val="006666"/>
                </a:solidFill>
                <a:latin typeface="Arial"/>
              </a:rPr>
              <a:t>st</a:t>
            </a:r>
            <a:r>
              <a:rPr b="1" lang="en-US" sz="3600" spc="-1" strike="noStrike">
                <a:solidFill>
                  <a:srgbClr val="006666"/>
                </a:solidFill>
                <a:latin typeface="Arial"/>
              </a:rPr>
              <a:t> Phase = National Assembly</a:t>
            </a:r>
            <a:endParaRPr b="1" lang="en-US" sz="3600" spc="-1" strike="noStrike">
              <a:solidFill>
                <a:srgbClr val="006666"/>
              </a:solidFill>
              <a:latin typeface="Arial"/>
            </a:endParaRPr>
          </a:p>
        </p:txBody>
      </p:sp>
      <p:sp>
        <p:nvSpPr>
          <p:cNvPr id="124" name=""/>
          <p:cNvSpPr txBox="1"/>
          <p:nvPr/>
        </p:nvSpPr>
        <p:spPr>
          <a:xfrm>
            <a:off x="838080" y="2361960"/>
            <a:ext cx="769320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bles agreed to ___ privileges</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w all had to pay ____</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feudal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the: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_____ created _______ (Enlightenment go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 not include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ch on Versailles</a:t>
            </a:r>
            <a:endParaRPr b="1" lang="en-US" sz="3600" spc="-1" strike="noStrike">
              <a:solidFill>
                <a:srgbClr val="006666"/>
              </a:solidFill>
              <a:latin typeface="Arial"/>
            </a:endParaRPr>
          </a:p>
        </p:txBody>
      </p:sp>
      <p:sp>
        <p:nvSpPr>
          <p:cNvPr id="126" name=""/>
          <p:cNvSpPr txBox="1"/>
          <p:nvPr/>
        </p:nvSpPr>
        <p:spPr>
          <a:xfrm>
            <a:off x="837720" y="2362320"/>
            <a:ext cx="441972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0 _____ marched from ______ to Versail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______ wi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men _________ th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______ family became :</a:t>
            </a:r>
            <a:endParaRPr b="0" lang="en-US" sz="2400" spc="-1" strike="noStrike">
              <a:solidFill>
                <a:srgbClr val="003366"/>
              </a:solidFill>
              <a:latin typeface="Arial"/>
            </a:endParaRPr>
          </a:p>
        </p:txBody>
      </p:sp>
      <p:pic>
        <p:nvPicPr>
          <p:cNvPr id="127" name="Picture 3" descr="french-revolution-6.jpg"/>
          <p:cNvPicPr/>
          <p:nvPr/>
        </p:nvPicPr>
        <p:blipFill>
          <a:blip r:embed="rId1"/>
          <a:stretch/>
        </p:blipFill>
        <p:spPr>
          <a:xfrm>
            <a:off x="5334120" y="29718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stitution of 1791</a:t>
            </a:r>
            <a:endParaRPr b="1" lang="en-US" sz="3600" spc="-1" strike="noStrike">
              <a:solidFill>
                <a:srgbClr val="006666"/>
              </a:solidFill>
              <a:latin typeface="Arial"/>
            </a:endParaRPr>
          </a:p>
        </p:txBody>
      </p:sp>
      <p:sp>
        <p:nvSpPr>
          <p:cNvPr id="129" name=""/>
          <p:cNvSpPr txBox="1"/>
          <p:nvPr/>
        </p:nvSpPr>
        <p:spPr>
          <a:xfrm>
            <a:off x="837720" y="2362320"/>
            <a:ext cx="6705720" cy="4038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 a _______ monarc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Assembly crea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ect 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ded on issues regarding:</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arated _______ and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given to the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ele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5780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31" name="PlaceHolder 1"/>
          <p:cNvSpPr>
            <a:spLocks noGrp="1"/>
          </p:cNvSpPr>
          <p:nvPr>
            <p:ph/>
          </p:nvPr>
        </p:nvSpPr>
        <p:spPr>
          <a:xfrm>
            <a:off x="609120" y="2209680"/>
            <a:ext cx="8534520" cy="46483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time-line about the most important events leading up to and during the French Revolution (1789-1815)</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have 10 eve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event must have a picture with colo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o up to 5 extra events for extra credi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why you think those 10 events are the most important events leading up to or during the French Revolu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 point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v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picture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xplan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30 and 3/31</a:t>
            </a:r>
            <a:endParaRPr b="1" lang="en-US" sz="2400" spc="-1" strike="noStrike">
              <a:solidFill>
                <a:srgbClr val="006666"/>
              </a:solidFill>
              <a:latin typeface="Arial"/>
            </a:endParaRPr>
          </a:p>
        </p:txBody>
      </p:sp>
      <p:sp>
        <p:nvSpPr>
          <p:cNvPr id="13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omparing Viewpoints on Page 586, regarding the execution of Louis XVI</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were the arguments for his execu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were the arguments against his exec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1480" y="834120"/>
            <a:ext cx="83898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coming more Radical</a:t>
            </a:r>
            <a:endParaRPr b="1" lang="en-US" sz="3600" spc="-1" strike="noStrike">
              <a:solidFill>
                <a:srgbClr val="006666"/>
              </a:solidFill>
              <a:latin typeface="Arial"/>
            </a:endParaRPr>
          </a:p>
        </p:txBody>
      </p:sp>
      <p:sp>
        <p:nvSpPr>
          <p:cNvPr id="135" name=""/>
          <p:cNvSpPr txBox="1"/>
          <p:nvPr/>
        </p:nvSpPr>
        <p:spPr>
          <a:xfrm>
            <a:off x="838080" y="2361960"/>
            <a:ext cx="518184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ns-culott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 men and women  who turned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 controlled the _______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ed a 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tional Assembly: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 firs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________ and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 name="Picture 3" descr="sansculottes.gif"/>
          <p:cNvPicPr/>
          <p:nvPr/>
        </p:nvPicPr>
        <p:blipFill>
          <a:blip r:embed="rId1"/>
          <a:stretch/>
        </p:blipFill>
        <p:spPr>
          <a:xfrm>
            <a:off x="5715000" y="2514600"/>
            <a:ext cx="3073320" cy="3809880"/>
          </a:xfrm>
          <a:prstGeom prst="rect">
            <a:avLst/>
          </a:prstGeom>
          <a:ln w="0">
            <a:noFill/>
          </a:ln>
        </p:spPr>
      </p:pic>
      <p:pic>
        <p:nvPicPr>
          <p:cNvPr id="137" name="Picture 3" descr="http://www.ling.gu.se/projekt/sprakfrageladan/images/europe_map.gif"/>
          <p:cNvPicPr/>
          <p:nvPr/>
        </p:nvPicPr>
        <p:blipFill>
          <a:blip r:embed="rId2"/>
          <a:srcRect l="6614" t="13240" r="6614" b="7063"/>
          <a:stretch/>
        </p:blipFill>
        <p:spPr>
          <a:xfrm>
            <a:off x="-104760" y="609480"/>
            <a:ext cx="9248760" cy="5799240"/>
          </a:xfrm>
          <a:prstGeom prst="rect">
            <a:avLst/>
          </a:prstGeom>
          <a:ln w="0">
            <a:noFill/>
          </a:ln>
        </p:spPr>
      </p:pic>
      <p:sp>
        <p:nvSpPr>
          <p:cNvPr id="138" name="Oval 6"/>
          <p:cNvSpPr/>
          <p:nvPr/>
        </p:nvSpPr>
        <p:spPr>
          <a:xfrm>
            <a:off x="380880" y="1905120"/>
            <a:ext cx="2286000" cy="190476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Oval 5"/>
          <p:cNvSpPr/>
          <p:nvPr/>
        </p:nvSpPr>
        <p:spPr>
          <a:xfrm>
            <a:off x="3505320" y="2971800"/>
            <a:ext cx="1981080" cy="609480"/>
          </a:xfrm>
          <a:prstGeom prst="ellipse">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Oval 4"/>
          <p:cNvSpPr/>
          <p:nvPr/>
        </p:nvSpPr>
        <p:spPr>
          <a:xfrm>
            <a:off x="4114800" y="3886200"/>
            <a:ext cx="1828800" cy="7621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7"/>
                                        </p:tgtEl>
                                        <p:attrNameLst>
                                          <p:attrName>style.visibility</p:attrName>
                                        </p:attrNameLst>
                                      </p:cBhvr>
                                      <p:to>
                                        <p:strVal val="visible"/>
                                      </p:to>
                                    </p:set>
                                    <p:animEffect filter="wipe(down)" transition="in">
                                      <p:cBhvr additive="repl">
                                        <p:cTn id="7" dur="500"/>
                                        <p:tgtEl>
                                          <p:spTgt spid="137"/>
                                        </p:tgtEl>
                                      </p:cBhvr>
                                    </p:animEffect>
                                  </p:childTnLst>
                                </p:cTn>
                              </p:par>
                              <p:par>
                                <p:cTn id="8" nodeType="withEffect" fill="hold" presetClass="entr" presetID="2" presetSubtype="4">
                                  <p:stCondLst>
                                    <p:cond delay="0"/>
                                  </p:stCondLst>
                                  <p:childTnLst>
                                    <p:set>
                                      <p:cBhvr>
                                        <p:cTn id="9" dur="1" fill="hold">
                                          <p:stCondLst>
                                            <p:cond delay="0"/>
                                          </p:stCondLst>
                                        </p:cTn>
                                        <p:tgtEl>
                                          <p:spTgt spid="138"/>
                                        </p:tgtEl>
                                        <p:attrNameLst>
                                          <p:attrName>style.visibility</p:attrName>
                                        </p:attrNameLst>
                                      </p:cBhvr>
                                      <p:to>
                                        <p:strVal val="visible"/>
                                      </p:to>
                                    </p:set>
                                    <p:anim calcmode="lin" valueType="num">
                                      <p:cBhvr additive="base">
                                        <p:cTn id="10" dur="1000" fill="hold"/>
                                        <p:tgtEl>
                                          <p:spTgt spid="138"/>
                                        </p:tgtEl>
                                        <p:attrNameLst>
                                          <p:attrName>ppt_x</p:attrName>
                                        </p:attrNameLst>
                                      </p:cBhvr>
                                      <p:tavLst>
                                        <p:tav tm="0">
                                          <p:val>
                                            <p:strVal val="#ppt_x"/>
                                          </p:val>
                                        </p:tav>
                                        <p:tav tm="100000">
                                          <p:val>
                                            <p:strVal val="#ppt_x"/>
                                          </p:val>
                                        </p:tav>
                                      </p:tavLst>
                                    </p:anim>
                                    <p:anim calcmode="lin" valueType="num">
                                      <p:cBhvr additive="base">
                                        <p:cTn id="11" dur="1000" fill="hold"/>
                                        <p:tgtEl>
                                          <p:spTgt spid="138"/>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base">
                                        <p:cTn id="14" dur="500" fill="hold"/>
                                        <p:tgtEl>
                                          <p:spTgt spid="139"/>
                                        </p:tgtEl>
                                        <p:attrNameLst>
                                          <p:attrName>ppt_x</p:attrName>
                                        </p:attrNameLst>
                                      </p:cBhvr>
                                      <p:tavLst>
                                        <p:tav tm="0">
                                          <p:val>
                                            <p:strVal val="#ppt_x"/>
                                          </p:val>
                                        </p:tav>
                                        <p:tav tm="100000">
                                          <p:val>
                                            <p:strVal val="#ppt_x"/>
                                          </p:val>
                                        </p:tav>
                                      </p:tavLst>
                                    </p:anim>
                                    <p:anim calcmode="lin" valueType="num">
                                      <p:cBhvr additive="base">
                                        <p:cTn id="15" dur="500" fill="hold"/>
                                        <p:tgtEl>
                                          <p:spTgt spid="139"/>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40"/>
                                        </p:tgtEl>
                                        <p:attrNameLst>
                                          <p:attrName>style.visibility</p:attrName>
                                        </p:attrNameLst>
                                      </p:cBhvr>
                                      <p:to>
                                        <p:strVal val="visible"/>
                                      </p:to>
                                    </p:set>
                                    <p:anim calcmode="lin" valueType="num">
                                      <p:cBhvr additive="base">
                                        <p:cTn id="18" dur="500" fill="hold"/>
                                        <p:tgtEl>
                                          <p:spTgt spid="140"/>
                                        </p:tgtEl>
                                        <p:attrNameLst>
                                          <p:attrName>ppt_x</p:attrName>
                                        </p:attrNameLst>
                                      </p:cBhvr>
                                      <p:tavLst>
                                        <p:tav tm="0">
                                          <p:val>
                                            <p:strVal val="#ppt_x"/>
                                          </p:val>
                                        </p:tav>
                                        <p:tav tm="100000">
                                          <p:val>
                                            <p:strVal val="#ppt_x"/>
                                          </p:val>
                                        </p:tav>
                                      </p:tavLst>
                                    </p:anim>
                                    <p:anim calcmode="lin" valueType="num">
                                      <p:cBhvr additive="base">
                                        <p:cTn id="1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a:t>
            </a:r>
            <a:r>
              <a:rPr b="1" lang="en-US" sz="3600" spc="-1" strike="noStrike" baseline="30000">
                <a:solidFill>
                  <a:srgbClr val="006666"/>
                </a:solidFill>
                <a:latin typeface="Arial"/>
              </a:rPr>
              <a:t>nd</a:t>
            </a:r>
            <a:r>
              <a:rPr b="1" lang="en-US" sz="3600" spc="-1" strike="noStrike">
                <a:solidFill>
                  <a:srgbClr val="006666"/>
                </a:solidFill>
                <a:latin typeface="Arial"/>
              </a:rPr>
              <a:t> Phase = Radical Phase</a:t>
            </a:r>
            <a:endParaRPr b="1" lang="en-US" sz="3600" spc="-1" strike="noStrike">
              <a:solidFill>
                <a:srgbClr val="006666"/>
              </a:solidFill>
              <a:latin typeface="Arial"/>
            </a:endParaRPr>
          </a:p>
        </p:txBody>
      </p:sp>
      <p:sp>
        <p:nvSpPr>
          <p:cNvPr id="142" name=""/>
          <p:cNvSpPr txBox="1"/>
          <p:nvPr/>
        </p:nvSpPr>
        <p:spPr>
          <a:xfrm>
            <a:off x="533520" y="2209680"/>
            <a:ext cx="5333760" cy="464832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_______phase:</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 executed</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ilien Robespierre responsible for:</a:t>
            </a:r>
            <a:endParaRPr b="0" lang="en-US" sz="28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______ is right, then the ________ is wrong</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tually, he was ______</a:t>
            </a:r>
            <a:endParaRPr b="0" lang="en-US" sz="2400" spc="-1" strike="noStrike">
              <a:solidFill>
                <a:srgbClr val="003366"/>
              </a:solidFill>
              <a:latin typeface="Arial"/>
            </a:endParaRPr>
          </a:p>
        </p:txBody>
      </p:sp>
      <p:pic>
        <p:nvPicPr>
          <p:cNvPr id="143" name="Picture 3" descr="225px-Robespierre.jpg"/>
          <p:cNvPicPr/>
          <p:nvPr/>
        </p:nvPicPr>
        <p:blipFill>
          <a:blip r:embed="rId1"/>
          <a:stretch/>
        </p:blipFill>
        <p:spPr>
          <a:xfrm>
            <a:off x="5867280" y="2438280"/>
            <a:ext cx="2876760" cy="37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cals Control Assembly</a:t>
            </a:r>
            <a:endParaRPr b="1" lang="en-US" sz="3600" spc="-1" strike="noStrike">
              <a:solidFill>
                <a:srgbClr val="006666"/>
              </a:solidFill>
              <a:latin typeface="Arial"/>
            </a:endParaRPr>
          </a:p>
        </p:txBody>
      </p:sp>
      <p:sp>
        <p:nvSpPr>
          <p:cNvPr id="14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 _______ body was establish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______ given right to 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 a French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th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sued a _____ whom all had 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4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me-lin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Next class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y for Map Quiz</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4/1 and 4/2</a:t>
            </a:r>
            <a:endParaRPr b="1" lang="en-US" sz="2400" spc="-1" strike="noStrike">
              <a:solidFill>
                <a:srgbClr val="006666"/>
              </a:solidFill>
              <a:latin typeface="Arial"/>
            </a:endParaRPr>
          </a:p>
        </p:txBody>
      </p:sp>
      <p:sp>
        <p:nvSpPr>
          <p:cNvPr id="14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s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days =  4/8 (Next Wednesda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days = 4/9 (Next Thursday)</a:t>
            </a:r>
            <a:endParaRPr b="0" lang="en-US" sz="24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Constantia"/>
              </a:rPr>
              <a:t>The French Revolution</a:t>
            </a:r>
            <a:endParaRPr b="1" lang="en-US" sz="5400" spc="-1" strike="noStrike">
              <a:solidFill>
                <a:srgbClr val="006666"/>
              </a:solidFill>
              <a:latin typeface="Arial"/>
            </a:endParaRPr>
          </a:p>
        </p:txBody>
      </p:sp>
      <p:sp>
        <p:nvSpPr>
          <p:cNvPr id="105"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nstantia"/>
              </a:rPr>
              <a:t>Chapter 18</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a:t>
            </a:r>
            <a:r>
              <a:rPr b="1" lang="en-US" sz="3600" spc="-1" strike="noStrike" baseline="30000">
                <a:solidFill>
                  <a:srgbClr val="006666"/>
                </a:solidFill>
                <a:latin typeface="Arial"/>
              </a:rPr>
              <a:t>rd</a:t>
            </a:r>
            <a:r>
              <a:rPr b="1" lang="en-US" sz="3600" spc="-1" strike="noStrike">
                <a:solidFill>
                  <a:srgbClr val="006666"/>
                </a:solidFill>
                <a:latin typeface="Arial"/>
              </a:rPr>
              <a:t> Phase = Directory Phase</a:t>
            </a:r>
            <a:endParaRPr b="1" lang="en-US" sz="3600" spc="-1" strike="noStrike">
              <a:solidFill>
                <a:srgbClr val="006666"/>
              </a:solidFill>
              <a:latin typeface="Arial"/>
            </a:endParaRPr>
          </a:p>
        </p:txBody>
      </p:sp>
      <p:sp>
        <p:nvSpPr>
          <p:cNvPr id="15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 man Directory establish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 House Legisla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nes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ins _____ with Prussia and Sp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ll Chaotic</a:t>
            </a: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feelings re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 still rio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igrants _______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ders want _____ reform and _______ tole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_____ steps up to be lea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05520" y="834120"/>
            <a:ext cx="36651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ge of Napoleon </a:t>
            </a:r>
            <a:endParaRPr b="1" lang="en-US" sz="3600" spc="-1" strike="noStrike">
              <a:solidFill>
                <a:srgbClr val="006666"/>
              </a:solidFill>
              <a:latin typeface="Arial"/>
            </a:endParaRPr>
          </a:p>
        </p:txBody>
      </p:sp>
      <p:sp>
        <p:nvSpPr>
          <p:cNvPr id="155" name=""/>
          <p:cNvSpPr txBox="1"/>
          <p:nvPr/>
        </p:nvSpPr>
        <p:spPr>
          <a:xfrm>
            <a:off x="685800" y="2286000"/>
            <a:ext cx="419112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d him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people ___________ hi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Co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code of _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__ ideas</a:t>
            </a:r>
            <a:endParaRPr b="0" lang="en-US" sz="24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_</a:t>
            </a:r>
            <a:endParaRPr b="0" lang="en-US" sz="20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 toleration</a:t>
            </a:r>
            <a:endParaRPr b="0" lang="en-US" sz="20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olished of _________</a:t>
            </a:r>
            <a:endParaRPr b="0" lang="en-US" sz="20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6" name="Picture 3" descr="210px-Jacques-Louis_David_017.jpg"/>
          <p:cNvPicPr/>
          <p:nvPr/>
        </p:nvPicPr>
        <p:blipFill>
          <a:blip r:embed="rId1"/>
          <a:stretch/>
        </p:blipFill>
        <p:spPr>
          <a:xfrm>
            <a:off x="4981680" y="0"/>
            <a:ext cx="4162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ilding an Empire</a:t>
            </a:r>
            <a:endParaRPr b="1" lang="en-US" sz="3600" spc="-1" strike="noStrike">
              <a:solidFill>
                <a:srgbClr val="006666"/>
              </a:solidFill>
              <a:latin typeface="Arial"/>
            </a:endParaRPr>
          </a:p>
        </p:txBody>
      </p:sp>
      <p:sp>
        <p:nvSpPr>
          <p:cNvPr id="15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ectively used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d most of _______ through __________ and 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nts _________, but fail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 Syste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6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4/6 and 4/7</a:t>
            </a:r>
            <a:endParaRPr b="1" lang="en-US" sz="2400" spc="-1" strike="noStrike">
              <a:solidFill>
                <a:srgbClr val="006666"/>
              </a:solidFill>
              <a:latin typeface="Arial"/>
            </a:endParaRPr>
          </a:p>
        </p:txBody>
      </p:sp>
      <p:pic>
        <p:nvPicPr>
          <p:cNvPr id="162" name="" descr=""/>
          <p:cNvPicPr/>
          <p:nvPr/>
        </p:nvPicPr>
        <p:blipFill>
          <a:blip r:embed="rId1"/>
          <a:stretch/>
        </p:blipFill>
        <p:spPr>
          <a:xfrm>
            <a:off x="838080" y="2361960"/>
            <a:ext cx="7693200" cy="37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Accomplishments</a:t>
            </a:r>
            <a:endParaRPr b="1" lang="en-US" sz="3600" spc="-1" strike="noStrike">
              <a:solidFill>
                <a:srgbClr val="006666"/>
              </a:solidFill>
              <a:latin typeface="Arial"/>
            </a:endParaRPr>
          </a:p>
        </p:txBody>
      </p:sp>
      <p:sp>
        <p:nvSpPr>
          <p:cNvPr id="164" name=""/>
          <p:cNvSpPr txBox="1"/>
          <p:nvPr/>
        </p:nvSpPr>
        <p:spPr>
          <a:xfrm>
            <a:off x="838080" y="2362320"/>
            <a:ext cx="7693200" cy="411480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ngthened central government</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ormed economy</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 public schools</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t new roads and canals</a:t>
            </a:r>
            <a:endParaRPr b="0" lang="en-US" sz="24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de peace with Church</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ed new jobs to all- based on talent rather than social clas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ic codes – equality of all citizens, except wom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fall and legacy</a:t>
            </a:r>
            <a:endParaRPr b="1" lang="en-US" sz="3600" spc="-1" strike="noStrike">
              <a:solidFill>
                <a:srgbClr val="006666"/>
              </a:solidFill>
              <a:latin typeface="Arial"/>
            </a:endParaRPr>
          </a:p>
        </p:txBody>
      </p:sp>
      <p:sp>
        <p:nvSpPr>
          <p:cNvPr id="166" name=""/>
          <p:cNvSpPr txBox="1"/>
          <p:nvPr/>
        </p:nvSpPr>
        <p:spPr>
          <a:xfrm>
            <a:off x="838080" y="2361960"/>
            <a:ext cx="784872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wants Russia–loses badly – leads to downfall of Napole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ac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elec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gained - Property rights - Edu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ism throughout Europ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olished HRE, which turned into German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d Louisiana Territory to U.S. – which doubled the size of the U.S. and led to expans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gress of Vienna</a:t>
            </a:r>
            <a:endParaRPr b="1" lang="en-US" sz="3600" spc="-1" strike="noStrike">
              <a:solidFill>
                <a:srgbClr val="006666"/>
              </a:solidFill>
              <a:latin typeface="Arial"/>
            </a:endParaRPr>
          </a:p>
        </p:txBody>
      </p:sp>
      <p:sp>
        <p:nvSpPr>
          <p:cNvPr id="16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 of European Lea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ed 10 mont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 create peace by est. a balance of power and protecting the monarc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rew map of Euro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mitcay promoted – restored hereditary monarc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f Napoleon and the F.R.</a:t>
            </a:r>
            <a:endParaRPr b="1" lang="en-US" sz="3600" spc="-1" strike="noStrike">
              <a:solidFill>
                <a:srgbClr val="006666"/>
              </a:solidFill>
              <a:latin typeface="Arial"/>
            </a:endParaRPr>
          </a:p>
        </p:txBody>
      </p:sp>
      <p:sp>
        <p:nvSpPr>
          <p:cNvPr id="170" name=""/>
          <p:cNvSpPr txBox="1"/>
          <p:nvPr/>
        </p:nvSpPr>
        <p:spPr>
          <a:xfrm>
            <a:off x="838080" y="2362320"/>
            <a:ext cx="7693200" cy="403848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ed ___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urch lost 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________ throughout Europ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state 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d 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olished _________ in t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cial Class System in France</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erg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bil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ly 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urgeoisie (boor zhwah zee) :</a:t>
            </a:r>
            <a:endParaRPr b="0" lang="en-US" sz="2400" spc="-1" strike="noStrike">
              <a:solidFill>
                <a:srgbClr val="003366"/>
              </a:solidFill>
              <a:latin typeface="Arial"/>
            </a:endParaRPr>
          </a:p>
        </p:txBody>
      </p:sp>
      <p:graphicFrame>
        <p:nvGraphicFramePr>
          <p:cNvPr id="108" name=""/>
          <p:cNvGraphicFramePr/>
          <p:nvPr/>
        </p:nvGraphicFramePr>
        <p:xfrm>
          <a:off x="4267080" y="2362320"/>
          <a:ext cx="4572000" cy="2895480"/>
        </p:xfrm>
        <a:graphic>
          <a:graphicData uri="http://schemas.openxmlformats.org/drawingml/2006/table">
            <a:tbl>
              <a:tblPr/>
              <a:tblGrid>
                <a:gridCol w="2286000"/>
                <a:gridCol w="2286000"/>
              </a:tblGrid>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1</a:t>
                      </a:r>
                      <a:r>
                        <a:rPr b="1" lang="en-US" sz="2800" spc="-1" strike="noStrike" baseline="30000">
                          <a:solidFill>
                            <a:srgbClr val="ffffff"/>
                          </a:solidFill>
                          <a:latin typeface="바탕"/>
                          <a:ea typeface="바탕"/>
                        </a:rPr>
                        <a:t>st</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ea typeface="바탕"/>
                        </a:rPr>
                        <a:t>3%</a:t>
                      </a:r>
                      <a:endParaRPr b="0" lang="en-US" sz="3200" spc="-1" strike="noStrike">
                        <a:solidFill>
                          <a:srgbClr val="003366"/>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2</a:t>
                      </a:r>
                      <a:r>
                        <a:rPr b="1" lang="en-US" sz="2800" spc="-1" strike="noStrike" baseline="30000">
                          <a:solidFill>
                            <a:srgbClr val="ffffff"/>
                          </a:solidFill>
                          <a:latin typeface="바탕"/>
                          <a:ea typeface="바탕"/>
                        </a:rPr>
                        <a:t>nd</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c653c"/>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62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3</a:t>
                      </a:r>
                      <a:r>
                        <a:rPr b="1" lang="en-US" sz="2800" spc="-1" strike="noStrike" baseline="30000">
                          <a:solidFill>
                            <a:srgbClr val="ffffff"/>
                          </a:solidFill>
                          <a:latin typeface="바탕"/>
                          <a:ea typeface="바탕"/>
                        </a:rPr>
                        <a:t>rd</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c9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ea typeface="바탕"/>
                        </a:rPr>
                        <a:t>97%</a:t>
                      </a:r>
                      <a:endParaRPr b="0" lang="en-US" sz="32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5c9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Homework</a:t>
            </a:r>
            <a:endParaRPr b="1" lang="en-US" sz="3600" spc="-1" strike="noStrike">
              <a:solidFill>
                <a:srgbClr val="006666"/>
              </a:solidFill>
              <a:latin typeface="Arial"/>
            </a:endParaRPr>
          </a:p>
        </p:txBody>
      </p:sp>
      <p:sp>
        <p:nvSpPr>
          <p:cNvPr id="17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 Terms / Key Peop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y for 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tates-General</a:t>
            </a:r>
            <a:endParaRPr b="1" lang="en-US" sz="3600" spc="-1" strike="noStrike">
              <a:solidFill>
                <a:srgbClr val="006666"/>
              </a:solidFill>
              <a:latin typeface="Arial"/>
            </a:endParaRPr>
          </a:p>
        </p:txBody>
      </p:sp>
      <p:sp>
        <p:nvSpPr>
          <p:cNvPr id="110" name="PlaceHolder 1"/>
          <p:cNvSpPr>
            <a:spLocks noGrp="1"/>
          </p:cNvSpPr>
          <p:nvPr>
            <p:ph/>
          </p:nvPr>
        </p:nvSpPr>
        <p:spPr>
          <a:xfrm>
            <a:off x="761760" y="2285640"/>
            <a:ext cx="3886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bod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social groups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each group had __ vo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____not represen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urgeoisie ________ third estate</a:t>
            </a:r>
            <a:endParaRPr b="0" lang="en-US" sz="2400" spc="-1" strike="noStrike">
              <a:solidFill>
                <a:srgbClr val="003366"/>
              </a:solidFill>
              <a:latin typeface="Arial"/>
            </a:endParaRPr>
          </a:p>
        </p:txBody>
      </p:sp>
      <p:pic>
        <p:nvPicPr>
          <p:cNvPr id="111" name="Picture 5" descr="300px-Estatesgeneral.jpg"/>
          <p:cNvPicPr/>
          <p:nvPr/>
        </p:nvPicPr>
        <p:blipFill>
          <a:blip r:embed="rId1"/>
          <a:stretch/>
        </p:blipFill>
        <p:spPr>
          <a:xfrm>
            <a:off x="4695840" y="2438280"/>
            <a:ext cx="391464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ional Assembly</a:t>
            </a:r>
            <a:endParaRPr b="1" lang="en-US" sz="3600" spc="-1" strike="noStrike">
              <a:solidFill>
                <a:srgbClr val="006666"/>
              </a:solidFill>
              <a:latin typeface="Arial"/>
            </a:endParaRPr>
          </a:p>
        </p:txBody>
      </p:sp>
      <p:sp>
        <p:nvSpPr>
          <p:cNvPr id="113" name="PlaceHolder 1"/>
          <p:cNvSpPr>
            <a:spLocks noGrp="1"/>
          </p:cNvSpPr>
          <p:nvPr>
            <p:ph/>
          </p:nvPr>
        </p:nvSpPr>
        <p:spPr>
          <a:xfrm>
            <a:off x="837720" y="2362320"/>
            <a:ext cx="80010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Estate wanted to change the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Estate ______ themselves 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imed to ______ the people of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nnis Court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mised to create a new _________</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ize of the Bastille</a:t>
            </a:r>
            <a:endParaRPr b="1" lang="en-US" sz="3600" spc="-1" strike="noStrike">
              <a:solidFill>
                <a:srgbClr val="006666"/>
              </a:solidFill>
              <a:latin typeface="Arial"/>
            </a:endParaRPr>
          </a:p>
        </p:txBody>
      </p:sp>
      <p:sp>
        <p:nvSpPr>
          <p:cNvPr id="115" name="PlaceHolder 1"/>
          <p:cNvSpPr>
            <a:spLocks noGrp="1"/>
          </p:cNvSpPr>
          <p:nvPr>
            <p:ph/>
          </p:nvPr>
        </p:nvSpPr>
        <p:spPr>
          <a:xfrm>
            <a:off x="762120" y="2361960"/>
            <a:ext cx="541008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tille is 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imately 800 ______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ed _____ and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ifica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ke-up call to ____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of _______ tired of the ______ by the ______</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Picture 5" descr="bastille_seize.jpg"/>
          <p:cNvPicPr/>
          <p:nvPr/>
        </p:nvPicPr>
        <p:blipFill>
          <a:blip r:embed="rId1"/>
          <a:stretch/>
        </p:blipFill>
        <p:spPr>
          <a:xfrm>
            <a:off x="5867280" y="2286000"/>
            <a:ext cx="2667240" cy="40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75780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18" name="PlaceHolder 1"/>
          <p:cNvSpPr>
            <a:spLocks noGrp="1"/>
          </p:cNvSpPr>
          <p:nvPr>
            <p:ph/>
          </p:nvPr>
        </p:nvSpPr>
        <p:spPr>
          <a:xfrm>
            <a:off x="609120" y="2209680"/>
            <a:ext cx="8534520" cy="46483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time-line about the most important events leading up to and during the French Revolution (1789-1815)</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have 10 eve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event must have a picture with colo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o up to 5 extra events for extra credi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why you think those 10 events are the most important events leading up to or during the French Revolu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 point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v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picture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xplan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25 and 3/26</a:t>
            </a:r>
            <a:endParaRPr b="1" lang="en-US" sz="24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urn to Page 584</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ad the Declaration of the Rights of Man and the Citiz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man” refer to all men and wom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oes number 6 proclaim?</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for men and wome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other document(s) does this Declaration resem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Crisis</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m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Great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 about attacks on towns spread 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asants were ______ and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ed out by _____ grain and _____dow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8:40:26Z</dcterms:created>
  <dc:creator>Breanna Haehn</dc:creator>
  <dc:description/>
  <dc:language>en-US</dc:language>
  <cp:lastModifiedBy>TPS</cp:lastModifiedBy>
  <dcterms:modified xsi:type="dcterms:W3CDTF">2009-04-01T18:31:16Z</dcterms:modified>
  <cp:revision>134</cp:revision>
  <dc:subject/>
  <dc:title>The French Revolution</dc:title>
</cp:coreProperties>
</file>