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40C-B823-4AD0-8502-E7520A69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E09-48C8-4C3F-BD4A-30BD0EA0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745A1-1673-4F4F-939E-6E28FE51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679CD-DEE4-4692-8872-E8117E65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75020-3874-4440-9D0D-389CA0C2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27615-32F7-47F2-AD5F-D119CB3D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8BA0D-56EE-482A-B6ED-BDCDF3BA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17BA6-F446-4D06-9CFB-0BF90A16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4A5CE-75C4-4F15-B056-F40A85FE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6526A-5ACF-4470-BA15-EB69961E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0543E5-F0B1-4463-B62F-F57C2F66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FAC8D-60B6-4D66-9804-6BEDA933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1A49-51E3-4528-9A1A-CBE6F273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48EFE-55D4-4C8D-B060-9C53839D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3774C-ED2F-411A-8D78-744EF3F1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AC7D3-9299-460F-9720-9B87BC9C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3D262-4F35-4EC5-82B7-2B3C4D7E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80DB6-7040-4CAB-A45D-205F0612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0E6EBC-E081-4F5A-B868-FA8806A4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D9CD3-603D-476B-A17B-57C9FDB7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645D2-0934-46CA-AF20-5222A5F5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E23EE-1ACD-422B-94C9-BA2B4119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0C925-40AB-4778-9BAD-3828BC77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004-51A4-44C5-A7DE-B8F7FD2F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806626-05D3-4939-AD8E-8F09E64C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9601C-0C6A-4F0E-8D11-BBB2C8B4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01502-84E5-4C52-A063-33DD6CF1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FAA7C-D81E-40DC-9A72-6F317C49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8690F-4710-4EEB-B457-25905DBD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4A191-BA2B-4541-A13A-22660F7D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BE814-C8D7-4652-91D0-7968F803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7A9D1-9434-42AE-B395-54569EE7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F8813-4B43-40E0-BDF8-2575FA1A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7384F-5832-4FF8-BF36-2D950D92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E56F-F0E3-4EA6-A454-1042606D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4C515-B30E-4574-BB32-FF31A74E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828C5-7BA8-46D4-937C-0F8C438D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29899-47D5-4CDD-9CC9-932C5FFB4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3680C-4EC0-4C1D-AB30-AEEFE3B3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5F8854-AF29-4CB3-B0E0-EB7107BE5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1C3A7-ED2C-4A40-8D73-B6139F83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57507-7F8A-4E29-9952-917EA4D4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9BB8D-205A-4FE1-8CC9-BBD785F2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73342-6514-4138-9EE8-FC877FF8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4E057-4D7E-4F92-888D-3E355177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433B-9137-4DDF-8853-32DDEB45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7307E-E485-409B-A743-D124B021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9ECC6-B637-47A4-BC7C-D616C42E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3CBBB-04DB-47ED-B9B8-7718BD11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EC962-AECB-42A1-B678-D615B3EF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589CA-474D-4629-89F3-CDFCD493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9D0A-A21B-40E1-BA2D-94CFE665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F91A-9DCB-461F-9B4A-2D382A07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324F-8CA4-4599-BB3D-F20685D5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DF4A-E680-4175-8F6A-61EDA99C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F23B3-92F9-4FA9-9A53-D8D02EDB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5D66-514E-4E2F-88C0-F20F8AAF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5920-783C-4D8C-8BB9-0721EE44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DE61-90B9-4CD7-BA06-A4288669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402D-79AE-4F46-9DE1-AD09B8AD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4D2E-B954-4CA3-8333-C25399977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C016-3C23-4E1C-99AF-8710EACC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B59AB-2E50-4156-B12E-21ACC1F7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C287C-F663-4254-B99D-F5732642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35241-A233-4737-BA81-C7F38887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A974B-9D87-4848-8698-B17BC915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B87D7-33A9-4CA5-9FFC-E548C948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C403-3D29-4365-9BC5-36333784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F104E-F6EB-4D4D-8750-958EEFA1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52355-7552-4FE3-A492-BB6F128C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443D6-8C73-491C-92DD-F772155B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C0EA2-CB92-497A-9FAD-A3275005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E6DA4-28F3-4092-960D-90ACC5A2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A9870-A07E-4F01-B46A-C067695C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611A5-555F-4973-BBCC-03308E606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27B3A-074E-4CBA-9D92-99B3A11F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AA0F2-EFB5-43E9-B3FE-359CF6D0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17008-FFED-4E98-86CD-DCEC6ED1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060F-78E4-4E96-8B4C-EC639111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6E255-E339-4229-9400-1AD5980E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6F7F5-1973-4B1F-8EF5-B675A805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95C28-89E6-40DB-B0EC-9CE17205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F5C61-0301-48FC-8B18-1E108CCF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54E9C-EEBE-4EC2-A145-90436108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946B6-6F9F-4494-92EF-8438A999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18162-0B12-4602-80C2-8A8BB331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B5165-E230-46BB-96BE-224E42FD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0892B-3AC0-49BF-B2BE-4DD27ED5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6D95E-1E09-47C6-ABDD-310A0C08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3CCE-E63A-470B-A41A-AA49B22D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CDE4A-4DBB-4265-AB0A-90DD3CD5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EE301-F558-442F-B8EC-E0B637DE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16C36-DA53-4B05-BB78-3DFA77A7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E6020-E6C1-4472-B259-81888DF9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AB86D-B065-4AB0-96E8-CBE1F5A7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B5E32-C104-41E1-A200-A9EF56D0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3A957-176A-4B54-B150-0CEEE06A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14275-0C74-4682-A040-C416A026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E5FB0-E3CD-4DDE-B787-B7101696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1E46A-4E9E-4483-8B40-C16BA4AB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5240-D0EF-4EA3-9EFB-63077692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6310E-8E7F-47DC-9828-FD769DB1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02D52-CE48-4A4C-B3CF-F628F7A2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BE865-9346-4DA3-9609-C80E064A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435B1-43E9-4CCE-AF41-7FCD8A0A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4AF91-C08B-4B61-9A50-21481931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831A0-D974-4DE1-8D51-458F40BA6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9DF1B-D009-4437-AD48-E831CABA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69241-849D-4CD6-9119-CFA86ABC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A1E88-BE34-498C-A862-8AF2B27C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94D74-A79A-4548-8CD0-92141905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CE04-67D0-4E0F-BFA6-A4ADDE19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2781B-555C-4C21-B681-D29E4DAE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6EFE5-690B-4A0C-B4EA-CFE71E3B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8019A-E4E3-4123-ADE2-54E43499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4680A-2CB6-477C-BD4C-54C0E92E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5F7AA-FC10-4053-9621-9AFAE4AF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F7AB6-A449-42BB-B1B6-F15A533E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049D1-8271-4256-AFB3-3134BAD0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DECEF-D50A-40A9-821A-151ACB9B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29B89-5759-4CAF-BD85-E7B903E2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EE8E1-F0FA-4FB0-9CE7-45662653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9FA-C8FD-44C3-B57C-B98D0D18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44F29-2DEE-4696-B733-0CF3B66F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FFD12-C3E0-4CA1-9EDC-ADAFD645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8EC27-28D2-4D3D-B1A9-3E5D5F67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883B1-BCED-4DF8-890F-B194BDBE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B7E73-DCF9-4463-BEE6-105A498C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30F95-7EB4-4D47-A8C4-4096EB28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49ACA-4C24-4874-A5F1-7998CC05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1E50E-2755-4AC9-904E-8C245A44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0C415-626A-4FBE-8F5A-0FA5B8E5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EC277-A1CD-4457-8619-0F255BBB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F12-D9AF-45A0-827C-5BA178DF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273F9-1DA5-476B-B330-BE768F31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94C8C-5A99-468A-873B-FFCAEB5C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581FF-223B-4F9B-B778-6D8F03B1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E212C-C922-4EDA-A248-A4C9BD41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81AE1-38D1-4121-905A-C3B09EE3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B2995-1D10-41D5-A0D0-7F8A3804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8CCD9-D300-4159-B76B-8C63A7234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D950B-590D-40DC-ABF7-725D3EBE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85C1B-4F1B-4DE1-B0FF-B3117348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1EBFD-4DD9-4780-98DE-E6A91C8E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CEFB-12FA-4F74-9CC7-B276367FA75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58CB-7B23-453E-A1F1-01F2E8C7C12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B7BC-4C49-4F7C-8D03-3B1913401A1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95FA-6A64-41AD-ABF6-6FD72C0B1DA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C872-9D2B-4AA2-BCCE-1183F58429F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7421-6A19-4D04-A05E-5DFB5104504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6806-AAF5-4EB0-ACAE-8D683032E3A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F1A2-6943-40A0-A666-2C3B3193488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7790-2895-4DD9-81A5-9FEB13DEA3E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42AC-BB34-4760-BD76-E2C584A48DF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C5EA-7943-41DA-BC70-9A0412D5F1B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FB50-8CC0-4E6B-936E-154B6E4E80C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Journal 10/28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feudalism? Explain it as it relates to your pro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he End of Feudalism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usades, 100 Years War, Black D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6" name="Group 7"/>
          <p:cNvGrpSpPr/>
          <p:nvPr/>
        </p:nvGrpSpPr>
        <p:grpSpPr>
          <a:xfrm>
            <a:off x="309600" y="6480"/>
            <a:ext cx="8526600" cy="6846840"/>
            <a:chOff x="309600" y="6480"/>
            <a:chExt cx="8526600" cy="6846840"/>
          </a:xfrm>
        </p:grpSpPr>
        <p:sp>
          <p:nvSpPr>
            <p:cNvPr id="497" name="Rectangle 4"/>
            <p:cNvSpPr/>
            <p:nvPr/>
          </p:nvSpPr>
          <p:spPr>
            <a:xfrm>
              <a:off x="309600" y="6480"/>
              <a:ext cx="8526600" cy="68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Rectangle 5"/>
            <p:cNvSpPr/>
            <p:nvPr/>
          </p:nvSpPr>
          <p:spPr>
            <a:xfrm>
              <a:off x="309600" y="6480"/>
              <a:ext cx="8526600" cy="35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27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rusad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5410080" cy="5029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nds Feudalis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901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bles want t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901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ed _____t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901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llow peasants t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901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asants begin t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1" name="Picture 5" descr="http://imagecache2.allposters.com/images/pic/MEPOD/10016240~Third-Crusade-Richard-I-after-Taking-Cyprus-En-Route-Lands-at-Acre-After-Posters.jpg"/>
          <p:cNvPicPr/>
          <p:nvPr/>
        </p:nvPicPr>
        <p:blipFill>
          <a:blip r:embed="rId1"/>
          <a:srcRect l="9276" t="6188" r="9276" b="6188"/>
          <a:stretch/>
        </p:blipFill>
        <p:spPr>
          <a:xfrm>
            <a:off x="5326200" y="1371600"/>
            <a:ext cx="38178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100 Years War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019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tw. _______&amp; 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s to the end of Feudalism b/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ights and cast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ssal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4" name="Picture 5" descr="http://www.kidspast.com/images/hundred-years-war.jpg"/>
          <p:cNvPicPr/>
          <p:nvPr/>
        </p:nvPicPr>
        <p:blipFill>
          <a:blip r:embed="rId1"/>
          <a:stretch/>
        </p:blipFill>
        <p:spPr>
          <a:xfrm>
            <a:off x="4724280" y="3090960"/>
            <a:ext cx="4419720" cy="37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he Black Death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4419720" cy="6095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asants are being paid in 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ential workers are _______=pay for workers 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ds convert farm land into land f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ch requires less ____________ Therefore there is less of a need f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7" name="Picture 5" descr="http://static.howstuffworks.com/gif/black-death-3.jpg"/>
          <p:cNvPicPr/>
          <p:nvPr/>
        </p:nvPicPr>
        <p:blipFill>
          <a:blip r:embed="rId1"/>
          <a:stretch/>
        </p:blipFill>
        <p:spPr>
          <a:xfrm>
            <a:off x="4724280" y="682560"/>
            <a:ext cx="4419720" cy="617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21:00:40Z</dcterms:created>
  <dc:creator>Christine Sturges</dc:creator>
  <dc:description/>
  <dc:language>en-US</dc:language>
  <cp:lastModifiedBy>IT Clone User</cp:lastModifiedBy>
  <dcterms:modified xsi:type="dcterms:W3CDTF">2009-10-28T20:02:37Z</dcterms:modified>
  <cp:revision>83</cp:revision>
  <dc:subject/>
  <dc:title>The Crusades</dc:title>
</cp:coreProperties>
</file>