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903-6F83-4A7C-A6F5-ABA0D0196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240A-0F2A-4D12-9143-42A409F9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E8710-C09E-499D-A11D-028479EC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B59C9-B2AE-47E3-962C-880A01AA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7D47F-5795-4C0E-BAF7-7E4D936F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29886-90C8-4FE1-843D-3CF4BA7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1E7B-FD86-46FC-A81C-FBEDFBF9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C713A-9DAF-487C-9A5D-C262FDB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BDF7C-AFF8-48AE-873A-FFD1ADC1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1D25B-8CE6-4EEE-A871-0C4F057D7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316D2-804C-487F-AE77-4B779A71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B86DB-D9C3-4A85-A207-94E54950C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70D7-EA0E-477D-B053-5D3B1546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433F3-817A-499A-9E7C-82DF013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85745-9D4C-40A5-B2C5-A63F427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96D69-0BC0-4F08-BA7B-4099D45B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D049D-71FC-4EC2-99C6-63C8263A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DC5726-91F3-4FE6-8BFA-302DDAB9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4D0EA-8B29-4CB6-9EF3-7F372B3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15469-58D0-4C98-A5A5-B2966936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299DB-0D4B-4A4F-ABE2-2253676F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7109D-59AF-4DD7-9D46-C671A810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C0F1-259D-4B5C-80D6-057292FBD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806-18B8-4119-A287-AEE175C0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4CAB5-FD32-4BFD-AB85-08605B9F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0B043-7F24-424E-94AB-C6A715F8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B7BFB-6694-4E7E-8E84-1844B64B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D4F18C-52DE-4166-9BFE-659A47BF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CA85D-7A10-49E6-9756-55648939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20080-F444-4310-BF62-24860678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2D762-8CCD-4862-AD8B-5229D332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F649B-7EAE-4E55-A71C-AD1E1F3C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853A-0709-4123-BCF0-54314D4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CAA1B-0856-49A4-96DC-11C9732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75E7-2ABF-4B70-93A8-1640C5F6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FF081-8671-4226-8E15-4139E2DF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92398-74CD-49D8-BBB3-0D0C2EB0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68EC2-1507-4EA3-B94C-A058A18E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473AB-AB6F-4D67-AB81-54CD0296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C1593-8E3B-4C9C-A374-76A47F7E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0BF16-5FEC-4FC7-94E3-0866D949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F469F-F3D9-4740-8B60-7DE20521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C28C1-F925-4AEA-91EC-8DC35C40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49D12-657E-4575-9488-8E4D244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B7089-5869-40C7-8DF7-E758A755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51DB-4338-41B2-BEEE-848B8755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98FC4-4FD2-491E-B92D-629BB395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BF5E7F-442F-4F6F-8366-C899C6C5B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F4D2F-EDF0-4FCC-AD3C-64AB93E3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7424D0-2FE2-460E-901A-8AF114348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4FE3B-3ADA-46E5-ACF2-481AEFF2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341A-3978-4D51-9762-1EF2AF06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F392-5DFA-4A08-BBD4-33C4D32F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2210-60F0-4DE3-9786-880E5B5A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82C7-C009-40CC-BC96-3D7CE85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CF15-A67A-4DBB-AD6B-B569A6AD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587-A719-4690-A7A9-3B57328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9003-7D9B-4055-8CAD-8EF288B1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BEAF-ABA3-4E4A-8E47-2EE25EA6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D23E-CF02-40A9-9249-325E4018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7E88-F9E2-4182-B389-5F2F69B8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97A3-7A04-4190-AC91-989AFB65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C915-91D4-4FC1-8F84-AA2C07A0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020D6-7175-457F-A0CC-3310A4DE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1C56-02FD-4069-AEF6-D802DE70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AEF2A-FD97-4D92-A917-E5EA67EE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75F41-6696-4EAE-9E57-F7646BF6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400-7779-4DD1-8490-10E93E55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7808-7AE4-4093-8701-4E062C06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0ED9-320A-4813-84FC-FE8DE40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3437-E486-4B06-972C-E3B3B6CD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410E3-EB95-4BFA-8EBC-08F36123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5E5F-4622-4D53-9962-4E64240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6E9F-3D70-431A-9D87-E9F1BB08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F344E-B80A-4689-9138-70C0606F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3F90C-AD3C-40DA-8BAC-16E73BE3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2818A-D826-4988-895A-48C21D57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41556-9AF5-48F1-A94D-01EC05A1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A86-6766-4B0C-8F5A-938F4ED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9268A-01E1-48E6-A00E-56D44A88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1E40C-665F-4A88-BF1C-FC33F9A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F9BC-EB24-46B6-B688-FFFF5DF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AE45-6A78-4B72-A295-C3FA7C9C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4E2D6-76E4-461D-B12E-BD800A15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3C06-4A78-4861-A703-1F3188E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F9CF6-D4B8-4E34-B976-3069241B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BE940-4732-46B8-9BD6-F0333067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AD52B-5965-486F-B0D3-39AA4282E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93242-079A-43F0-B79D-F243FBAF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2EF-45E9-4745-81BA-6288ADB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A2FE-E945-459C-8EFA-FB488B6D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0FFF1-BDA7-438F-8A23-921ECB40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8BF7-985A-4BAF-B927-7B164C5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9762A-8ABD-4394-863B-7DCE31D49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110FF-6E04-4E9D-8EFF-5A8D96AD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1B629-D4A4-4909-A82F-AF9B9923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99A3-558E-4369-A545-CFD766E3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1E60A-2F71-4E74-8A65-8228DF9B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D557C-0FC7-408D-B593-3FCC108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FBE1-74CD-4709-8A43-55989672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139-E06C-4BD4-8C8E-73EBE3F4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CA00-2331-4F5A-9B06-8C262314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4BDE2-E32C-4C4F-8A65-4B3F9FB3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7FD72-1091-4DEA-9A86-CB17BB4E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07D80-F31A-47C8-96B5-1D579DB51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6849-C9AD-4E10-989D-9F9DBF6F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D550-005A-472F-B976-D7FFE347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3AFF4-D2AC-4078-8E66-28BEFDC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93D72-41BB-4BEA-870E-3910AA0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CD316-F53E-4F98-919C-40D22BF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649E9-3E5E-4119-B9F9-88B04DA5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796-12F5-49F3-815C-77BB6CF9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3D7AD-1805-4E75-B1D1-73BB3D7A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7663B-CE12-4204-82AD-1B307FBA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DB255-C8B9-4C6A-BBF0-24D628CA8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FC19B-F849-4B54-A840-577CD3D6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797E0-2CBB-435E-BFD2-12F76F6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8E1A1-94D7-43C4-A4F7-607CF8F3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02068-1367-4B51-99E9-1CFFFF62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32C2-13F2-4FEF-8F23-1B0B3B48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D70B3-66B9-4B83-818D-92A2E96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0405D-8DB3-4BEA-AEE6-A56C7769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56DD-3634-4282-AFFE-4ACB2E31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7E0A-DAB1-499A-ACAC-03955F9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E78C-9381-41B4-A624-1270062B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BBA43-5E6D-4A87-BF2B-E3A39DD4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15294-F35C-4589-9AD9-E308686B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04593-C460-480E-A723-13254922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C1EBE-6E34-455F-AB10-0CD60A30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D03A9-95C7-4C31-8719-ADE603ED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E7A5B-A360-43A5-96A8-B39BA227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24692-E363-46AB-A4F5-89486E8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7B56B-AB27-459D-AE33-3FD4F9BA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CFD-EA39-4ACD-B0B5-577C03F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DB0D-8142-47CE-87EC-366CC405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99BE1-2973-477C-9ABC-E6F59291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5EE02-D4A2-4D20-B826-64E2D5B2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45EE-9929-4C12-A2F6-FFF3E104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E10E-6755-4EDC-BF96-D622E1AC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15EE0-BFB1-40DD-A803-24FF1119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3E1E-F784-446B-83CA-9DA9A112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C67C3-E893-4EE3-9B6D-C8B21EA1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7315D-CAC8-44E7-8203-634349BA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2AD3E-0ACA-4613-B160-4FDA8161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21B0-5B93-46D4-ABE9-E11B724DF68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8A66-F8B4-4BE4-9D0E-205DDAD031B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6A02-0849-4871-81C1-EF2330948D4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D176-72E2-441F-A3AE-92F5F6678C9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580E-D25D-4D58-BCC1-40147972636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F823-9CEA-4EC7-B4FE-6E5FED610E6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9401-2FFA-4B0E-8DC2-467796A361A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EABE-D3BD-44DF-A275-1ED8F22D459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0DF6-0AAF-4218-8E90-C8D17F652F4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F794-B92D-4046-BC0D-8B6F1F20AC6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4C80-1283-4783-999A-5E8368D2B28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6C1-3EEF-40F5-96A3-6AB03E1DEF4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ournal 10/28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feudalism? Explain it as it relates to your proj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End of Feudalism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usades, 100 Years War, Black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309600" y="6480"/>
            <a:ext cx="8526600" cy="6846840"/>
            <a:chOff x="309600" y="6480"/>
            <a:chExt cx="8526600" cy="6846840"/>
          </a:xfrm>
        </p:grpSpPr>
        <p:sp>
          <p:nvSpPr>
            <p:cNvPr id="497" name="Rectangle 4"/>
            <p:cNvSpPr/>
            <p:nvPr/>
          </p:nvSpPr>
          <p:spPr>
            <a:xfrm>
              <a:off x="309600" y="6480"/>
              <a:ext cx="8526600" cy="68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Rectangle 5"/>
            <p:cNvSpPr/>
            <p:nvPr/>
          </p:nvSpPr>
          <p:spPr>
            <a:xfrm>
              <a:off x="309600" y="6480"/>
              <a:ext cx="8526600" cy="35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22700" spc="-1" strike="noStrike">
                  <a:solidFill>
                    <a:srgbClr val="ffffff"/>
                  </a:solidFill>
                  <a:latin typeface="Arial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usad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5410080" cy="5029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ds Feudalis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bles want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ed _____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low peasants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901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easants begin t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1" name="Picture 5" descr="http://imagecache2.allposters.com/images/pic/MEPOD/10016240~Third-Crusade-Richard-I-after-Taking-Cyprus-En-Route-Lands-at-Acre-After-Posters.jpg"/>
          <p:cNvPicPr/>
          <p:nvPr/>
        </p:nvPicPr>
        <p:blipFill>
          <a:blip r:embed="rId1"/>
          <a:srcRect l="9276" t="6188" r="9276" b="6188"/>
          <a:stretch/>
        </p:blipFill>
        <p:spPr>
          <a:xfrm>
            <a:off x="5326200" y="1371600"/>
            <a:ext cx="3817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100 Years War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tw. _______&amp; 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w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ds to the end of Feudalism b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ights and castl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-74304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ssal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12002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4" name="Picture 5" descr="http://www.kidspast.com/images/hundred-years-war.jpg"/>
          <p:cNvPicPr/>
          <p:nvPr/>
        </p:nvPicPr>
        <p:blipFill>
          <a:blip r:embed="rId1"/>
          <a:stretch/>
        </p:blipFill>
        <p:spPr>
          <a:xfrm>
            <a:off x="4724280" y="3090960"/>
            <a:ext cx="441972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Black Death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asants are being paid in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tial workers are _______=pay for workers 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rds convert farm land into lan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ich requires less ____________ Therefore there is less of a need f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Picture 5" descr="http://static.howstuffworks.com/gif/black-death-3.jpg"/>
          <p:cNvPicPr/>
          <p:nvPr/>
        </p:nvPicPr>
        <p:blipFill>
          <a:blip r:embed="rId1"/>
          <a:stretch/>
        </p:blipFill>
        <p:spPr>
          <a:xfrm>
            <a:off x="4724280" y="682560"/>
            <a:ext cx="4419720" cy="617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1:00:40Z</dcterms:created>
  <dc:creator>Christine Sturges</dc:creator>
  <dc:description/>
  <dc:language>en-US</dc:language>
  <cp:lastModifiedBy>IT Clone User</cp:lastModifiedBy>
  <dcterms:modified xsi:type="dcterms:W3CDTF">2009-10-28T20:02:37Z</dcterms:modified>
  <cp:revision>83</cp:revision>
  <dc:subject/>
  <dc:title>The Crusades</dc:title>
</cp:coreProperties>
</file>