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F5E-51EE-4BE5-A409-50F2DEDE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BCC-CD00-4C42-81CD-C9FFCD4D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0EC8-C193-4AFB-86D3-A54EFD44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115-1C87-4D9F-ABAB-62A9B036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AAA3-9292-43A2-B3C1-DFD90293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343-29EE-4D84-92BF-31722F68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B54E-FB0D-4EF7-9467-27BCC03C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189-7072-4791-83A6-8EB8EDB9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B03-97BD-4A22-B914-15E6B8C8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D10-0AA3-4CF8-A60A-73B6F2D0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55BE-AF06-4E04-9EFA-0D0D93AA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973-6908-475C-981C-4932CAE9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21A3-7E90-4A75-9E07-45981F352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9/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back at your notes and past journals, or you can look at pages 156-57, what problems do you see arising in Rome? If you had to guess, how will one or all of these lead to the fall of the Roman Emp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man Empire spl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 of the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Pax Ro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960" y="167616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Caesar’s death there is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acefu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called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x Romana (meaning Roman Peac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does not last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erors don’t rule long b/c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y are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50 yrs there ar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mperors; on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s a natural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www.the-romans.co.uk/g9/09.marcus_aurelius_small.jpg"/>
          <p:cNvPicPr/>
          <p:nvPr/>
        </p:nvPicPr>
        <p:blipFill>
          <a:blip r:embed="rId1"/>
          <a:stretch/>
        </p:blipFill>
        <p:spPr>
          <a:xfrm>
            <a:off x="5334120" y="1905120"/>
            <a:ext cx="27334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Emperors attempt re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990720"/>
            <a:ext cx="5715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ocletian split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o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/c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Empire is too big for one man to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ire is divided in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a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s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ealth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an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mes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tantin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s had bee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il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ome. Constantine welcomes them bac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rome.mrdonn.org/maprome.gif"/>
          <p:cNvPicPr/>
          <p:nvPr/>
        </p:nvPicPr>
        <p:blipFill>
          <a:blip r:embed="rId1"/>
          <a:srcRect l="3122" t="6838" r="3122" b="4275"/>
          <a:stretch/>
        </p:blipFill>
        <p:spPr>
          <a:xfrm>
            <a:off x="5257800" y="2579760"/>
            <a:ext cx="38862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ter the Hu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1371600"/>
            <a:ext cx="5334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e is weaken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ia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p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a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e becomes an easy target for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madic inva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n, from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ack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 is Atti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Hu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s believe God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nt him to punish Rome for its 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emersonkent.com/images/attila_the_hun.jpg"/>
          <p:cNvPicPr/>
          <p:nvPr/>
        </p:nvPicPr>
        <p:blipFill>
          <a:blip r:embed="rId1"/>
          <a:stretch/>
        </p:blipFill>
        <p:spPr>
          <a:xfrm>
            <a:off x="5630760" y="1600200"/>
            <a:ext cx="35132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3:40:29Z</dcterms:created>
  <dc:creator>Christine Sturges</dc:creator>
  <dc:description/>
  <dc:language>en-US</dc:language>
  <cp:lastModifiedBy>IT Clone User</cp:lastModifiedBy>
  <dcterms:modified xsi:type="dcterms:W3CDTF">2010-09-07T21:27:40Z</dcterms:modified>
  <cp:revision>390</cp:revision>
  <dc:subject/>
  <dc:title>Caesar and the Decline of the Republic</dc:title>
</cp:coreProperties>
</file>