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3FE5-0063-4C65-9657-7C73190D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DB90-C6F7-4BA9-A3B4-B1417387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461-7A20-49DF-B01F-7098D8073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D16-FC98-4D5D-B0FC-4CA1641E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7AB1-E67D-4991-B87F-688B0B9C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7FB-BF40-43DC-AC54-4009F6F7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1F3-0771-4D88-B512-B3E65E78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1E0E-018F-40F2-8153-4B0191FF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21D-3A20-4877-9484-B39F6BA6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9BD1-AA8C-419B-81B1-DEE5D55D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E255-639D-4B17-B90F-7B024F9E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AEB-0B5B-41F2-A68F-BCC70988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04FB-EDF1-4AB6-9C05-FF41A613A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9/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k back at your notes and past journals, or you can look at pages 156-57, what problems do you see arising in Rome? If you had to guess, how will one or all of these lead to the fall of the Roman Emp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F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oman Empire spl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 of th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ax Ro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5960" y="1676160"/>
            <a:ext cx="5181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Caesar’s death there is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eacefu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called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ax Romana (meaning Roman Peace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does not las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erors don’t rule long b/c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y are ki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50 yrs there ar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2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perors; on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on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es a natural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the-romans.co.uk/g9/09.marcus_aurelius_small.jpg"/>
          <p:cNvPicPr/>
          <p:nvPr/>
        </p:nvPicPr>
        <p:blipFill>
          <a:blip r:embed="rId1"/>
          <a:stretch/>
        </p:blipFill>
        <p:spPr>
          <a:xfrm>
            <a:off x="5334120" y="1905120"/>
            <a:ext cx="2733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Emperors attempt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-360" y="990720"/>
            <a:ext cx="5715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ocletian spli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om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/c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Empire is too big for one man to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ire is divided in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a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ep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ealthy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ames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onstantin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had be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xile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Rome. Constantine welcomes them ba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ttp://rome.mrdonn.org/maprome.gif"/>
          <p:cNvPicPr/>
          <p:nvPr/>
        </p:nvPicPr>
        <p:blipFill>
          <a:blip r:embed="rId1"/>
          <a:srcRect l="3122" t="6838" r="3122" b="4275"/>
          <a:stretch/>
        </p:blipFill>
        <p:spPr>
          <a:xfrm>
            <a:off x="5257800" y="257976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er the Hun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1371600"/>
            <a:ext cx="5334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 is weaken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ia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pr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e becomes an easy target for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madic inva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, fro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s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sack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5090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er is Atti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Hu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ristians believe God: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ent him to punish Rome for its 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http://www.emersonkent.com/images/attila_the_hun.jpg"/>
          <p:cNvPicPr/>
          <p:nvPr/>
        </p:nvPicPr>
        <p:blipFill>
          <a:blip r:embed="rId1"/>
          <a:stretch/>
        </p:blipFill>
        <p:spPr>
          <a:xfrm>
            <a:off x="5630760" y="1600200"/>
            <a:ext cx="351324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23:40:29Z</dcterms:created>
  <dc:creator>Christine Sturges</dc:creator>
  <dc:description/>
  <dc:language>en-US</dc:language>
  <cp:lastModifiedBy>IT Clone User</cp:lastModifiedBy>
  <dcterms:modified xsi:type="dcterms:W3CDTF">2010-09-07T21:27:40Z</dcterms:modified>
  <cp:revision>390</cp:revision>
  <dc:subject/>
  <dc:title>Caesar and the Decline of the Republic</dc:title>
</cp:coreProperties>
</file>