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F32-35D1-4BD1-8569-AE192A7A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FCC-ADD2-4350-BBF5-EAAAA8C6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2A9F-FAB0-451A-9A31-575FAB44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7FD-6B55-47F3-B6AE-7BD3F01F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24D9-1ABA-49FF-A023-E62966E4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8A05-4168-4A70-90A9-C20DD26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3131-6948-461E-87E3-17F27625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BB23-BBF8-4513-8AF3-3F17B93F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09974-02EB-4798-9184-856051DC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139A-668E-4702-90C8-B6E47D7F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7FD05-CC92-4A33-AF28-06BA77F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D8F-379B-46D1-B52A-81BFB0E0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EE4E-4A61-4B4E-97A6-3AD509A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0D9-5DE6-44FB-A247-53BAD8BF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BD80-3C64-4A4A-B049-0741F380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7454-9A89-4E04-8900-6A310C15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BA75-1830-4819-BA69-4C67D6A3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206-3811-4BE3-A00E-E287AE8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975-74D5-4B66-8505-96AA211C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E74B-7CFF-45EC-B84B-AEA9DEF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8D6E-6039-4602-9C2A-4CECA2D6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D4E-7562-4497-B53F-50845DB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CAA-70B7-475A-891B-E1B2A7F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8E5-36CB-47F6-99D9-E2AADDE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F48-367F-48E3-B365-27BD6DE140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5B9D-CA23-4988-88C9-C355080921C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ou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sell souvenirs and craft i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exploi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eak stereotyp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935 Indian arts and craft acts- which protects native American art from being copied for prof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untitled.bmp"/>
          <p:cNvPicPr/>
          <p:nvPr/>
        </p:nvPicPr>
        <p:blipFill>
          <a:blip r:embed="rId2"/>
          <a:stretch/>
        </p:blipFill>
        <p:spPr>
          <a:xfrm>
            <a:off x="5943600" y="990720"/>
            <a:ext cx="28954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Originated from tribal ceremon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Employm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1988 Indian Gaming Regulatory Act-states can decide if it wants  to allow gambling or no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2004 28states and 224 tribes  allow gamb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- 2/3 no gamb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-  tribes w/ gabling decrease unemployment and increases house hold inc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casion.jpg"/>
          <p:cNvPicPr/>
          <p:nvPr/>
        </p:nvPicPr>
        <p:blipFill>
          <a:blip r:embed="rId2"/>
          <a:stretch/>
        </p:blipFill>
        <p:spPr>
          <a:xfrm>
            <a:off x="-547560" y="0"/>
            <a:ext cx="101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untitled.bmp"/>
          <p:cNvPicPr/>
          <p:nvPr/>
        </p:nvPicPr>
        <p:blipFill>
          <a:blip r:embed="rId1"/>
          <a:stretch/>
        </p:blipFill>
        <p:spPr>
          <a:xfrm>
            <a:off x="6172200" y="4429080"/>
            <a:ext cx="297180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jor source of 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1 in every 4 work for 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854 BIA has had a policy to giving employment to native Americans over wh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half of BIA made up of native Americ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employment range from 23-90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42:45Z</dcterms:created>
  <dc:creator>TPS</dc:creator>
  <dc:description/>
  <dc:language>en-US</dc:language>
  <cp:lastModifiedBy>TPS</cp:lastModifiedBy>
  <dcterms:modified xsi:type="dcterms:W3CDTF">2009-01-26T21:20:59Z</dcterms:modified>
  <cp:revision>5</cp:revision>
  <dc:subject/>
  <dc:title>Tourism &amp; Casino Gambling </dc:title>
</cp:coreProperties>
</file>