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50E-3E35-4745-B516-EA4638E07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C59-2C7D-4DD3-B82F-8ADABF697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8DB0-F822-478A-950B-2739A037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267-F5EA-41A1-83DC-528720CA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4720-6EBF-4B82-BBDE-540B84D3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694F-2039-4516-BBB0-612427F1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DF2E-7354-4A39-B4D1-9CA6492E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2A8A-C1EE-4075-98D9-37A4896D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7C38-F753-438B-A873-A7F06B87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F875-056C-499F-8018-1A93E200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B877-38C1-4AA3-8264-E1E6A914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1AAF-3F62-444D-98FE-20CF27D4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7EC9-37C8-47BF-9608-83A25A6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8F30-DD63-4391-B1C1-59EB3AA9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060E-52A3-49C2-9104-D769BB83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6172-8D3A-4F4C-BAF5-E1488CEB5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048A-FCA7-4269-85A8-69F18D8C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DE46-F448-4671-9E4D-6CF153AB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94A-5CC6-4E8C-88D6-97BD50BE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8B8-8943-4149-A12E-8D818CC7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FC3-FE39-452E-94D4-E651C702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7005-3B4B-4D2E-8E14-F092029F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F343-1E9D-4CF7-909B-80F92023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64CD-382C-48B9-9088-F5F30133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832B-D782-49F8-9B85-0D05BE27339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8AD7-00AF-4353-9C90-1D671498066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Touris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loy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sell souvenirs and craft item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exploita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reak stereotyp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1935 Indian arts and craft acts- which protects native American art from being copied for profi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3" descr="untitled.bmp"/>
          <p:cNvPicPr/>
          <p:nvPr/>
        </p:nvPicPr>
        <p:blipFill>
          <a:blip r:embed="rId2"/>
          <a:stretch/>
        </p:blipFill>
        <p:spPr>
          <a:xfrm>
            <a:off x="5943600" y="990720"/>
            <a:ext cx="2895480" cy="28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14440" indent="-3862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Originated from tribal ceremoni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Employmen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1988 Indian Gaming Regulatory Act-states can decide if it wants  to allow gambling or no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2004 28states and 224 tribes  allow gambl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- 2/3 no gambl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-  tribes w/ gabling decrease unemployment and increases house hold inc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Book Antiqu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38628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3" descr="casion.jpg"/>
          <p:cNvPicPr/>
          <p:nvPr/>
        </p:nvPicPr>
        <p:blipFill>
          <a:blip r:embed="rId2"/>
          <a:stretch/>
        </p:blipFill>
        <p:spPr>
          <a:xfrm>
            <a:off x="-547560" y="0"/>
            <a:ext cx="1016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untitled.bmp"/>
          <p:cNvPicPr/>
          <p:nvPr/>
        </p:nvPicPr>
        <p:blipFill>
          <a:blip r:embed="rId1"/>
          <a:stretch/>
        </p:blipFill>
        <p:spPr>
          <a:xfrm>
            <a:off x="6172200" y="4429080"/>
            <a:ext cx="2971800" cy="2428920"/>
          </a:xfrm>
          <a:prstGeom prst="rect">
            <a:avLst/>
          </a:prstGeom>
          <a:ln w="0">
            <a:noFill/>
          </a:ln>
        </p:spPr>
      </p:pic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ajor source of employ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- 1 in every 4 work for govern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nce 1854 BIA has had a policy to giving employment to native Americans over whit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half of BIA made up of native American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nemployment range from 23-90%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9:42:45Z</dcterms:created>
  <dc:creator>TPS</dc:creator>
  <dc:description/>
  <dc:language>en-US</dc:language>
  <cp:lastModifiedBy>TPS</cp:lastModifiedBy>
  <dcterms:modified xsi:type="dcterms:W3CDTF">2009-01-26T21:20:59Z</dcterms:modified>
  <cp:revision>5</cp:revision>
  <dc:subject/>
  <dc:title>Tourism &amp; Casino Gambling </dc:title>
</cp:coreProperties>
</file>