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7E0-8C1B-490F-A997-5DD5705A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401-EC6E-4FCD-A6B6-2E49758B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619-9536-4986-AB17-75A61E49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A9BE-9DDC-4154-A133-9D14566F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829-01B7-46A8-8CEA-C7FC0DB4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C23-AAEF-4ECF-910F-905E8197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3C86-35C0-424A-8BD9-AB18AF87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8289-32EE-4161-89A4-F79B9FE5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0C1-4D74-4D82-82BF-95E9957D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6DB-48A9-441C-821C-1123BAB0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9AD1-1217-4A83-889D-BA4AB180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053-D8D2-4FA6-ACBB-CACB982C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8CDF-6EDD-4394-8F62-B98779900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H 2 review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stwerd Expansion, 2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Industrial Rev., Immigration and Popu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ran from ‘cattle country’ to R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tl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se laws w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t to turn public land into private proper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es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rill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fic Railway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w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vision of the Homestead A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ers had to agree to never leave the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ers had to farm land for 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ers had to make improvements to the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s of families got 160 acres of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law created agricultural school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rill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fic Railway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es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ndustrial Revolution starts when _________ replaces ________ as a main source of pow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am, 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, S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l, I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ine,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Bessemer Pro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 cheap way to conduct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 fast way to create rail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n efficient way of converting iron to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a ‘get rich quick’ scheme for the Gilded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ue about the Transcontinental Railroa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commissioned to build RRs to the West Co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Union and Central Pacific R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commissioned to build RRs from the Midwest to the East Co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built, mostly, with immigrant lab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 is a system in which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controls every aspect of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owns most, but not all,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owns very little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does not run industry but can set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issez-Faire capitalism is best described as a system wher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regulates all private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takes a ‘hands off’ approach to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creates ‘watch dog’ institutions to regulate in business when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rivate ownership ex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the gov’t became nervous about the growing power of big business they created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la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rman Antitrust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Federation of Lab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brazen Gen was killed at the Battle of Little Bighor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C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Forsy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Chiv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nights of labor, one of the first ones of these, fought for workers righ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t Groups in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divisions of the Gov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something the KoL did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obby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 of immigrant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er work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 p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r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best describes Social Darwinis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businesses will survive b/c they are better able to adjust to changing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usinesses are good for the economy; we should help them stay a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usiness should be outlaw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can afford it should go out of their way to shop 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a new immigrant; I knock on the door of the house I rent to you, give you a turkey for the holidays and a meeting time for a job. In return I expect your support on election day. I a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5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Gr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ss of a labor u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ss of a political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er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strike stopped freight for more than a week, required local militias and even the US Army and killed over 100 peop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lman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Railroad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market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w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quirement to immigrate to the US in 1880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h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ation from previous employ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enevolent societi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s set up to help the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rches set up in ethnic comminutes to serve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s set up to help immigrants find jobs, housing,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v’t run organization to help immigrants find jobs, housing,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the idea that immigration poses a threat to a tradition American way of lif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enopho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leman's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, passed in response to segregated schools, limited the immigration of unskilled labor to the 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nese Exclusion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leman's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organization fought the exploitation of small farmers thru unfair RR pric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G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’s Al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th this policy the US hoped to completely destroy the Native American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following i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 part of the Populist plat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age of money based on the gold and silver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regulation of RRs and tele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issez-Fair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ocacy for ‘regular peopl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i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 prevision of the Dawes A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ive land would be broke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s had to, once again, move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s would become private owners of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would be passed to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was the federal agency in charge of the reserv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of Native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of the Indian Coun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ard of Indian Aff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of Indian Aff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first significant gold rush that started expansion to the west wa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stock L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ers Gold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lond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isholm Tr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fore mining towns appeared prospectors created these near vein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o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ng C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order to suppress violence in the camps many prospectors turned 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 A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eriff of near by tow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gilant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rder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emand for ______ sky rockets after the Civil Wa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2:45:48Z</dcterms:created>
  <dc:creator>IT Clone User</dc:creator>
  <dc:description/>
  <dc:language>en-US</dc:language>
  <cp:lastModifiedBy>IT Clone User</cp:lastModifiedBy>
  <dcterms:modified xsi:type="dcterms:W3CDTF">2009-10-07T11:48:42Z</dcterms:modified>
  <cp:revision>120</cp:revision>
  <dc:subject/>
  <dc:title>Slide 1</dc:title>
</cp:coreProperties>
</file>