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FF94-04E2-4170-A01A-D3966E5C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0BBA-0785-4B07-99D9-AE693F02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8BC-B27F-4623-95A8-7EA5008C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2BA-5098-4D4E-8A94-9E38C167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A2A-E194-4E08-BAB7-CCE6742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27F-D828-4165-86CA-3FAA4971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55D2-8703-45F0-BEB0-DE2FB373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9F7-3B11-4E20-AE39-DC98E384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2FC-669B-4229-A7C9-7C6CD7DE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743B-1D1B-48DD-94B4-B8CA9D95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E1D-1AE8-4B99-91E0-A7F8835B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DD19-1306-4392-9F03-09AFDFE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9492-1F45-49E8-A32A-4DD41C30A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H 2 review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estwerd Expansion, 2</a:t>
            </a:r>
            <a:r>
              <a:rPr b="0" lang="en-US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Industrial Rev., Immigration and Popu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se ran from ‘cattle country’ to R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ttle Tr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se laws w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meant to turn public land into private property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wes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rill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fic Railway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w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vision of the Homestead A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ers had to agree to never leave the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ers had to farm land for 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ers had to make improvements to the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s of families got 160 acres of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law created agricultural school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rill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cific Railway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wes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ndustrial Revolution starts when _________ replaces ________ as a main source of powe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am, 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, S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l, I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ine, M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Bessemer Proc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 cheap way to conduct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 fast way to create railro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an efficient way of converting iron to 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was a ‘get rich quick’ scheme for the Gilded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rue about the Transcontinental Railroa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commissioned to build RRs to the West Co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up of Union and Central Pacific R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commissioned to build RRs from the Midwest to the East Co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 built, mostly, with immigrant lab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 is a system in which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controls every aspect of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owns most, but not all,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owns very little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does not run industry but can set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aissez-Faire capitalism is best described as a system where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regulates all private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takes a ‘hands off’ approach to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vernment creates ‘watch dog’ institutions to regulate in business when n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rivate ownership ex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the gov’t became nervous about the growing power of big business they created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lack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rman Antitrust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 Federation of Lab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brazen Gen was killed at the Battle of Little Bighor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C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Forsy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Chiv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 Washing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nights of labor, one of the first ones of these, fought for workers right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st Groups in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divisions of the Gov’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r Un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something the KoL did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lobby fo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 of immigrant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er work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 p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fer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best describes Social Darwinis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 businesses will survive b/c they are better able to adjust to changing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usinesses are good for the economy; we should help them stay al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 business should be outlaw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se who can afford it should go out of their way to shop lo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a new immigrant; I knock on the door of the house I rent to you, give you a turkey for the holidays and a meeting time for a job. In return I expect your support on election day. I am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56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ident Gr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ss of a labor un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ss of a political mach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er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strike stopped freight for more than a week, required local militias and even the US Army and killed over 100 peop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lman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Railroad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market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stead Str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wa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requirement to immigrate to the US in 1880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$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h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mmendation from previous employ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benevolent societi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s set up to help the po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urches set up in ethnic comminutes to serve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zations set up to help immigrants find jobs, housing,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gov’t run organization to help immigrants find jobs, housing,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is the idea that immigration poses a threat to a tradition American way of lif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enophob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leman's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, passed in response to segregated schools, limited the immigration of unskilled labor to the 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nese Exclusion 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Darwi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tleman's Agre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organization fought the exploitation of small farmers thru unfair RR pric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of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Gr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’s Al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th this policy the US hoped to completely destroy the Native American cul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fest Desti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following i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 part of the Populist platfor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inage of money based on the gold and silver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regulation of RRs and telegrap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issez-Fair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ocacy for ‘regular peopl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of the following is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 prevision of the Dawes A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ive land would be broke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s had to, once again, move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s would become private owners of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d would be passed to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was the federal agency in charge of the reserv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of Native Re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of the Indian Counc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ard of Indian Aff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eau of Indian Aff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first significant gold rush that started expansion to the west wa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stock L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9ers Gold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londi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hisholm Tr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fore mining towns appeared prospectors created these near veins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o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ng Cam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order to suppress violence in the camps many prospectors turned t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 A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heriff of near by tow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gilant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rder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demand for ______ sky rockets after the Civil War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2:45:48Z</dcterms:created>
  <dc:creator>IT Clone User</dc:creator>
  <dc:description/>
  <dc:language>en-US</dc:language>
  <cp:lastModifiedBy>IT Clone User</cp:lastModifiedBy>
  <dcterms:modified xsi:type="dcterms:W3CDTF">2009-10-07T11:48:42Z</dcterms:modified>
  <cp:revision>120</cp:revision>
  <dc:subject/>
  <dc:title>Slide 1</dc:title>
</cp:coreProperties>
</file>