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394-703B-4653-AB33-05091276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7E0-036D-42F4-88E9-28C32E17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DE1-4F69-4354-9F11-EEBCA236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13B-C67E-4CB5-8A36-0C5304E1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A8C1-3D85-4E60-8086-547DD74D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50D9-3CB1-4D7D-AED1-B12B6B5D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62BE-757C-45E6-8CCE-F6A93464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CAE2-6DCF-4CDC-9543-94C9C807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C5B2-47D0-403D-838D-8A1E5820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C179-6EEF-43B1-852F-F1BE387B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0B8D-A45C-47D5-899B-38E61320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8C7C-82B2-4156-9A5B-6EEC46AF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F984-795F-4218-9483-A6254584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D612-CA29-4BE0-8A2D-4CA5C826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7EA3-12EC-4ECE-96D5-866C2614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866E-E40E-4592-B890-927CB29BD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BE2B-1DD9-457B-84EA-787F1791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C2C-E7F2-434A-B730-2230F592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814-3E91-4E60-AE69-A3EC30A8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66B-7341-4692-AEED-05784413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304-523E-4016-B062-7BBA6F03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D974-2DDE-4410-91F1-03443729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351A-9806-4CCE-B482-82020C2C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2524-7223-4D02-B4D2-BFAEE22A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>
                <a:gd name="textAreaLeft" fmla="*/ 0 w 7772400"/>
                <a:gd name="textAreaRight" fmla="*/ 7772760 w 7772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>
                <a:gd name="textAreaLeft" fmla="*/ 0 w 7782120"/>
                <a:gd name="textAreaRight" fmla="*/ 7782480 w 7782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>
                <a:gd name="textAreaLeft" fmla="*/ 0 w 7920000"/>
                <a:gd name="textAreaRight" fmla="*/ 7920360 w 79200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ADAF-2B44-4FF9-9C09-AA9121333D58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>
                <a:gd name="textAreaLeft" fmla="*/ 0 w 7772400"/>
                <a:gd name="textAreaRight" fmla="*/ 7772760 w 7772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>
                <a:gd name="textAreaLeft" fmla="*/ 0 w 7782120"/>
                <a:gd name="textAreaRight" fmla="*/ 7782480 w 7782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>
                <a:gd name="textAreaLeft" fmla="*/ 0 w 7920000"/>
                <a:gd name="textAreaRight" fmla="*/ 7920360 w 79200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9D7D-B630-4219-9A9B-C6C934C9831B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5/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, in your mind, was the most significant event we have talked about this semester? Explain your answ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rue about the MO Compromi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Maine and Missouri slav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Maine and Missouri fre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eft the the slavery question to popular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Maine a free state and Missouri a slave sta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ue about the compromise of 1850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pealed the MO Com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Texas a slav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California a fre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eft the question of slavery in the New Mexico and Utah Territories to popular sovereign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ue about the Kansas-Nebraska act?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pealed the MO Com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Kansas a slav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eft the question of slavery in the KS-NE territories to popular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proposed by Stephan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w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ause of the wa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’s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assination of Lincol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importance of Ft. Sum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last fort still in the hands of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last fort still in the hands of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n ar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Jefferson Dav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’s vice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ident of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 of a slave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ther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ame did the South take after they sec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ederate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of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eded Union of the Confed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SA gener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Long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wall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 general for the Nort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ick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McClel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Ho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about the battle of Chanslorsvil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wanted to surprise the C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SA wanted to surprise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Union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wall Jackson was killed by friendl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l Re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 Battle of Gettysburg st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SA attacked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wanted to invade the North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ker wanted to invade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was assass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 states in the Union wer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d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d traitors to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freed all the sla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freed slaves in rebelling st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a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ysburg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on POW camp was called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son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m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matt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Lee surrendered to Gra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k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matt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ue about John Brow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nd his sons died at Pottawat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nd his sons lead the massacre at Pottawat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hanged for his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ought land in Kan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the 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esident of the 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erson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e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oman helped run the underground R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ly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hel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iet Tub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battle of Antietam famous to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first major battle of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bloodiest single day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last major battle of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longest battle of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ne who believes legislatures can do ONLY what the Constitution says they can is a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 Constructi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 Constructi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ian Democ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ich country did the Industrial Rev. st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connected the Great Lacks to the Hudson to the Pacif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b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rie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arbury v Madis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ave freedmen the right to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imited the powers of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nded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first example of judicia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6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rue about the Industrial Rev.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rked a shift from man power to machine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tarted to move to the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imited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the beginning of modern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6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ight of an American to appear in court charged with a crime i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a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6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is Eli Whit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who invented the textile 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 of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who invented the cotton 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first state to seced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an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John Brow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nviolent aboliti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iolent aboliti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iolent slave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nviolent slave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20:44:11Z</dcterms:created>
  <dc:creator>Christine Sturges</dc:creator>
  <dc:description/>
  <dc:language>en-US</dc:language>
  <cp:lastModifiedBy>IT Clone User</cp:lastModifiedBy>
  <dcterms:modified xsi:type="dcterms:W3CDTF">2010-05-10T13:58:05Z</dcterms:modified>
  <cp:revision>20</cp:revision>
  <dc:subject/>
  <dc:title>Final Review</dc:title>
</cp:coreProperties>
</file>