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313-1D16-4239-BADC-00EF5A3B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39B0-88D2-4842-9EA2-41EF3917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548-E298-42BD-A55A-475377E6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8D4-B083-4C0A-BAF3-D8499E5C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AE6F-D8F2-4377-9D53-21521EE5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9EC6-42C7-460D-83F5-73777431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0719-A332-4930-BBA9-39EAAB99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4E66-D850-45D7-8F6B-1FFC8E40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47DA-082C-4748-8533-78B7C5B4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B180-B2A9-4F9E-80EE-CFB3AA34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260C-B088-419D-857D-84E99D06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4D1-DDDC-41EF-AE39-D7D9B632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6460-BC0C-4053-A2A1-8DAC4F5D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3786-C446-4339-B904-26A65CA6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F554-4543-42E7-B399-1C6EB391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F13E-C59D-42C9-BEC0-269EDC198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9AA7-333B-497D-A68D-E244224F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CEE-089C-49E5-9D8F-9F563283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CA1-6AEF-453C-8CD7-5D68F023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3EB-17C6-433D-A6E1-4B57A560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411-CE9D-4633-A2DF-DAFA19C6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D43C-94BB-4BA8-AEA0-5B2DCDAE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827-C5C6-4942-8ECA-9BAA1DFE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D69-8F40-481A-801E-17C2A0EF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AutoShape 3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>
                <a:gd name="textAreaLeft" fmla="*/ 0 w 7772400"/>
                <a:gd name="textAreaRight" fmla="*/ 7772760 w 7772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>
                <a:gd name="textAreaLeft" fmla="*/ 0 w 7782120"/>
                <a:gd name="textAreaRight" fmla="*/ 7782480 w 7782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>
                <a:gd name="textAreaLeft" fmla="*/ 0 w 7920000"/>
                <a:gd name="textAreaRight" fmla="*/ 7920360 w 7920000"/>
                <a:gd name="textAreaTop" fmla="*/ 360 h 457200"/>
                <a:gd name="textAreaBottom" fmla="*/ 457920 h 457200"/>
              </a:gdLst>
              <a:ahLst/>
              <a:rect l="textAreaLeft" t="textAreaTop" r="textAreaRight" b="textAreaBottom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9F32-3B26-460A-A60E-B95E175CCFAB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48" name="AutoShape 7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661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3e70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>
                <a:gd name="textAreaLeft" fmla="*/ 0 w 7772400"/>
                <a:gd name="textAreaRight" fmla="*/ 7772760 w 77724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baaf6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>
                <a:gd name="textAreaLeft" fmla="*/ 0 w 7782120"/>
                <a:gd name="textAreaRight" fmla="*/ 7782480 w 778212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64f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>
                <a:gd name="textAreaLeft" fmla="*/ 0 w 7920000"/>
                <a:gd name="textAreaRight" fmla="*/ 7920360 w 7920000"/>
                <a:gd name="textAreaTop" fmla="*/ 360 h 457200"/>
                <a:gd name="textAreaBottom" fmla="*/ 457920 h 457200"/>
              </a:gdLst>
              <a:ahLst/>
              <a:rect l="textAreaLeft" t="textAreaTop" r="textAreaRight" b="textAreaBottom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89c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B5C6-D5BA-452D-8F60-E18FFED42D57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5/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915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, in your mind, was the most significant event we have talked about this semester? Explain your answ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rue about the MO Compromi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de Maine and Missouri slav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de Maine and Missouri free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eft the the slavery question to popular sovereig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de Maine a free state and Missouri a slave sta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rue about the compromise of 1850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pealed the MO Comprom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de Texas a slav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de California a fre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eft the question of slavery in the New Mexico and Utah Territories to popular sovereignt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rue about the Kansas-Nebraska act?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pealed the MO Comprom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de Kansas a slave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eft the question of slavery in the KS-NE territories to popular sovereig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proposed by Stephan Doug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wa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cause of the wa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’s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’s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ssassination of Lincol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importance of Ft. Sumt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e last fort still in the hands of the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e last fort still in the hands of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n ars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Jefferson Dav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’s vice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ident of the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der of a slave rebell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uther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name did the South take after they seced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ederate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ed States of the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ceded Union of the Confed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CSA general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Longstr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wall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of the following 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  general for the North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ick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McClel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Ho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about the battle of Chanslorsvil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on wanted to surprise the C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SA wanted to surprise the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Union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wall Jackson was killed by friendly f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nal Revie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the Battle of Gettysburg st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SA attacked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 wanted to invade the North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ker wanted to invade the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coln was assassin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ve states in the Union were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rder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ed traitors to the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jo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freed all the sla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freed slaves in rebelling st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eas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ysburg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on POW camp was called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sonv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m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matto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Lee surrendered to Gra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e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ck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ysb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omatto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rue about John Brow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nd his sons died at Pottawat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and his sons lead the massacre at Pottawat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hanged for his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bought land in Kan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the 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resident of the 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erson D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w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e Linco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oman helped run the underground R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ly Mad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hel Jack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tha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iet Tub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e battle of Antietam famous toda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e first major battle of th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e bloodiest single day bat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e last major battle of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e longest battle of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ne who believes legislatures can do ONLY what the Constitution says they can is a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ct Constructi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se Constructi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ksonian Democ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hich country did the Industrial Rev. star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connected the Great Lacks to the Hudson to the Pacif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mb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ional 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rie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i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Marbury v Madis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gave freedmen the right to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imited the powers of con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ended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the first example of judicial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67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rue about the Industrial Rev.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rked a shift from man power to machine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started to move to the 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limited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d the beginning of modern indu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67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right of an American to appear in court charged with a crime is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ct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eas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s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67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o is Eli Whit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l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who invented the textile m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ident of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n who invented the cotton 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the first state to seced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n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. Caro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kan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John Brow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nviolent aboliti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iolent abolition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iolent slave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onviolent slave ow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20:44:11Z</dcterms:created>
  <dc:creator>Christine Sturges</dc:creator>
  <dc:description/>
  <dc:language>en-US</dc:language>
  <cp:lastModifiedBy>IT Clone User</cp:lastModifiedBy>
  <dcterms:modified xsi:type="dcterms:W3CDTF">2010-05-10T13:58:05Z</dcterms:modified>
  <cp:revision>20</cp:revision>
  <dc:subject/>
  <dc:title>Final Review</dc:title>
</cp:coreProperties>
</file>