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ABE7-7BBA-416D-BE99-192A27A08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B730-604C-4980-B407-B19802DE9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DBF8-914A-4EA0-BE17-4E4FF9449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AC21-8C7E-4E9E-8C9C-6333B5354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83A46-BB0C-49A8-8E10-AC6D94EFF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62B9F-A3F8-4531-8A10-94430599E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1B743-F19B-4F03-B513-6D8EC987C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AC006-5EC0-4C9D-9270-CE7B798C6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51758-1F80-4F00-A88A-3BBB5ECC2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389B5-2A3C-4E00-9882-2D53F7C3F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4F016-0F2D-4FD0-82F3-480213580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8932-3E7E-4161-875B-5D1AAE118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B3B81-63C9-4DF5-9974-A020818B0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6D83C-7F56-4B45-BF04-98166A660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CA21B-B6D2-4FB0-BDEB-9918BE82A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DCE72-1BCA-4EE6-A6BB-19A3FE777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6A51F-B098-468B-8785-2808279E2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4E07-E913-4E1D-8CC8-C061B9674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C1C4-CA23-4FF5-B797-5C184BE37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9E97-EF2A-4555-B04D-5562923B0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3A6B-D010-4200-A5F9-93A06A14D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4E6A-89F4-45EF-AC54-B11102366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14A3-F84F-4689-9A42-CCAA36C0F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BD3D-3F2F-4F96-AA18-D302792DA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Rectangle 6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Rectangle 15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Rectangle 18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25617-9A3C-430F-89F3-316A95FC04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Group 4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Rectangle 6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Rectangle 8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Rectangle 10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Rectangle 12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Rectangle 14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Rectangle 15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Rectangle 16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Rectangle 18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Rectangle 22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Rectangle 26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Rectangle 27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Rectangle 31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CE01F-1657-4604-A7DE-5CB737209F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Journal 3/1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380880" y="1828440"/>
            <a:ext cx="876312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nk about life without TV, (don’t get scared…concentrate). What must the country have been like b/f the average US citizen had 2 TVs? How do you think TV has changed the country? Good things? Bad thing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Early in WWII Hitler signed a non-aggression pact with…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a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uss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gla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ap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4" dur="2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What was NOT true about the non-aggression pact?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lin signed i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lin was promised land won in w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rmany agreed never to attack Russ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itler kept all the promises made in the pa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0" dur="20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The Axis Powers included all BUT…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uss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a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rman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ap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6" dur="2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Why were policies like Cash-and-Carry created?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-56664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 the US could aid Hitler and still remain neutr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-56664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 the US could aid Hitler’s enemies and still remain neutr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-56664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help FDR get re-elec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-56664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help Hitler find favor with the German people b/f WWI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e also Lend-Lease A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2" dur="2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What is NOT a difference btw ‘Stalinism’ and pure Communism?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48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lin envisioned a classless society and pure Communism does no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-57888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lin created a classless society; everyone below him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-57888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lin owned and controlled all aspects of production and socie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-57888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lin gave property, taken from the poor, to the ri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2" dur="2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The first major US operation in WWII was in…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rth Afri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urop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a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8" dur="2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Which of the following was NOT part of Hitler’s ‘final solution’?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truction of work camps to create death camp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truction of death camp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radication of all Jews in Europ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eed the genocide of European Jew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ath camps were created but work camps weren’t destroyed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4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During the Nuremberg Trial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511920" indent="-51192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zis were tried for war crimes. Several were executed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-51192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apanese soldiers were tried for war crimes. Several were execut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-51192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amikaze pilots were tried. Several were executed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-51192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mericans were tried for war crimes. Several were execut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amikazes were suicide pilo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4" dur="2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The Office of War Information (OWI)…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gulated propaganda during WWII in the 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-57888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as a German ‘office’ the US did not create propaganda during the w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-57888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nerated live coverage of the war for news reels in the 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-57888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nt factual information about the war back to FDR and Trum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4" dur="2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This was a policy to fight war by fighting poverty and poor economies all over the world.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uman Doctr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isenhower Doctr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ron Curtain Spee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rshall Pl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0" dur="20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Mid-term  Review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Why did Soviets place a blockade on West Berlin?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response to a democratic gov’t the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85000" indent="-58500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/C Germans in West Berlin were rebell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85000" indent="-58500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/C Germans in East Germany were rebelling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85000" indent="-58500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lin didn’t do this…the English did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85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lin was uncomfortable with the ‘western’ influen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85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85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85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6" dur="2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What was the US and British response to the blockade in the last question?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claration of W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irlift supplies to West Berl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ive their sectors of W. Berlin to the French who had a plan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ow W. Berlin to become part of the USS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6" dur="20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Aside from the growing power of the USSR, the fall of ______to Communism helped create 2</a:t>
            </a:r>
            <a:r>
              <a:rPr b="0" lang="en-US" sz="3600" spc="-1" strike="noStrike" baseline="30000">
                <a:solidFill>
                  <a:srgbClr val="00ffff"/>
                </a:solidFill>
                <a:latin typeface="Times New Roman"/>
              </a:rPr>
              <a:t>nd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 Red Scare 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ap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i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urop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uss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2" dur="2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Before the Korean War the Korean Peninsula was divided into two sectors… 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-56664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. Korea occupied by USS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-56664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. Korea occupied by Fr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-56664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. Korea occupied by the USS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-56664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. Korea was occupied by 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member that it made sense to divide the peninsula the way it was b/c N. Korea bordered communist China and was very close to the Soviet Unio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8" dur="2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Why was Korea divided after WWII?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-56664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had been under Japanese control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-56664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Koreans were being punished for their role in WWI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-56664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was part of the Eisenhower Doctr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-56664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lin attacked the Peninsul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apan found itself on the ‘losing’ side of the war. This was part of surrender, (to give up Korea that is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8" dur="2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Which is NOT true about the Korean War?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 declared war on N. Korea after its invasion of S. Kore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-57888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ar was never officially declared by the US; it was a police ac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-57888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38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Parallel was the border btw the Kore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-57888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thing was gained or lost when the war was ov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8" dur="2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What was the domino theory?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Communism is not contained the world will fall to 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‘West’ should contain Communis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is not the job of the US to destroy Communis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you line up little blocks one in front of the other and flick the first one they all fall ov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4" dur="2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What happened in Panmunjom? 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major batt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N. Koreans surrender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ghting stopped for peace agree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alks of peace went on and so did the figh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nmunjom was a city north of the 38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Parallel. This is where the UN wanted the new border to be. N. Korea refused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0" dur="20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What did NOT help Eisenhower get elected?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uman refused to ru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 was a WWII her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handling of the Korean War up to 195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ix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0" dur="20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This is the idea that Communists should be taken to the edge of war. 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ssive Retali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rinksmanshi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ulles’ Doctr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isenhower Doctr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6" dur="20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An economic system where the means of production are owned by the worker.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700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-56664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talitarianis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-56664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munis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-56664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ascis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-56664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mocra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‘Means of production’ we mean to say the things the worker uses to make the product. This includes the factory and has a emphasis on worker’s righ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In the Arms Race the Soviets made this early advancement over the US.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created and tested an A-Bom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created and tested an H-Bom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sent a human into sp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sent a satellite into spac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2" dur="20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-360" y="6091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This system typically has one leader with unquestioned power.  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mocra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talitarianis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munis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ascis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ascism and, most of the time, Communism are forms of Totalitarianis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" dur="2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Mussolini…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as the Fascist leader of Ita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as the Communist leader of Ita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gned a non-aggression pact with Hitl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as an ally of the US during WWI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" dur="2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Why was Italy so mad about the Treaty of Versailles?  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had to give up conquered lan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85000" indent="-58500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treaty ignored their part in WW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85000" indent="-58500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treaty did not punish Germany enoug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85000" indent="-58500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Weimar Republic was weak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85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member, Italy was on the ‘winning’ side of WWI and felt they deserved more from the treaty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" dur="2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What was NOT something Germany had to do according to the Treaty of Versailles? 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700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militariz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ld Democratic elec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ive up conquered la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ake full responsibility for the w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2" dur="2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This is a system of gov’t that stresses the glory of the state.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700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ascis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munis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mocra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narch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ssolini said “Everything in the state, nothing outside the state, nothing against the state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8" dur="2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Early in WWII, Hitler shocked Europe when he invented a reason to attack…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700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lg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urke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uss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la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8" dur="20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8T17:01:35Z</dcterms:created>
  <dc:creator>TPS</dc:creator>
  <dc:description/>
  <dc:language>en-US</dc:language>
  <cp:lastModifiedBy>IT Clone User</cp:lastModifiedBy>
  <dcterms:modified xsi:type="dcterms:W3CDTF">2010-03-01T22:25:08Z</dcterms:modified>
  <cp:revision>51</cp:revision>
  <dc:subject/>
  <dc:title>Journal 5/8</dc:title>
</cp:coreProperties>
</file>