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0274-F38B-4D3D-9CD1-407D4E65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884F-F34D-4C1C-90A1-2E269172D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2374-B840-4572-9550-61F25EFD6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825B-6F7D-4196-8782-D7A92C0D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9B86-E6CD-4053-86DC-00F44851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9CC2-40F9-49E7-8ED5-6079418E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819B-89A9-4123-84B9-AAD5163C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7374-8FB9-44D6-883F-FC46705C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B520-3639-45B8-8D40-46AF5D8E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60D1-35C6-4308-AF4B-088229BD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C9F4-353D-46D4-AD71-4161FA85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83C7-4907-4E5E-99A8-9F888086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9C8D-B2D7-4712-8ED6-BA783FBC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760A-58BF-4C8C-B829-251B1AFE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12A6-C105-4EDE-BB6A-E0FF8DD9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A67A-429F-4FA2-8B4B-D6401FD3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9C26-A6A2-44FA-A629-CA9DA0E6A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BC35-826E-48E3-9CC6-3B15440D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3CC1-6786-45A7-BD7A-C45F865B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2041-F5B0-464D-8B1B-6E8310E4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BCDA-AB1A-45B8-9B02-501FF049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D3D0-1549-41C1-9092-6F3B3BF1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C229-EB6A-468E-A8E2-306DC168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E003-D792-467D-8777-26E56869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06B0-1911-45DA-9658-5E1EB1FBB4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3965-F11F-4E8B-95B1-D67D1C4EEC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Journal 3/1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380880" y="1828440"/>
            <a:ext cx="87631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k about life without TV, (don’t get scared…concentrate). What must the country have been like b/f the average US citizen had 2 TVs? How do you think TV has changed the country? Good things? Bad thing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arly in WWII Hitler signed a non-aggression pact with…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a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ss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g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p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was NOT true about the non-aggression pact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lin signed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lin was promised land won in w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rmany agreed never to attack Russ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tler kept all the promises made in the p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 Axis Powers included all BUT…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ss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a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rma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p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y were policies like Cash-and-Carry created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the US could aid Hitler and still remain 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the US could aid Hitler’s enemies and still remain neut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help FDR get re-el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help Hitler find favor with the German people b/f WW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 also Lend-Lease 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is NOT a difference btw ‘Stalinism’ and pure Communism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lin envisioned a classless society and pure Communism does no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lin created a classless society; everyone below hi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lin owned and controlled all aspects of production and soci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lin gave property, taken from the poor, to the r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 first major US operation in WWII was in…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th Afr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ur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a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ich of the following was NOT part of Hitler’s ‘final solution’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truction of work camps to create death cam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ruction of death cam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radication of all Jews in Eur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ed the genocide of European Jew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ath camps were created but work camps weren’t destroy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During the Nuremberg Trial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zis were tried for war crimes. Several were executed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panese soldiers were tried for war crimes. Several were execu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mikaze pilots were tried. Several were execut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ericans were tried for war crimes. Several were execu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mikazes were suicide pil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e Office of War Information (OWI)…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ed propaganda during WWII in the 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s a German ‘office’ the US did not create propaganda during the w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ted live coverage of the war for news reels in the 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t factual information about the war back to FDR and Tru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4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is was a policy to fight war by fighting poverty and poor economies all over the world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uman Doctr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isenhower Doctr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ron Curtain Spee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shall P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0" dur="2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id-term  Review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y did Soviets place a blockade on West Berlin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response to a democratic gov’t t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/C Germans in West Berlin were rebel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/C Germans in East Germany were rebell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lin didn’t do this…the English di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lin was uncomfortable with the ‘western’ influ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6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was the US and British response to the blockade in the last question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laration of W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irlift supplies to West Berl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 their sectors of W. Berlin to the French who had a plan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w W. Berlin to become part of the USS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Aside from the growing power of the USSR, the fall of ______to Communism helped create 2</a:t>
            </a:r>
            <a:r>
              <a:rPr b="0" lang="en-US" sz="3600" spc="-1" strike="noStrike" baseline="30000">
                <a:solidFill>
                  <a:srgbClr val="00ffff"/>
                </a:solidFill>
                <a:latin typeface="Times New Roman"/>
              </a:rPr>
              <a:t>nd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Red Scare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p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ur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ss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" dur="2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Before the Korean War the Korean Peninsula was divided into two sectors…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. Korea occupied by USS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. Korea occupied by F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. Korea occupied by the USS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. Korea was occupied by 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at it made sense to divide the peninsula the way it was b/c N. Korea bordered communist China and was very close to the Soviet Un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y was Korea divided after WWII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d been under Japanese contro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Koreans were being punished for their role in WW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was part of the Eisenhower Doctr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lin attacked the Peninsul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pan found itself on the ‘losing’ side of the war. This was part of surrender, (to give up Korea that is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8" dur="2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ich is NOT true about the Korean Wa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 declared war on N. Korea after its invasion of S. Kore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r was never officially declared by the US; it was a police a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3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arallel was the border btw the Kore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hing was gained or lost when the war was 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8" dur="2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was the domino theory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Communism is not contained the world will fall to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‘West’ should contain Commu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not the job of the US to destroy Commu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you line up little blocks one in front of the other and flick the first one they all fall ov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2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happened in Panmunjom?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ajor batt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. Koreans surrende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ghting stopped for peace agre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lks of peace went on and so did the figh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nmunjom was a city north of the 3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arallel. This is where the UN wanted the new border to be. N. Korea refus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" dur="20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did NOT help Eisenhower get elected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uman refused to r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was a WWII he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andling of the Korean War up to 195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x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0" dur="2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is is the idea that Communists should be taken to the edge of war.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ssive Retal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inksman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lles’ Doctr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isenhower Doctr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6" dur="2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An economic system where the means of production are owned by the worker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talitaria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sc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cra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‘Means of production’ we mean to say the things the worker uses to make the product. This includes the factory and has a emphasis on worker’s righ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In the Arms Race the Soviets made this early advancement over the US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created and tested an A-Bo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created and tested an H-Bo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sent a human into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sent a satellite into spa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2" dur="2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is system typically has one leader with unquestioned power. 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cra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talitaria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sc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scism and, most of the time, Communism are forms of Totalitaria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ussolini…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s the Fascist leader of Ita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s the Communist leader of Ita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gned a non-aggression pact with Hit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s an ally of the US during WW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y was Italy so mad about the Treaty of Versailles? 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had to give up conquered la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reaty ignored their part in WW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reaty did not punish Germany enoug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eimar Republic was wea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, Italy was on the ‘winning’ side of WWI and felt they deserved more from the treat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at was NOT something Germany had to do according to the Treaty of Versailles?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ilitar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ld Democratic ele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ve up conquered 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full responsibility for the w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his is a system of gov’t that stresses the glory of the state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sc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cra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arc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ssolini said “Everything in the state, nothing outside the state, nothing against the stat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arly in WWII, Hitler shocked Europe when he invented a reason to attack…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00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lg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rk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ss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17:01:35Z</dcterms:created>
  <dc:creator>TPS</dc:creator>
  <dc:description/>
  <dc:language>en-US</dc:language>
  <cp:lastModifiedBy>IT Clone User</cp:lastModifiedBy>
  <dcterms:modified xsi:type="dcterms:W3CDTF">2010-03-01T22:25:08Z</dcterms:modified>
  <cp:revision>51</cp:revision>
  <dc:subject/>
  <dc:title>Journal 5/8</dc:title>
</cp:coreProperties>
</file>