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6755-2418-4A82-AEE7-1107950D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7AA-B65F-4E8E-93B5-960065F9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D2A-1C65-4BE5-87A1-91B74A01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1E1-7E8E-40E2-9A6C-BEA89F90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C26-EF54-426B-86AF-3686A70F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DA7-1C00-4D96-9403-19E9E8EB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4F16-2000-480A-AA81-306EB3B5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12A-5E2A-475E-B7B4-34A88415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A4-6EBD-4CEF-8E0F-0AB45DDE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F75-4DE4-485F-B93C-13C11434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F5D-E1D3-4137-B6C6-92CD805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9AD-1ACF-4929-BC43-90960E87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6D4D-3A64-4459-A47C-FDFEDBF6C6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 3/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ick one of these statements to agree with and discuss it in your jour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believe the gov’t has the right to do ONLY what the Constitution specifically says it ca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believe the gov’t has the right to interpret what the Constitution says. In other words, even if it does not mention a right specifically, I believe we may still have that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ll me why you agree with one of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irst Few Y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ew Presidents and a few Congr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the Standar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6854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abi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t of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t of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t of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hington chose men he_______ although not a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diciary Act of 1789 sets up the _______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1.bp.blogspot.com/_kRB0I0a_WFw/SmQfxiCASVI/AAAAAAAADSI/ytVs4022qZI/s320/cabinet.jpg"/>
          <p:cNvPicPr/>
          <p:nvPr/>
        </p:nvPicPr>
        <p:blipFill>
          <a:blip r:embed="rId1"/>
          <a:stretch/>
        </p:blipFill>
        <p:spPr>
          <a:xfrm>
            <a:off x="4557600" y="1447920"/>
            <a:ext cx="4357800" cy="3295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038480" y="4876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m left: President George Washington, Secretary of War Henry Knox, Secretary of the Treasury Alexander Hamilton, Secretary of State Thomas Jefferson, and Attorney General Edmund Randol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tional Deb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6854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Hamilton was:            had a plan to end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ds should take on a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a national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ulate other 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loans to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new kinds of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rif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ci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fferson and Madison dislike the plan. Compromis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biggovernment.com/files/2010/01/alexander-hamilton.jpg"/>
          <p:cNvPicPr/>
          <p:nvPr/>
        </p:nvPicPr>
        <p:blipFill>
          <a:blip r:embed="rId1"/>
          <a:stretch/>
        </p:blipFill>
        <p:spPr>
          <a:xfrm>
            <a:off x="4724280" y="1143000"/>
            <a:ext cx="3895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iskey Rebe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6854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ise tax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effects farmers wh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/f this, ppl in west fel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mers in Western Penn 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ack tax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troy homes of farmers wh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hington steps in setting the precedent fo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g.mil/resources/photo_gallery/heritage/images/lawsunion.jpg"/>
          <p:cNvPicPr/>
          <p:nvPr/>
        </p:nvPicPr>
        <p:blipFill>
          <a:blip r:embed="rId1"/>
          <a:srcRect l="0" t="16424" r="20756" b="0"/>
          <a:stretch/>
        </p:blipFill>
        <p:spPr>
          <a:xfrm>
            <a:off x="4257720" y="2666880"/>
            <a:ext cx="4564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1:53:22Z</dcterms:created>
  <dc:creator>IT Clone User</dc:creator>
  <dc:description/>
  <dc:language>en-US</dc:language>
  <cp:lastModifiedBy>IT Clone User</cp:lastModifiedBy>
  <dcterms:modified xsi:type="dcterms:W3CDTF">2010-03-10T22:56:41Z</dcterms:modified>
  <cp:revision>99</cp:revision>
  <dc:subject/>
  <dc:title>The First President</dc:title>
</cp:coreProperties>
</file>