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9844-51D1-49F7-8226-2AAE1DF6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557D-08A6-4278-A6ED-C0F5B309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EA3-AF03-4174-A936-F63E3E2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A619-ACA1-488C-A8BB-A487E056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7ED-F501-4C27-BD16-265DC548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DE2-E85C-4354-84B0-7788DB3A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3A3-5196-49E4-9E9A-84C64B0B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BF5-A220-48BB-9754-E919CA6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A8D8-2C01-49EB-A3D3-DE6A7B73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6E5B-1324-410E-A9F1-5A8FF768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AD9-1868-413F-BCDA-7CA22E7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4BA-E96F-4457-A348-CBA71B89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085B-5B36-4BE4-9E30-4287F9CBA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ournal 3/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Pick one of these statements to agree with and discuss it in your jour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believe the gov’t has the right to do ONLY what the Constitution specifically says it can d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I believe the gov’t has the right to interpret what the Constitution says. In other words, even if it does not mention a right specifically, I believe we may still have that r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ell me why you agree with one of the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irst Few Y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few Presidents and a few Congr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etting the Standard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abi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pt of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hington chose men he_______ although not 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diciary Act of 1789 sets up the _______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1.bp.blogspot.com/_kRB0I0a_WFw/SmQfxiCASVI/AAAAAAAADSI/ytVs4022qZI/s320/cabinet.jpg"/>
          <p:cNvPicPr/>
          <p:nvPr/>
        </p:nvPicPr>
        <p:blipFill>
          <a:blip r:embed="rId1"/>
          <a:stretch/>
        </p:blipFill>
        <p:spPr>
          <a:xfrm>
            <a:off x="4557600" y="1447920"/>
            <a:ext cx="4357800" cy="32954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4038480" y="48769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From left: President George Washington, Secretary of War Henry Knox, Secretary of the Treasury Alexander Hamilton, Secretary of State Thomas Jefferson, and Attorney General Edmund Randol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ational Deb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. Hamilton was:            had a plan to end deb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ds should take on a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a national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Regulate other 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ke loans to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2 new kinds of ta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arif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xci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efferson and Madison dislike the plan. Compromise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biggovernment.com/files/2010/01/alexander-hamilton.jpg"/>
          <p:cNvPicPr/>
          <p:nvPr/>
        </p:nvPicPr>
        <p:blipFill>
          <a:blip r:embed="rId1"/>
          <a:stretch/>
        </p:blipFill>
        <p:spPr>
          <a:xfrm>
            <a:off x="4724280" y="1143000"/>
            <a:ext cx="38959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iskey Rebe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685440"/>
            <a:ext cx="4419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ise tax 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s effects farmers wh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/f this, ppl in west fel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mers in Western Penn 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ttack tax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stroy homes of farmers wh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hington steps in setting the precedent fo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://www.ng.mil/resources/photo_gallery/heritage/images/lawsunion.jpg"/>
          <p:cNvPicPr/>
          <p:nvPr/>
        </p:nvPicPr>
        <p:blipFill>
          <a:blip r:embed="rId1"/>
          <a:srcRect l="0" t="16424" r="20756" b="0"/>
          <a:stretch/>
        </p:blipFill>
        <p:spPr>
          <a:xfrm>
            <a:off x="4257720" y="2666880"/>
            <a:ext cx="45640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1:53:22Z</dcterms:created>
  <dc:creator>IT Clone User</dc:creator>
  <dc:description/>
  <dc:language>en-US</dc:language>
  <cp:lastModifiedBy>IT Clone User</cp:lastModifiedBy>
  <dcterms:modified xsi:type="dcterms:W3CDTF">2010-03-10T22:56:41Z</dcterms:modified>
  <cp:revision>99</cp:revision>
  <dc:subject/>
  <dc:title>The First President</dc:title>
</cp:coreProperties>
</file>