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2A8DE-878D-48CF-90A9-335A218F4A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We give up certain freedoms in order to for the government to rule i.e. no right is truly unalienable. But if we do not consent the governed shall not be govern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Citizen of the US have a stake in society (this is an economic idea; make people care about something and they’ll take care of it. Give them dominion over that something and they’ll care about it.) namely the ability to vote. Equality implies we all have the same ability to peruse this right. It does not mean we all have the right to do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We live in a democracy…republic to be exact. At the core and base of our American conscience is the idea that the greatest good for the greatest number should be done. This leads, inevitably, to majority rule (sorry de Tocqueville…). But we also expect the majority to respect the rights, liberties and freedoms of the minority. That’s part of our consent. The majority needs the minority (especially if it’s a large minority) to com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e value the right to own and keep property so much that Jefferson changed it (when he adopted Locke’s natural rights for the Declaration of Independence) economic freedom being pursuant of happiness itself. The American dream about owning something, being financially self sufficient, having something to ‘show for it’!</a:t>
            </a:r>
            <a:endParaRPr b="0" lang="en-US" sz="1200" spc="-1" strike="noStrike">
              <a:solidFill>
                <a:srgbClr val="000000"/>
              </a:solidFill>
              <a:latin typeface="Calibri"/>
            </a:endParaRPr>
          </a:p>
        </p:txBody>
      </p:sp>
      <p:sp>
        <p:nvSpPr>
          <p:cNvPr id="6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72AAF-8408-446E-91A9-026E230E0F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EE6119-CA2F-406E-87E3-033FB5E174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699E6-5E81-4FD7-88CB-2CB00F2E1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FF9C5B2-CD48-4B6C-BA88-650E60C03E0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8093F74-550A-45FB-B086-76E830738D0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46AC60C-DE08-4C7A-9F99-910CD93FBD5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56702CE-2DDF-4F28-9E9C-E944C8633F0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63D6B88-594D-4797-8144-EB3CF89FF47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58DBDB2-948E-4FB5-9D14-CD4B1E25B18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A88CD3F-9D0A-44EC-A23E-2B258F89B2C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AD4F939D-4D69-4EB0-B63B-D721BFB11E38}"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55709B65-315E-45D4-AE19-DB627F3CE06E}"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90C2A7F1-D988-4FFD-B594-1E86154BE45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46F984-4763-40D1-B40E-B996696B63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D75FD8E5-E9CE-4DCA-9756-89976F184EA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2640D21C-83D8-4769-A989-902BFE6F8F8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382C126-6404-4C9B-A761-9CDDC3DC1E4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00AB789-CDF7-47C0-BFFA-1BB3C1626D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D447B87-6B61-4BAF-B07D-39E2AC1CE4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C0170BB-C5F6-462F-A61C-5917FCA2D9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5ED776C-1F32-46C1-92B7-F5A9FE72A3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A8C6BD4-E193-4A82-836F-2F91010EF3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C4493AF-45E8-4D82-A28C-F4CC2D6F26F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4B805877-A852-453D-9C2B-BBE5FB89922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FCE07B-8412-498B-BD63-FED8A2F667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A136C86E-CBE5-48F8-AEAE-56AC009C790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3FDAB7C-AAEE-4862-BA2D-CE4B9B785D8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FAFA17A-EE56-4EF1-B210-10ED6DAA047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5E8B18B-F730-464D-B3CF-16918688D45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F4CE00A-60A0-4DA6-A3FA-7958C9933DB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3DD0AD8-DF47-4FD7-BF11-960A10F0F69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B5F77EE-7509-4D24-9A04-C55385095B7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CAA51BF-1AD2-4496-BB4B-9919BF39A63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522285B-FEA4-423E-94C1-DB38307F540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326C40-155D-468D-A85B-3E64E0C78C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8710BD-6295-443A-B7BC-D0EFF71372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E532636-4697-45F8-AC7C-19A3270BA67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A964EAE-37F5-454C-9988-F5C876FB49E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C0969F6-110A-4F5C-9F7B-A4E141B299E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214CD257-9EFF-4EC6-BC6F-73D52E8FB6B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242604DB-FAB2-4FCB-BB11-74D4FDBD99F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EFE81D58-C4D3-4767-83DE-E7699EB345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2862515-6698-4C44-9115-883EF9C06B9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49FAE821-B862-4005-9272-5BC64B15145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338DA87-279F-45B3-B8D9-516DB56F6B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431E572-D3B5-463F-8BCF-B04464DAFA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6D6EC3-76A5-484E-97CF-CCCF4672A4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8CC02DC-4703-4E92-9190-FE9581A765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918D3ED-BA54-4D71-AC74-D190B5F826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76FA828-E615-4FC9-9F87-302AF4E0F57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42D5A9ED-5818-4595-BB07-F9F5E6205EB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71C096AB-763F-48DE-88F4-7F91D7C98CE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DF7C47-E22D-4FB2-B6A7-E7757A9C40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355BBC-2D4F-455D-92C0-081FFE2D65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70AE91-4C7D-4F6D-9D28-5A5F8BA04C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0F0EBA-CBC9-448F-BD30-77479E1926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3693A-9D60-4926-82BA-47AF268F6C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80B63-EEFA-4707-9E97-8FF54C1EA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C882F8-1E7D-46F7-BB69-AD3A90910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836E25-0D1B-465C-8087-9879415FC0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741CF1-E814-4162-A013-4D74604FE2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B64562-6BBE-4ED8-A1C0-E34AB01967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C79FBF-83AF-48CD-9A05-708E5892D2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C5171C-528A-4D1B-91B9-854DA2D1E0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57AB2F-61E7-486B-9F79-62BD350AB8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DFC07A-FE76-440D-ABE3-497E49641E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79C335-C6FA-4741-9B24-D94B22D3CF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ACF3C3-1095-4AFC-87CA-9A2790BC60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1E702-D508-45D9-B055-F0C2F5A17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5E2806-40BA-4D8D-B561-9864A1215D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AFA629-85D7-4518-A10D-9B2B9B7498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644E05-3B4D-4131-A688-CE619F0EBE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2AB71B-8434-4BFB-A2CE-6A5994FC2F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E46DC6-34D0-4F73-A2FB-2DA16A06F6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B1E4A2-3FBC-4448-B9E4-0F2290F25A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2A4B8C-6D84-4B1C-9059-916DE1CA26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67C48967-BE84-47E4-A742-DE6DA60857F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A86C81CD-57B2-4159-89B6-254CA9500B1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0513782D-EE13-49AD-9FD0-54E99EDBF35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AD2C3-0C7E-438A-964E-B0E42E625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C32EE79-1C80-4FD4-B7DE-CCAB6C5E4AE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D427EA8-08D3-4E40-A356-A417678D761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0173350-B242-4006-94EF-0C3847AA6EE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AA9C2F0-F72A-404D-8423-2B01886FC1B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3B624D2-F28B-49A0-9196-17A05719B11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D8AEF00-7E62-4B1D-A5B9-222564A5120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8F21445-C158-4C5F-8F6C-DEF73AB5873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94E25C49-0E6F-4713-8A41-8368ED90678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61A6FAAA-0E3F-484E-ACDE-4DE6C45387A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CFF9EE-0B0B-460F-A019-066C52BBCA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50AA7-0F4E-475B-B45A-AC9AB1FB9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0C01F6-2252-4CBC-B74F-26A0555139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214918C-F1E6-4D3B-A171-F16B3833F6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01C378-03E7-465A-93FC-010C4999DD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C96902-CAC6-4570-B34C-4D5C44E606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432BF9-87F1-4C94-9F44-6BE6E9ACB6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0DBE28-88B7-46D3-A269-586AA6D915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2F6CBD-5BA3-4692-AB1C-89307C7D0F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5A39BF-749A-4222-AEFA-75EECD252A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81D38E-55F1-4FEF-BF21-94B40A990B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7AAB8F6-25A6-4D1F-AAE6-897B9E6196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22CE2-629C-4815-A329-0845BBC49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26E48B-93D0-49AD-98DE-A13C05CD48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D8DBCC-42EF-4B3F-BA4C-777D1F5A6F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B3E482-E778-4735-897B-12E0CCDD57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C949BF-7372-47E1-AC2C-E35319AA60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94E574-182B-4A60-A05E-9323E287F6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36F537-57CB-4F49-BA84-7750B6BEA3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9B3777-2E81-4A1B-84B2-1CA9308185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5F4B51-B6BC-49AA-89AB-553EA03319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29D631-5187-43DF-BC38-393DB807BC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4F9B9F-FBF7-4E48-AF18-D08B516EB0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3D973-1308-44D8-832E-4FF65C428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777984-8BF6-4D90-A48A-4D01F3646B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B40EC93-C4C6-4A67-BD12-081EE1CE0DE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FCBD0DE-3B10-4E49-86A4-F6F47E7B9BA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58C430-3C90-4D41-AA59-91B37BDA7E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D3ED86-863B-4B04-B50A-33E627050D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FA6B62-A029-4E57-A839-9650CB4D1E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E12D0F-5FBE-4728-BC4E-6D7DD134AB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8D3B76-17F2-4786-BA7C-6171741DA2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A03AE1-BE6E-4A30-BEC7-1C028B50FA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82F84C-89EF-4F3B-AB81-8F29C4B759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A5BDB-1C35-48F8-A753-17A1B1A79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A83372-6580-49F7-B4CD-F966A0DD7D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1AE714-D547-4FFC-B09F-476EB82C89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EB1993-375A-48D5-BAE4-A01166B20C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E5974A7-E038-4CB8-B63D-607E3F612E6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6945E4-813C-45AC-988B-9FB464BC9A1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2A7F913-3F96-4802-8F5F-4768118F092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6A2F4B-18EB-491E-BD8F-A7688BD141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CF47C7-BAFD-45AB-B8F3-1B528137A8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370D42-BBE6-4862-9217-ABDF2F3D45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A13956-98E3-4A3D-B267-E24A56B2A1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815FF-F58D-4B43-B1A7-3961DC75A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FF0168-9F17-42C0-BCEB-24BD40EA5C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69C9C4-FFB5-413E-B46F-DB2F0A3C25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B437C0-ECB0-4952-B3CE-AC255B12B0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D6C650-EECC-4D30-ACC0-80FD62507B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FB27D5-E19A-41D4-BE34-AE9E6DE47A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01226F6-B9B6-4AD1-8A7C-2AE7EC36799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BC83315-C56D-4DED-9F4C-210C8ECA383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541E74E6-0E0E-4B0D-8C95-6586F8809EAB}"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301989A-9A90-4047-9F69-7D96A0867F8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4FC12B7-7E52-4D27-9259-1AC23153EBAB}"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E7E1A-C4EA-41AD-921A-8B54CD45EDA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E5D68-0447-4F28-B0D1-3B6F9335D40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CE8CB-6572-490A-B791-856E80A042D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889A4-E34A-4D5A-941D-D62EF0BAAE3E}"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2D120-C908-4627-B3EB-1E6CCB67D18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30694-EBE8-448E-A7C3-6456D72CDD8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3EFB1-6A02-4315-B478-A1C8EB047DA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FF723-C42F-40F3-BBB1-FF118D7AE8E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86CD0-D11D-47F6-AF3D-0936F860972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9098C-CAB2-4926-AF1B-79E2A0454F2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C1BD0-31E8-4A24-AD54-4E0D839EB8F6}"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49D09-9CAE-4722-AE5C-4AD3DE4C6BF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Journal 1/08</a:t>
            </a:r>
            <a:endParaRPr b="0" lang="en-US" sz="3300" spc="-1" strike="noStrike">
              <a:solidFill>
                <a:srgbClr val="7b9899"/>
              </a:solidFill>
              <a:latin typeface="Georgia"/>
            </a:endParaRPr>
          </a:p>
        </p:txBody>
      </p:sp>
      <p:sp>
        <p:nvSpPr>
          <p:cNvPr id="61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is government? What’s its purpose?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hoose one and defend:</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government should provide for the people</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government should protect the people</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government should provide ONLY what private citizens can not.</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14">
                                            <p:txEl>
                                              <p:pRg st="3" end="3"/>
                                            </p:txEl>
                                          </p:spTgt>
                                        </p:tgtEl>
                                        <p:attrNameLst>
                                          <p:attrName>style.visibility</p:attrName>
                                        </p:attrNameLst>
                                      </p:cBhvr>
                                      <p:to>
                                        <p:strVal val="visible"/>
                                      </p:to>
                                    </p:set>
                                    <p:animEffect filter="blinds(horizontal)" transition="in">
                                      <p:cBhvr additive="repl">
                                        <p:cTn id="7" dur="500"/>
                                        <p:tgtEl>
                                          <p:spTgt spid="614">
                                            <p:txEl>
                                              <p:pRg st="3" end="3"/>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614">
                                            <p:txEl>
                                              <p:pRg st="4" end="4"/>
                                            </p:txEl>
                                          </p:spTgt>
                                        </p:tgtEl>
                                        <p:attrNameLst>
                                          <p:attrName>style.visibility</p:attrName>
                                        </p:attrNameLst>
                                      </p:cBhvr>
                                      <p:to>
                                        <p:strVal val="visible"/>
                                      </p:to>
                                    </p:set>
                                    <p:animEffect filter="blinds(horizontal)" transition="in">
                                      <p:cBhvr additive="repl">
                                        <p:cTn id="10" dur="500"/>
                                        <p:tgtEl>
                                          <p:spTgt spid="614">
                                            <p:txEl>
                                              <p:pRg st="4" end="4"/>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614">
                                            <p:txEl>
                                              <p:pRg st="5" end="5"/>
                                            </p:txEl>
                                          </p:spTgt>
                                        </p:tgtEl>
                                        <p:attrNameLst>
                                          <p:attrName>style.visibility</p:attrName>
                                        </p:attrNameLst>
                                      </p:cBhvr>
                                      <p:to>
                                        <p:strVal val="visible"/>
                                      </p:to>
                                    </p:set>
                                    <p:animEffect filter="blinds(horizontal)" transition="in">
                                      <p:cBhvr additive="repl">
                                        <p:cTn id="13" dur="500"/>
                                        <p:tgtEl>
                                          <p:spTgt spid="614">
                                            <p:txEl>
                                              <p:pRg st="5" end="5"/>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614">
                                            <p:txEl>
                                              <p:pRg st="6" end="6"/>
                                            </p:txEl>
                                          </p:spTgt>
                                        </p:tgtEl>
                                        <p:attrNameLst>
                                          <p:attrName>style.visibility</p:attrName>
                                        </p:attrNameLst>
                                      </p:cBhvr>
                                      <p:to>
                                        <p:strVal val="visible"/>
                                      </p:to>
                                    </p:set>
                                    <p:animEffect filter="blinds(horizontal)" transition="in">
                                      <p:cBhvr additive="repl">
                                        <p:cTn id="16" dur="500"/>
                                        <p:tgtEl>
                                          <p:spTgt spid="6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Enlightenment: Locke</a:t>
            </a:r>
            <a:endParaRPr b="0" lang="en-US" sz="3300" spc="-1" strike="noStrike">
              <a:solidFill>
                <a:srgbClr val="7b9899"/>
              </a:solidFill>
              <a:latin typeface="Georgia"/>
            </a:endParaRPr>
          </a:p>
        </p:txBody>
      </p:sp>
      <p:sp>
        <p:nvSpPr>
          <p:cNvPr id="637" name=""/>
          <p:cNvSpPr txBox="1"/>
          <p:nvPr/>
        </p:nvSpPr>
        <p:spPr>
          <a:xfrm>
            <a:off x="151920" y="1371600"/>
            <a:ext cx="4343400" cy="50292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atural Right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ocial Contrac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Tabula Rasa</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38" name="Picture 2" descr="File:JohnLocke.png"/>
          <p:cNvPicPr/>
          <p:nvPr/>
        </p:nvPicPr>
        <p:blipFill>
          <a:blip r:embed="rId1"/>
          <a:stretch/>
        </p:blipFill>
        <p:spPr>
          <a:xfrm>
            <a:off x="5410080" y="1676520"/>
            <a:ext cx="3429000" cy="4424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Forms of government</a:t>
            </a:r>
            <a:endParaRPr b="0" lang="en-US" sz="3300" spc="-1" strike="noStrike">
              <a:solidFill>
                <a:srgbClr val="7b9899"/>
              </a:solidFill>
              <a:latin typeface="Georgia"/>
            </a:endParaRPr>
          </a:p>
        </p:txBody>
      </p:sp>
      <p:sp>
        <p:nvSpPr>
          <p:cNvPr id="61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nfederation</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nitary</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ederal</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public</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emocracy</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Direct Democracy</a:t>
            </a:r>
            <a:endParaRPr b="0" lang="en-US" sz="2200" spc="-1" strike="noStrike">
              <a:solidFill>
                <a:srgbClr val="646b86"/>
              </a:solidFill>
              <a:latin typeface="Georg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Government in the USA</a:t>
            </a:r>
            <a:endParaRPr b="0" lang="en-US" sz="3300" spc="-1" strike="noStrike">
              <a:solidFill>
                <a:srgbClr val="7b9899"/>
              </a:solidFill>
              <a:latin typeface="Georgia"/>
            </a:endParaRPr>
          </a:p>
        </p:txBody>
      </p:sp>
      <p:sp>
        <p:nvSpPr>
          <p:cNvPr id="618" name=""/>
          <p:cNvSpPr txBox="1"/>
          <p:nvPr/>
        </p:nvSpPr>
        <p:spPr>
          <a:xfrm>
            <a:off x="301320" y="1527120"/>
            <a:ext cx="8504280" cy="4572000"/>
          </a:xfrm>
          <a:prstGeom prst="rect">
            <a:avLst/>
          </a:prstGeom>
          <a:noFill/>
          <a:ln w="0">
            <a:noFill/>
          </a:ln>
        </p:spPr>
        <p:txBody>
          <a:bodyPr anchor="t">
            <a:normAutofit fontScale="98000"/>
          </a:bodyPr>
          <a:p>
            <a:pPr marL="267120" indent="-26712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Black"/>
              </a:rPr>
              <a:t>Political Culture: </a:t>
            </a:r>
            <a:r>
              <a:rPr b="0" i="1" lang="en-US" sz="2700" spc="-1" strike="noStrike">
                <a:solidFill>
                  <a:srgbClr val="000000"/>
                </a:solidFill>
                <a:latin typeface="Georgia"/>
              </a:rPr>
              <a:t>Widely or commonly held beliefs/attitudes within a society. </a:t>
            </a:r>
            <a:r>
              <a:rPr b="0" lang="en-US" sz="2700" spc="-1" strike="noStrike">
                <a:solidFill>
                  <a:srgbClr val="000000"/>
                </a:solidFill>
                <a:latin typeface="Georgia"/>
              </a:rPr>
              <a:t>NOT POLITICAL IDEOLOGY!!!</a:t>
            </a:r>
            <a:endParaRPr b="0" lang="en-US" sz="2700" spc="-1" strike="noStrike">
              <a:solidFill>
                <a:srgbClr val="000000"/>
              </a:solidFill>
              <a:latin typeface="Georgia"/>
            </a:endParaRPr>
          </a:p>
          <a:p>
            <a:pPr marL="267120" indent="-26712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Black"/>
              </a:rPr>
              <a:t>What makes US unique?</a:t>
            </a:r>
            <a:endParaRPr b="0" lang="en-US" sz="2700" spc="-1" strike="noStrike">
              <a:solidFill>
                <a:srgbClr val="000000"/>
              </a:solidFill>
              <a:latin typeface="Georgia"/>
            </a:endParaRPr>
          </a:p>
          <a:p>
            <a:pPr marL="267120" indent="-26712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nsent of the governed…individual liberty at a price</a:t>
            </a:r>
            <a:endParaRPr b="0" lang="en-US" sz="2700" spc="-1" strike="noStrike">
              <a:solidFill>
                <a:srgbClr val="000000"/>
              </a:solidFill>
              <a:latin typeface="Georgia"/>
            </a:endParaRPr>
          </a:p>
          <a:p>
            <a:pPr marL="267120" indent="-26712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olitical Equality…not sameness</a:t>
            </a:r>
            <a:endParaRPr b="0" lang="en-US" sz="2700" spc="-1" strike="noStrike">
              <a:solidFill>
                <a:srgbClr val="000000"/>
              </a:solidFill>
              <a:latin typeface="Georgia"/>
            </a:endParaRPr>
          </a:p>
          <a:p>
            <a:pPr marL="267120" indent="-26712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opular Sovereignty…majority rules, minority rights  </a:t>
            </a:r>
            <a:endParaRPr b="0" lang="en-US" sz="2700" spc="-1" strike="noStrike">
              <a:solidFill>
                <a:srgbClr val="000000"/>
              </a:solidFill>
              <a:latin typeface="Georgia"/>
            </a:endParaRPr>
          </a:p>
          <a:p>
            <a:pPr marL="267120" indent="-26712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ight to own property=pursuit of happiness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Journal</a:t>
            </a:r>
            <a:endParaRPr b="0" lang="en-US" sz="3300" spc="-1" strike="noStrike">
              <a:solidFill>
                <a:srgbClr val="7b9899"/>
              </a:solidFill>
              <a:latin typeface="Georgia"/>
            </a:endParaRPr>
          </a:p>
        </p:txBody>
      </p:sp>
      <p:sp>
        <p:nvSpPr>
          <p:cNvPr id="62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dmond Randolph once said “I’m not an American; I’m a Virginian.” What did he mean? How might a sentiment like this be detrimental to a new nation like America?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CONSTITUTIONAL UNDERPINNINGS AND THE RISE OF THE AMERICAN REPUBLIC</a:t>
            </a:r>
            <a:endParaRPr b="0" lang="en-US" sz="1600" spc="-1" strike="noStrike">
              <a:solidFill>
                <a:srgbClr val="000000"/>
              </a:solidFill>
              <a:latin typeface="Georgia"/>
            </a:endParaRPr>
          </a:p>
        </p:txBody>
      </p:sp>
      <p:sp>
        <p:nvSpPr>
          <p:cNvPr id="622" name="PlaceHolder 2"/>
          <p:cNvSpPr>
            <a:spLocks noGrp="1"/>
          </p:cNvSpPr>
          <p:nvPr>
            <p:ph type="title"/>
          </p:nvPr>
        </p:nvSpPr>
        <p:spPr>
          <a:xfrm>
            <a:off x="60948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In the Beginning…</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3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rticles of Confederation</a:t>
            </a:r>
            <a:endParaRPr b="0" lang="en-US" sz="3300" spc="-1" strike="noStrike">
              <a:solidFill>
                <a:srgbClr val="7b9899"/>
              </a:solidFill>
              <a:latin typeface="Georgia"/>
            </a:endParaRPr>
          </a:p>
        </p:txBody>
      </p:sp>
      <p:sp>
        <p:nvSpPr>
          <p:cNvPr id="624" name=""/>
          <p:cNvSpPr txBox="1"/>
          <p:nvPr/>
        </p:nvSpPr>
        <p:spPr>
          <a:xfrm>
            <a:off x="685440" y="1294920"/>
            <a:ext cx="3809880" cy="4800600"/>
          </a:xfrm>
          <a:prstGeom prst="rect">
            <a:avLst/>
          </a:prstGeom>
          <a:noFill/>
          <a:ln w="0">
            <a:noFill/>
          </a:ln>
        </p:spPr>
        <p:txBody>
          <a:bodyPr anchor="t">
            <a:normAutofit/>
          </a:bodyPr>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Central Gov’t (Weak)</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Could not levy taxes</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No executive or judicial branch</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Could raise an army but…</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Could not regulate___</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
        <p:nvSpPr>
          <p:cNvPr id="625" name=""/>
          <p:cNvSpPr txBox="1"/>
          <p:nvPr/>
        </p:nvSpPr>
        <p:spPr>
          <a:xfrm>
            <a:off x="4647960" y="1371240"/>
            <a:ext cx="3809880" cy="4724280"/>
          </a:xfrm>
          <a:prstGeom prst="rect">
            <a:avLst/>
          </a:prstGeom>
          <a:noFill/>
          <a:ln w="0">
            <a:noFill/>
          </a:ln>
        </p:spPr>
        <p:txBody>
          <a:bodyPr anchor="t">
            <a:normAutofit/>
          </a:bodyPr>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State Gov’t (Strong)</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Could make treaties</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9 of 13 states had to agree to major changes.</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All states must agree to amend. </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Did not have to recognize _____ made by Continental Congress </a:t>
            </a: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2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Shays’s Rebellion</a:t>
            </a:r>
            <a:endParaRPr b="0" lang="en-US" sz="3300" spc="-1" strike="noStrike">
              <a:solidFill>
                <a:srgbClr val="7b9899"/>
              </a:solidFill>
              <a:latin typeface="Georgia"/>
            </a:endParaRPr>
          </a:p>
        </p:txBody>
      </p:sp>
      <p:sp>
        <p:nvSpPr>
          <p:cNvPr id="627" name=""/>
          <p:cNvSpPr txBox="1"/>
          <p:nvPr/>
        </p:nvSpPr>
        <p:spPr>
          <a:xfrm>
            <a:off x="228600" y="1371600"/>
            <a:ext cx="4191120" cy="556272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C can’t raise funds to pay war debt so…</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re’s no nationalized militar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o Supreme Court = no judicial review </a:t>
            </a:r>
            <a:endParaRPr b="0" lang="en-US" sz="2700" spc="-1" strike="noStrike">
              <a:solidFill>
                <a:srgbClr val="000000"/>
              </a:solidFill>
              <a:latin typeface="Georgia"/>
            </a:endParaRPr>
          </a:p>
        </p:txBody>
      </p:sp>
      <p:pic>
        <p:nvPicPr>
          <p:cNvPr id="628" name="Picture 5" descr="File:Monument to shays rebellion.jpg"/>
          <p:cNvPicPr/>
          <p:nvPr/>
        </p:nvPicPr>
        <p:blipFill>
          <a:blip r:embed="rId1"/>
          <a:srcRect l="17910" t="0" r="23882" b="0"/>
          <a:stretch/>
        </p:blipFill>
        <p:spPr>
          <a:xfrm>
            <a:off x="4832280" y="1905120"/>
            <a:ext cx="3854520" cy="4064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Enlightenment: Montesquieu</a:t>
            </a:r>
            <a:endParaRPr b="0" lang="en-US" sz="3300" spc="-1" strike="noStrike">
              <a:solidFill>
                <a:srgbClr val="7b9899"/>
              </a:solidFill>
              <a:latin typeface="Georgia"/>
            </a:endParaRPr>
          </a:p>
        </p:txBody>
      </p:sp>
      <p:sp>
        <p:nvSpPr>
          <p:cNvPr id="630" name=""/>
          <p:cNvSpPr txBox="1"/>
          <p:nvPr/>
        </p:nvSpPr>
        <p:spPr>
          <a:xfrm>
            <a:off x="151920" y="1295280"/>
            <a:ext cx="4343400" cy="5029200"/>
          </a:xfrm>
          <a:prstGeom prst="rect">
            <a:avLst/>
          </a:prstGeom>
          <a:noFill/>
          <a:ln w="0">
            <a:noFill/>
          </a:ln>
        </p:spPr>
        <p:txBody>
          <a:bodyPr anchor="t">
            <a:normAutofit fontScale="98000"/>
          </a:bodyPr>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ree types of Gov’t</a:t>
            </a: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emocratic leaders stand out from other citizens</a:t>
            </a: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paration of Power</a:t>
            </a: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rrupted Democracy</a:t>
            </a:r>
            <a:endParaRPr b="0" lang="en-US" sz="2700" spc="-1" strike="noStrike">
              <a:solidFill>
                <a:srgbClr val="000000"/>
              </a:solidFill>
              <a:latin typeface="Georgia"/>
            </a:endParaRPr>
          </a:p>
          <a:p>
            <a:pPr lvl="1" marL="536400" indent="-2671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Spirit of inequality</a:t>
            </a:r>
            <a:endParaRPr b="0" lang="en-US" sz="2200" spc="-1" strike="noStrike">
              <a:solidFill>
                <a:srgbClr val="646b86"/>
              </a:solidFill>
              <a:latin typeface="Georgia"/>
            </a:endParaRPr>
          </a:p>
          <a:p>
            <a:pPr lvl="1" marL="536400" indent="-2671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Spirit of extreme equality</a:t>
            </a:r>
            <a:endParaRPr b="0" lang="en-US" sz="2200" spc="-1" strike="noStrike">
              <a:solidFill>
                <a:srgbClr val="646b86"/>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31" name="Picture 2" descr="File:Montesquieu 1.jpg"/>
          <p:cNvPicPr/>
          <p:nvPr/>
        </p:nvPicPr>
        <p:blipFill>
          <a:blip r:embed="rId1"/>
          <a:stretch/>
        </p:blipFill>
        <p:spPr>
          <a:xfrm>
            <a:off x="5791320" y="1828800"/>
            <a:ext cx="2381040" cy="394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Enlightenment: Rousseau</a:t>
            </a:r>
            <a:endParaRPr b="0" lang="en-US" sz="3300" spc="-1" strike="noStrike">
              <a:solidFill>
                <a:srgbClr val="7b9899"/>
              </a:solidFill>
              <a:latin typeface="Georgia"/>
            </a:endParaRPr>
          </a:p>
        </p:txBody>
      </p:sp>
      <p:sp>
        <p:nvSpPr>
          <p:cNvPr id="633" name=""/>
          <p:cNvSpPr txBox="1"/>
          <p:nvPr/>
        </p:nvSpPr>
        <p:spPr>
          <a:xfrm>
            <a:off x="151920" y="1295280"/>
            <a:ext cx="4343400" cy="50292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General Will vs Public Will</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elieved in direct democrac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ristocratic Democrac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4" name="Rectangle 3"/>
          <p:cNvSpPr/>
          <p:nvPr/>
        </p:nvSpPr>
        <p:spPr>
          <a:xfrm>
            <a:off x="228600" y="5029200"/>
            <a:ext cx="8534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n is born free, and everywhere he is in chains. Those who think themselves the masters of others are indeed greater slaves than they."</a:t>
            </a:r>
            <a:endParaRPr b="0" lang="en-US" sz="2400" spc="-1" strike="noStrike">
              <a:solidFill>
                <a:srgbClr val="000000"/>
              </a:solidFill>
              <a:latin typeface="Arial"/>
            </a:endParaRPr>
          </a:p>
        </p:txBody>
      </p:sp>
      <p:pic>
        <p:nvPicPr>
          <p:cNvPr id="635" name="Picture 2" descr="File:Jean-Jacques Rousseau (painted portrait).jpg"/>
          <p:cNvPicPr/>
          <p:nvPr/>
        </p:nvPicPr>
        <p:blipFill>
          <a:blip r:embed="rId1"/>
          <a:stretch/>
        </p:blipFill>
        <p:spPr>
          <a:xfrm>
            <a:off x="5867280" y="1676520"/>
            <a:ext cx="2198880" cy="306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19T20:26:47Z</dcterms:created>
  <dc:creator>Christine Sturges</dc:creator>
  <dc:description/>
  <dc:language>en-US</dc:language>
  <cp:lastModifiedBy>IT Clone User</cp:lastModifiedBy>
  <dcterms:modified xsi:type="dcterms:W3CDTF">2013-01-09T12:55:37Z</dcterms:modified>
  <cp:revision>145</cp:revision>
  <dc:subject/>
  <dc:title>In the Beginning…</dc:title>
</cp:coreProperties>
</file>