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2CA-0B5C-4D26-9BE9-789369B9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7023-E5B6-4C7D-9153-DA808E72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5A16-A972-4DDE-B2CE-999164B2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27B7-37DD-4CE9-9E7E-1D081B19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011-5F6D-4711-9373-93D6D055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3D5A-AF9F-43D6-9E31-B2F26713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4B8-2CE6-4CFE-97C6-70D65AC6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945-80C1-44AB-B243-A75FB021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CF5-69D0-41F7-91A2-CD0E462D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8EEA-EA80-4D82-A6B0-38EFEE7E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5AD-99B6-4E05-AAAD-E307E0EC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0AC-AD9A-46EB-810D-898EAD62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5C9F-C9A5-434F-B7ED-270F984C8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1/08/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d to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)Who writes histo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) What purpose does it ser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) Why do you believe history is taught in schoo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) How can a society benefit from knowing histo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1/12/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rn to page 46. Read the “Inside Story.” This is one of history’s greatest mysteries…What is so mysterious about Roanok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Virginia Colo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int-Stock Compa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colonies are under the ultimate control 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g is far away. To maintain control he offers___ to wealthy compan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harters say the companies are responsible for the colony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return they could expec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t. John Sm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leader 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itaristic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id to have formed a relationship wit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d raids to steal food from the 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http://www.williamsburgprivatetours.com/pocahontas_saving_life3.jpg"/>
          <p:cNvPicPr/>
          <p:nvPr/>
        </p:nvPicPr>
        <p:blipFill>
          <a:blip r:embed="rId1"/>
          <a:stretch/>
        </p:blipFill>
        <p:spPr>
          <a:xfrm>
            <a:off x="4724280" y="1066680"/>
            <a:ext cx="3656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arv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mestown’s population gro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whatan Indian’s retaliation f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hatans killed live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onists are prevented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http://www.mccarterfamily.com/mccarterpage/stories/stephen_hopkins/images/powhatan.jpg"/>
          <p:cNvPicPr/>
          <p:nvPr/>
        </p:nvPicPr>
        <p:blipFill>
          <a:blip r:embed="rId1"/>
          <a:stretch/>
        </p:blipFill>
        <p:spPr>
          <a:xfrm>
            <a:off x="5186520" y="1981080"/>
            <a:ext cx="273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hn Rol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English man to grow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ri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marriage was significant becau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http://xroads.virginia.edu/~CAP/POCA/rolfe.gif"/>
          <p:cNvPicPr/>
          <p:nvPr/>
        </p:nvPicPr>
        <p:blipFill>
          <a:blip r:embed="rId1"/>
          <a:stretch/>
        </p:blipFill>
        <p:spPr>
          <a:xfrm>
            <a:off x="4648320" y="2316240"/>
            <a:ext cx="38098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acon’s Rebell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r William Berkeley was____who desired good relations w/ the 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accomplish this h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thaniel Bacon was___who formed a small army in response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sponse to Bacon’s Rebell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House of Burges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nd owners switched from___to___b/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12120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312120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7" descr="http://cache.viewimages.com/xc/51246171.jpg?v=1&amp;c=ViewImages&amp;k=2&amp;d=444ED34A869CB970C0A019ADC2B83FBF284831B75F48EF45"/>
          <p:cNvPicPr/>
          <p:nvPr/>
        </p:nvPicPr>
        <p:blipFill>
          <a:blip r:embed="rId1"/>
          <a:srcRect l="0" t="0" r="0" b="16642"/>
          <a:stretch/>
        </p:blipFill>
        <p:spPr>
          <a:xfrm>
            <a:off x="3809880" y="2057400"/>
            <a:ext cx="5334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3:51:51Z</dcterms:created>
  <dc:creator>TPS</dc:creator>
  <dc:description/>
  <dc:language>en-US</dc:language>
  <cp:lastModifiedBy>TPS</cp:lastModifiedBy>
  <dcterms:modified xsi:type="dcterms:W3CDTF">2009-01-12T20:46:20Z</dcterms:modified>
  <cp:revision>76</cp:revision>
  <dc:subject/>
  <dc:title>Virginia Colony</dc:title>
</cp:coreProperties>
</file>