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70E5-247D-4026-BC7E-94B450C0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0047-C570-4375-AED3-F86E1AB7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9CD-E38E-4617-8709-F5E728CE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D700-7EC7-43D3-AAD8-9B477AAA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2FE-0AEC-4FE2-84AA-EF6B9F06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D1C4-61D6-4AFB-A39A-934C696D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9A6-947C-46C1-B70F-707CCD80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CA21-2039-40BB-AA0A-28885437D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FC54-0F7B-434C-B281-566C9638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546C-20F6-4D0D-8224-B63A6569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17AB-E9D5-4408-B881-E1595A74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F0EB-E2FC-4FB9-BBDE-62CA286B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9CF3-64C5-4F51-8AE5-1F6965639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1/08/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d to th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)Who writes histo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) What purpose does it serv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) Why do you believe history is taught in schoo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) How can a society benefit from knowing histor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1/12/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urn to page 46. Read the “Inside Story.” This is one of history’s greatest mysteries…What is so mysterious about Roanok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Virginia Colo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int-Stock Compan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 colonies are under the ultimate control 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ing is far away. To maintain control he offers___ to wealthy compan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harters say the companies are responsible for the colony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return they could expec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apt. John Sm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rst leader of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itaristic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id to have formed a relationship wit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ad raids to steal food from the 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http://www.williamsburgprivatetours.com/pocahontas_saving_life3.jpg"/>
          <p:cNvPicPr/>
          <p:nvPr/>
        </p:nvPicPr>
        <p:blipFill>
          <a:blip r:embed="rId1"/>
          <a:stretch/>
        </p:blipFill>
        <p:spPr>
          <a:xfrm>
            <a:off x="4724280" y="1066680"/>
            <a:ext cx="3656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tarvi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mestown’s population grow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whatan Indian’s retaliation fo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hatans killed live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onists are prevented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http://www.mccarterfamily.com/mccarterpage/stories/stephen_hopkins/images/powhatan.jpg"/>
          <p:cNvPicPr/>
          <p:nvPr/>
        </p:nvPicPr>
        <p:blipFill>
          <a:blip r:embed="rId1"/>
          <a:stretch/>
        </p:blipFill>
        <p:spPr>
          <a:xfrm>
            <a:off x="5186520" y="1981080"/>
            <a:ext cx="2733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hn Rol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rst English man to grow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rie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marriage was significant becau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http://xroads.virginia.edu/~CAP/POCA/rolfe.gif"/>
          <p:cNvPicPr/>
          <p:nvPr/>
        </p:nvPicPr>
        <p:blipFill>
          <a:blip r:embed="rId1"/>
          <a:stretch/>
        </p:blipFill>
        <p:spPr>
          <a:xfrm>
            <a:off x="4648320" y="2316240"/>
            <a:ext cx="38098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acon’s Rebell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ir William Berkeley was____who desired good relations w/ the 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accomplish this h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athaniel Bacon was___who formed a small army in response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esponse to Bacon’s Rebell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House of Burges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and owners switched from___to___b/c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12120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312120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7" descr="http://cache.viewimages.com/xc/51246171.jpg?v=1&amp;c=ViewImages&amp;k=2&amp;d=444ED34A869CB970C0A019ADC2B83FBF284831B75F48EF45"/>
          <p:cNvPicPr/>
          <p:nvPr/>
        </p:nvPicPr>
        <p:blipFill>
          <a:blip r:embed="rId1"/>
          <a:srcRect l="0" t="0" r="0" b="16642"/>
          <a:stretch/>
        </p:blipFill>
        <p:spPr>
          <a:xfrm>
            <a:off x="3809880" y="2057400"/>
            <a:ext cx="5334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3:51:51Z</dcterms:created>
  <dc:creator>TPS</dc:creator>
  <dc:description/>
  <dc:language>en-US</dc:language>
  <cp:lastModifiedBy>TPS</cp:lastModifiedBy>
  <dcterms:modified xsi:type="dcterms:W3CDTF">2009-01-12T20:46:20Z</dcterms:modified>
  <cp:revision>76</cp:revision>
  <dc:subject/>
  <dc:title>Virginia Colony</dc:title>
</cp:coreProperties>
</file>