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4.jpeg" ContentType="image/jpeg"/>
  <Override PartName="/ppt/media/image8.png" ContentType="image/png"/>
  <Override PartName="/ppt/media/image7.png" ContentType="image/png"/>
  <Override PartName="/ppt/media/image34.jpeg" ContentType="image/jpeg"/>
  <Override PartName="/ppt/media/image19.jpeg" ContentType="image/jpeg"/>
  <Override PartName="/ppt/media/image11.png" ContentType="image/png"/>
  <Override PartName="/ppt/media/image13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6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71D5-25FE-40D6-80BB-AE7629526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War: When everything in society goes to the war eff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fight war the gov’t nee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ies: soldiers to f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ey: funds to build weapons and keep fig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ls!: the people to believe in the ‘goodness’ of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war will accomplish th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ies= Conscription: also known as “the draft”. Men a re forced to f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ey= War Bonds: this is like the gov’t borrowing money form the people. You buy a bond and the gov’t will pay you back, with interest, after the war…in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ls!= Propaganda: Printed and media ads meant to persuade ppl to support a ca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2559-0667-42E8-96AE-339C2BE9F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BA76-09B7-49D0-9962-2192996A3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48A8-CF14-4D60-9555-D9C84A7C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D9F4-26F0-4CBA-9FC2-4F3E17327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296D-C331-4A1E-8AD8-BBECD3CF2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DE4E-CD99-43E5-943F-0F217DAC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0A6C-6029-46F9-9270-A8DDD2A1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3611-C9CA-4E26-8B81-5AA280A4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AA98-C05E-4799-BB25-766BC060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54A2-7D69-445C-90E8-4169FEF0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F832-EE56-4E3C-9829-4196019B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1B59-3706-4D3B-BA99-B26E5A7D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A453-0268-4293-8C6E-11C55C9B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AE2F-ECC9-463F-A23E-7AB1475851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uses of the Great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W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Militaris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1066680"/>
            <a:ext cx="4572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German industrialism leads to Militar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warning from the ‘Iron Chancellor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iser William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www.erih.net/typo3temp/pics/87f3c869ef.jpg"/>
          <p:cNvPicPr/>
          <p:nvPr/>
        </p:nvPicPr>
        <p:blipFill>
          <a:blip r:embed="rId1"/>
          <a:stretch/>
        </p:blipFill>
        <p:spPr>
          <a:xfrm>
            <a:off x="5943600" y="53352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://mwhhonourswiki2009-per5.wikispaces.com/file/view/fleet.jpg/107437353/fleet.jpg"/>
          <p:cNvPicPr/>
          <p:nvPr/>
        </p:nvPicPr>
        <p:blipFill>
          <a:blip r:embed="rId2"/>
          <a:stretch/>
        </p:blipFill>
        <p:spPr>
          <a:xfrm>
            <a:off x="3952800" y="3800520"/>
            <a:ext cx="51912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Nation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1066680"/>
            <a:ext cx="4572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erse Hapsburg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stria becomes Austria- Hung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ssassination of Franz Ferdin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http://www.age-of-the-sage.org/history/1848/Habsburg_Empire.jpg"/>
          <p:cNvPicPr/>
          <p:nvPr/>
        </p:nvPicPr>
        <p:blipFill>
          <a:blip r:embed="rId1"/>
          <a:srcRect l="14110" t="0" r="0" b="4538"/>
          <a:stretch/>
        </p:blipFill>
        <p:spPr>
          <a:xfrm>
            <a:off x="3809880" y="2048040"/>
            <a:ext cx="533412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www.wwnorton.com/college/history/ralph/ralimage/map34wwi.jpg"/>
          <p:cNvPicPr/>
          <p:nvPr/>
        </p:nvPicPr>
        <p:blipFill>
          <a:blip r:embed="rId1"/>
          <a:stretch/>
        </p:blipFill>
        <p:spPr>
          <a:xfrm>
            <a:off x="0" y="-103320"/>
            <a:ext cx="9144000" cy="6961320"/>
          </a:xfrm>
          <a:prstGeom prst="rect">
            <a:avLst/>
          </a:prstGeom>
          <a:ln w="0">
            <a:noFill/>
          </a:ln>
        </p:spPr>
      </p:pic>
      <p:pic>
        <p:nvPicPr>
          <p:cNvPr id="76" name="Rectangle 4" descr=""/>
          <p:cNvPicPr/>
          <p:nvPr/>
        </p:nvPicPr>
        <p:blipFill>
          <a:blip r:embed="rId2"/>
          <a:stretch/>
        </p:blipFill>
        <p:spPr>
          <a:xfrm>
            <a:off x="4260960" y="4664160"/>
            <a:ext cx="927000" cy="1346040"/>
          </a:xfrm>
          <a:prstGeom prst="rect">
            <a:avLst/>
          </a:prstGeom>
          <a:ln w="0">
            <a:noFill/>
          </a:ln>
        </p:spPr>
      </p:pic>
      <p:pic>
        <p:nvPicPr>
          <p:cNvPr id="77" name="Rectangle 5" descr=""/>
          <p:cNvPicPr/>
          <p:nvPr/>
        </p:nvPicPr>
        <p:blipFill>
          <a:blip r:embed="rId3"/>
          <a:stretch/>
        </p:blipFill>
        <p:spPr>
          <a:xfrm>
            <a:off x="5022720" y="2859120"/>
            <a:ext cx="927360" cy="1347840"/>
          </a:xfrm>
          <a:prstGeom prst="rect">
            <a:avLst/>
          </a:prstGeom>
          <a:ln w="0">
            <a:noFill/>
          </a:ln>
        </p:spPr>
      </p:pic>
      <p:pic>
        <p:nvPicPr>
          <p:cNvPr id="78" name="Rectangle 7" descr=""/>
          <p:cNvPicPr/>
          <p:nvPr/>
        </p:nvPicPr>
        <p:blipFill>
          <a:blip r:embed="rId4"/>
          <a:stretch/>
        </p:blipFill>
        <p:spPr>
          <a:xfrm>
            <a:off x="3108240" y="2749680"/>
            <a:ext cx="1330560" cy="1152360"/>
          </a:xfrm>
          <a:prstGeom prst="rect">
            <a:avLst/>
          </a:prstGeom>
          <a:ln w="0">
            <a:noFill/>
          </a:ln>
        </p:spPr>
      </p:pic>
      <p:cxnSp>
        <p:nvCxnSpPr>
          <p:cNvPr id="79" name="Straight Arrow Connector 9"/>
          <p:cNvCxnSpPr/>
          <p:nvPr/>
        </p:nvCxnSpPr>
        <p:spPr>
          <a:xfrm>
            <a:off x="4038480" y="3580920"/>
            <a:ext cx="99144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0" name="Rectangle 10" descr=""/>
          <p:cNvPicPr/>
          <p:nvPr/>
        </p:nvPicPr>
        <p:blipFill>
          <a:blip r:embed="rId5"/>
          <a:stretch/>
        </p:blipFill>
        <p:spPr>
          <a:xfrm>
            <a:off x="1822320" y="4005360"/>
            <a:ext cx="927360" cy="1341360"/>
          </a:xfrm>
          <a:prstGeom prst="rect">
            <a:avLst/>
          </a:prstGeom>
          <a:ln w="0">
            <a:noFill/>
          </a:ln>
        </p:spPr>
      </p:pic>
      <p:cxnSp>
        <p:nvCxnSpPr>
          <p:cNvPr id="81" name="Straight Arrow Connector 12"/>
          <p:cNvCxnSpPr/>
          <p:nvPr/>
        </p:nvCxnSpPr>
        <p:spPr>
          <a:xfrm flipH="1">
            <a:off x="2437920" y="3656520"/>
            <a:ext cx="106776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2" name="Straight Arrow Connector 16"/>
          <p:cNvCxnSpPr/>
          <p:nvPr/>
        </p:nvCxnSpPr>
        <p:spPr>
          <a:xfrm flipH="1">
            <a:off x="2742840" y="3504240"/>
            <a:ext cx="838800" cy="7668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83" name="Rectangle 17" descr=""/>
          <p:cNvPicPr/>
          <p:nvPr/>
        </p:nvPicPr>
        <p:blipFill>
          <a:blip r:embed="rId6"/>
          <a:stretch/>
        </p:blipFill>
        <p:spPr>
          <a:xfrm>
            <a:off x="1670040" y="1871640"/>
            <a:ext cx="927000" cy="1341360"/>
          </a:xfrm>
          <a:prstGeom prst="rect">
            <a:avLst/>
          </a:prstGeom>
          <a:ln w="0">
            <a:noFill/>
          </a:ln>
        </p:spPr>
      </p:pic>
      <p:cxnSp>
        <p:nvCxnSpPr>
          <p:cNvPr id="84" name="Straight Arrow Connector 19"/>
          <p:cNvCxnSpPr/>
          <p:nvPr/>
        </p:nvCxnSpPr>
        <p:spPr>
          <a:xfrm>
            <a:off x="2209680" y="2514240"/>
            <a:ext cx="106776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5" name="Rectangle 20" descr=""/>
          <p:cNvPicPr/>
          <p:nvPr/>
        </p:nvPicPr>
        <p:blipFill>
          <a:blip r:embed="rId7"/>
          <a:stretch/>
        </p:blipFill>
        <p:spPr>
          <a:xfrm>
            <a:off x="3638520" y="3578400"/>
            <a:ext cx="1330200" cy="1152360"/>
          </a:xfrm>
          <a:prstGeom prst="rect">
            <a:avLst/>
          </a:prstGeom>
          <a:ln w="0">
            <a:noFill/>
          </a:ln>
        </p:spPr>
      </p:pic>
      <p:cxnSp>
        <p:nvCxnSpPr>
          <p:cNvPr id="86" name="Straight Arrow Connector 22"/>
          <p:cNvCxnSpPr/>
          <p:nvPr/>
        </p:nvCxnSpPr>
        <p:spPr>
          <a:xfrm>
            <a:off x="4418640" y="4495680"/>
            <a:ext cx="15300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0" descr="http://www.travel-images.com/turkey149.jpg"/>
          <p:cNvPicPr/>
          <p:nvPr/>
        </p:nvPicPr>
        <p:blipFill>
          <a:blip r:embed="rId1"/>
          <a:stretch/>
        </p:blipFill>
        <p:spPr>
          <a:xfrm>
            <a:off x="4691160" y="3517920"/>
            <a:ext cx="4452840" cy="33400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Front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1142640"/>
            <a:ext cx="4648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lieffen Plan w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ack ______Belg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uses______to joi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lan 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ssia was _______than Germany thou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nce and Britain pus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th sides ‘dig in’ meaning they fight in 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www.starkhistoryclass.com/images/Trench%20warfare.jpg"/>
          <p:cNvPicPr/>
          <p:nvPr/>
        </p:nvPicPr>
        <p:blipFill>
          <a:blip r:embed="rId2"/>
          <a:srcRect l="15316" t="0" r="0" b="0"/>
          <a:stretch/>
        </p:blipFill>
        <p:spPr>
          <a:xfrm>
            <a:off x="4876920" y="533520"/>
            <a:ext cx="4267080" cy="2943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NoMansLand.jpg image by desertman888"/>
          <p:cNvPicPr/>
          <p:nvPr/>
        </p:nvPicPr>
        <p:blipFill>
          <a:blip r:embed="rId3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http://upload.wikimedia.org/wikipedia/commons/f/fa/Cheshire_Regiment_trench_Somme_1916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980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http://www.schoolhistory.co.uk/gcselinks/wars/firstwwlinks/images/map_plan.gif"/>
          <p:cNvPicPr/>
          <p:nvPr/>
        </p:nvPicPr>
        <p:blipFill>
          <a:blip r:embed="rId5"/>
          <a:stretch/>
        </p:blipFill>
        <p:spPr>
          <a:xfrm>
            <a:off x="1219320" y="892080"/>
            <a:ext cx="671508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lemate on the Western Fro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1142640"/>
            <a:ext cx="4648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alemate 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 cause a stalem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one will cros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nches can be easily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rn tech does no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ison gas was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nks could roll over trenches bu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ircrafts had little effec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eppeli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g fights”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mg.dailymail.co.uk/i/pix/2007/12_01/tankIWM0212_468x352.jpg"/>
          <p:cNvPicPr/>
          <p:nvPr/>
        </p:nvPicPr>
        <p:blipFill>
          <a:blip r:embed="rId1"/>
          <a:stretch/>
        </p:blipFill>
        <p:spPr>
          <a:xfrm>
            <a:off x="4686480" y="1066680"/>
            <a:ext cx="4457520" cy="3353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ttp://www.historyonthenet.com/Day_History/images/zeppelin.jpg"/>
          <p:cNvPicPr/>
          <p:nvPr/>
        </p:nvPicPr>
        <p:blipFill>
          <a:blip r:embed="rId2"/>
          <a:stretch/>
        </p:blipFill>
        <p:spPr>
          <a:xfrm>
            <a:off x="4619520" y="4114800"/>
            <a:ext cx="4524480" cy="2743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http://www.usgennet.org/usa/topic/preservation/dav/image1/pg106.jpg"/>
          <p:cNvPicPr/>
          <p:nvPr/>
        </p:nvPicPr>
        <p:blipFill>
          <a:blip r:embed="rId3"/>
          <a:stretch/>
        </p:blipFill>
        <p:spPr>
          <a:xfrm>
            <a:off x="0" y="60948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Modern Tech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1142640"/>
            <a:ext cx="4648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marin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-Boats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nterseeboot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-boats sink ship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llies form convoy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pid fire Machine g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 re-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er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 rang artill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 a 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t target from up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http://www.emersonkent.com/images/world_war_one.jpg"/>
          <p:cNvPicPr/>
          <p:nvPr/>
        </p:nvPicPr>
        <p:blipFill>
          <a:blip r:embed="rId1"/>
          <a:srcRect l="25821" t="0" r="0" b="0"/>
          <a:stretch/>
        </p:blipFill>
        <p:spPr>
          <a:xfrm>
            <a:off x="4643280" y="2666880"/>
            <a:ext cx="4500720" cy="4191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http://www.cityofart.net/bship/atl_convoy_wwi.jpg"/>
          <p:cNvPicPr/>
          <p:nvPr/>
        </p:nvPicPr>
        <p:blipFill>
          <a:blip r:embed="rId2"/>
          <a:stretch/>
        </p:blipFill>
        <p:spPr>
          <a:xfrm>
            <a:off x="0" y="0"/>
            <a:ext cx="5334120" cy="6818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http://www.uboat.net/history/images/wwi_pic2.jpg"/>
          <p:cNvPicPr/>
          <p:nvPr/>
        </p:nvPicPr>
        <p:blipFill>
          <a:blip r:embed="rId3"/>
          <a:stretch/>
        </p:blipFill>
        <p:spPr>
          <a:xfrm>
            <a:off x="68400" y="2286000"/>
            <a:ext cx="9075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LOW END TO A LONG W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Breaking the stalemate, Total war and seeking ‘peace w/o victory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WWI Battlefield (385)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ar on the Home front (38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ere the effects of trench warfare on the advancement of the troop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/why did trench warfare lead to the development of new weap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py and complete the ch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two other weapons used during WW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3962520"/>
          <a:ext cx="9144000" cy="1828800"/>
        </p:xfrm>
        <a:graphic>
          <a:graphicData uri="http://schemas.openxmlformats.org/drawingml/2006/table">
            <a:tbl>
              <a:tblPr/>
              <a:tblGrid>
                <a:gridCol w="1943280"/>
                <a:gridCol w="720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AP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D IT EFFECT THE STALEMATE? WHY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ISON G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N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RCRAF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http://museumvictoria.com.au/collections/itemimages/351/355/351355_Large.jpg"/>
          <p:cNvPicPr/>
          <p:nvPr/>
        </p:nvPicPr>
        <p:blipFill>
          <a:blip r:embed="rId1"/>
          <a:stretch/>
        </p:blipFill>
        <p:spPr>
          <a:xfrm>
            <a:off x="7391520" y="12952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http://images.wikia.com/australianconscription/images/0/03/SCAN0000.jpg"/>
          <p:cNvPicPr/>
          <p:nvPr/>
        </p:nvPicPr>
        <p:blipFill>
          <a:blip r:embed="rId2"/>
          <a:srcRect l="0" t="0" r="492" b="492"/>
          <a:stretch/>
        </p:blipFill>
        <p:spPr>
          <a:xfrm>
            <a:off x="5867280" y="2286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tal War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761760"/>
            <a:ext cx="4419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fight war the gov’t ne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di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e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ls!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tal war will accomplish thi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dies= Conscrip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ey= War Bond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ls!= Propagand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File:Put it into National War Bonds.jpg"/>
          <p:cNvPicPr/>
          <p:nvPr/>
        </p:nvPicPr>
        <p:blipFill>
          <a:blip r:embed="rId3"/>
          <a:stretch/>
        </p:blipFill>
        <p:spPr>
          <a:xfrm>
            <a:off x="4114800" y="1676520"/>
            <a:ext cx="2119320" cy="3162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http://conscriptionwwi.weebly.com/uploads/1/3/9/7/13973696/6117771.jpg?1350601539"/>
          <p:cNvPicPr/>
          <p:nvPr/>
        </p:nvPicPr>
        <p:blipFill>
          <a:blip r:embed="rId4"/>
          <a:stretch/>
        </p:blipFill>
        <p:spPr>
          <a:xfrm>
            <a:off x="6477120" y="2971800"/>
            <a:ext cx="2466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http://www.plexoft.com/SBF/images/Total.War2Total.Living.gif"/>
          <p:cNvPicPr/>
          <p:nvPr/>
        </p:nvPicPr>
        <p:blipFill>
          <a:blip r:embed="rId1"/>
          <a:stretch/>
        </p:blipFill>
        <p:spPr>
          <a:xfrm>
            <a:off x="2286000" y="781200"/>
            <a:ext cx="4502160" cy="60768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the purpose of each image? What is it meant to make you do/think/feel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http://fashionforwardpr.files.wordpress.com/2008/04/destroy_this_mad_brute_wwi_propaganda_poster_us_version.jpg"/>
          <p:cNvPicPr/>
          <p:nvPr/>
        </p:nvPicPr>
        <p:blipFill>
          <a:blip r:embed="rId2"/>
          <a:stretch/>
        </p:blipFill>
        <p:spPr>
          <a:xfrm>
            <a:off x="2666880" y="1165320"/>
            <a:ext cx="3733920" cy="5692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http://poststop.files.wordpress.com/2006/11/great_war.gif"/>
          <p:cNvPicPr/>
          <p:nvPr/>
        </p:nvPicPr>
        <p:blipFill>
          <a:blip r:embed="rId3"/>
          <a:stretch/>
        </p:blipFill>
        <p:spPr>
          <a:xfrm>
            <a:off x="2666880" y="1143000"/>
            <a:ext cx="3686400" cy="5715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http://upload.wikimedia.org/wikipedia/commons/thumb/4/40/Howard_Chandler_Christy_WWI_poster_04.jpg/300px-Howard_Chandler_Christy_WWI_poster_04.jpg"/>
          <p:cNvPicPr/>
          <p:nvPr/>
        </p:nvPicPr>
        <p:blipFill>
          <a:blip r:embed="rId4"/>
          <a:stretch/>
        </p:blipFill>
        <p:spPr>
          <a:xfrm>
            <a:off x="2514600" y="1298520"/>
            <a:ext cx="4267080" cy="5559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http://www.library.northwestern.edu/govinfo/collections/wwii-posters/img/ww0207-63.jpg"/>
          <p:cNvPicPr/>
          <p:nvPr/>
        </p:nvPicPr>
        <p:blipFill>
          <a:blip r:embed="rId5"/>
          <a:stretch/>
        </p:blipFill>
        <p:spPr>
          <a:xfrm>
            <a:off x="2514600" y="1143000"/>
            <a:ext cx="41148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urnal 3/2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are Great Britain; you have the strongest Navy in the world. Close to your borders is the newly powerful nation of Germany has started a campaign of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ilitaris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What do you think this word means? Why might this make you nervou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aganda Po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914040"/>
            <a:ext cx="91440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the bit on info about propaganda on page 38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task is to create propaganda for the Allies’ war efforts (in other words to support the Allies). Here are the rules for creating good, effective propagand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mages.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o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lear message. What are you asking citizens to do? What’s the consequence if they ignore y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 ME FEEL SOMETHING!!! Give me images that “tug at my heart strings!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urnal 4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Content Placeholder 2"/>
          <p:cNvSpPr/>
          <p:nvPr/>
        </p:nvSpPr>
        <p:spPr>
          <a:xfrm>
            <a:off x="228600" y="1371600"/>
            <a:ext cx="8381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had to blame the Great War on one of the following who would it be and wh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stria-Hung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lack Hand/Serb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at Brit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ding the Stalem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761760"/>
            <a:ext cx="4419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ssia leaves du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zar is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lead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rmany can focus 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 e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rmans sink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usitani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itish intercept the Zimmermann tele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iser asks________to join them in w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ricans start to __________Germ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http://www.jadawin.info/Trotsky%20a%20Brest-Litovsk%20nel%201917-Immagine%20dal%20web-2.jpg"/>
          <p:cNvPicPr/>
          <p:nvPr/>
        </p:nvPicPr>
        <p:blipFill>
          <a:blip r:embed="rId1"/>
          <a:srcRect l="23226" t="0" r="0" b="0"/>
          <a:stretch/>
        </p:blipFill>
        <p:spPr>
          <a:xfrm>
            <a:off x="4495680" y="912960"/>
            <a:ext cx="4496040" cy="59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ace without vic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609120"/>
            <a:ext cx="44197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rman gov’t seeks an armistice 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is Peace Conference leaders of the ______ ______meet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_is not invi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e of the: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aty of Versailles punishes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http://www.affordable-cruises-tours.com/photo/1122731310567_Paris_Peace_Conference_Picture.jpg"/>
          <p:cNvPicPr/>
          <p:nvPr/>
        </p:nvPicPr>
        <p:blipFill>
          <a:blip r:embed="rId1"/>
          <a:srcRect l="11655" t="0" r="2776" b="0"/>
          <a:stretch/>
        </p:blipFill>
        <p:spPr>
          <a:xfrm>
            <a:off x="4952880" y="1752480"/>
            <a:ext cx="38862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http://staff.imsa.edu/socsci/jvictory/help_07/exexmplary_10/tu_09_4/wwi_battle_deaths.gif"/>
          <p:cNvPicPr/>
          <p:nvPr/>
        </p:nvPicPr>
        <p:blipFill>
          <a:blip r:embed="rId1"/>
          <a:stretch/>
        </p:blipFill>
        <p:spPr>
          <a:xfrm>
            <a:off x="776160" y="838080"/>
            <a:ext cx="722484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me four countries from the Allied Powers +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me two countries from the Central Powers +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me the four causes of WWI +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id Militarism start the war (specific example)? +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id Imperialism start the war (specific example)? +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id nationalism start the war (specific example)? +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caused the Alliances to kick in that started WWI +1 (Bonus if you can tell me the orders the ‘dominoes fell’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was the Schlieffen Plan? +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country was fighting a two front war? +1 What country was on her WESTERN front? +1 Which was on her EASTERN front +1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caused the Stalemate on the Western front? +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member of the Allied Powers was NOT invited to the Paris Peace Conference? +1 Why +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urnal 3/2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rn to page 828. Read the section from the novel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ll Quiet on the Western Fro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Answer the questions at the bottom righ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urnal 3/2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 out your nationalism note guide (it says “Remember the Hapsburgs” at the top). Turn to page 707; the map there represents all the different ethnic groups (nations) within the Hapsburg empire before WWI. Use the map and your note guide to write four sentences answering the ques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id all the different nations in the Haps. Empire create conflict before WW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id this have to do with the assassination of Francis Ferdinand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urnal 3/2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2514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about Trench Warfare on page 824. Answer the questions on the bottom of page 82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urnal 3/3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thesis about the causes of WWI (the 3 ‘isms’ and the other on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topic sentence for each cause discussing how each lead to the start of the war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 NEW KIND OF W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Fighting WW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 ‘isms’ and…the other 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-3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Imperialism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en one country controls all aspects of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Militarism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rapid build up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Nationalism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 intense love of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Alliances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en two or more nation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Imperi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1066680"/>
            <a:ext cx="4572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oleon's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et the ‘Iron Chancellor’ and his puppet 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hing a little WAR can’t fix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File:Bundesarchiv Bild 146-2005-0057, Otto von Bismarck.jpg"/>
          <p:cNvPicPr/>
          <p:nvPr/>
        </p:nvPicPr>
        <p:blipFill>
          <a:blip r:embed="rId1"/>
          <a:stretch/>
        </p:blipFill>
        <p:spPr>
          <a:xfrm>
            <a:off x="4038480" y="1066680"/>
            <a:ext cx="230688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File:Map-NDB.svg"/>
          <p:cNvPicPr/>
          <p:nvPr/>
        </p:nvPicPr>
        <p:blipFill>
          <a:blip r:embed="rId2"/>
          <a:stretch/>
        </p:blipFill>
        <p:spPr>
          <a:xfrm>
            <a:off x="5791320" y="4038480"/>
            <a:ext cx="312408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5:20:21Z</dcterms:created>
  <dc:creator>IT Clone User</dc:creator>
  <dc:description/>
  <dc:language>en-US</dc:language>
  <cp:lastModifiedBy>IT Clone User</cp:lastModifiedBy>
  <dcterms:modified xsi:type="dcterms:W3CDTF">2013-04-04T14:24:25Z</dcterms:modified>
  <cp:revision>1673</cp:revision>
  <dc:subject/>
  <dc:title>Causes of the Great War</dc:title>
</cp:coreProperties>
</file>