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13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6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9C56-AED2-4823-8461-740DB0AF1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War: When everything in society goes to the war eff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fight war the gov’t nee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ies: soldiers to f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: funds to build weapons and keep figh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ls!: the people to believe in the ‘goodness’ of the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war will accomplish th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ies= Conscription: also known as “the draft”. Men a re forced to f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ey= War Bonds: this is like the gov’t borrowing money form the people. You buy a bond and the gov’t will pay you back, with interest, after the war…in the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ls!= Propaganda: Printed and media ads meant to persuade ppl to support a ca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2B6D-8F1C-4A24-BCF4-78462D234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953-8593-4186-939B-A3B9CD56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290-3B13-4D58-B25A-0FF42990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4D56-C8D1-45B2-86E4-D8D899CA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DB31-1D81-4AB1-8E3D-25EEE7A9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C7B-3ECE-49F0-AB50-AF774C25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67FE-DF73-49B7-8319-7367BEC4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7EF-AE40-4609-9A7C-A1248835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00A-7189-4C56-9F6A-68EA6B2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614-29D1-4D01-8772-7445F8D2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C62-9D6C-4A92-A114-29083C22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602-7D32-4CD0-9CD1-139F676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30F-05FD-4DA4-8174-2B7CFD09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DA92-5308-4564-9032-7016A0810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the Great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W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Militaris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0666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German industrialism leads to Militar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warning from the ‘Iron Chancellor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iser William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://www.erih.net/typo3temp/pics/87f3c869ef.jpg"/>
          <p:cNvPicPr/>
          <p:nvPr/>
        </p:nvPicPr>
        <p:blipFill>
          <a:blip r:embed="rId1"/>
          <a:stretch/>
        </p:blipFill>
        <p:spPr>
          <a:xfrm>
            <a:off x="5943600" y="53352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mwhhonourswiki2009-per5.wikispaces.com/file/view/fleet.jpg/107437353/fleet.jpg"/>
          <p:cNvPicPr/>
          <p:nvPr/>
        </p:nvPicPr>
        <p:blipFill>
          <a:blip r:embed="rId2"/>
          <a:stretch/>
        </p:blipFill>
        <p:spPr>
          <a:xfrm>
            <a:off x="3952800" y="3800520"/>
            <a:ext cx="51912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0666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e Hapsburg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stria becomes Austria- Hung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ssassination of Franz Ferdin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http://www.age-of-the-sage.org/history/1848/Habsburg_Empire.jpg"/>
          <p:cNvPicPr/>
          <p:nvPr/>
        </p:nvPicPr>
        <p:blipFill>
          <a:blip r:embed="rId1"/>
          <a:srcRect l="14110" t="0" r="0" b="4538"/>
          <a:stretch/>
        </p:blipFill>
        <p:spPr>
          <a:xfrm>
            <a:off x="3809880" y="2048040"/>
            <a:ext cx="53341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www.wwnorton.com/college/history/ralph/ralimage/map34wwi.jpg"/>
          <p:cNvPicPr/>
          <p:nvPr/>
        </p:nvPicPr>
        <p:blipFill>
          <a:blip r:embed="rId1"/>
          <a:stretch/>
        </p:blipFill>
        <p:spPr>
          <a:xfrm>
            <a:off x="0" y="-103320"/>
            <a:ext cx="9144000" cy="696132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4" descr=""/>
          <p:cNvPicPr/>
          <p:nvPr/>
        </p:nvPicPr>
        <p:blipFill>
          <a:blip r:embed="rId2"/>
          <a:stretch/>
        </p:blipFill>
        <p:spPr>
          <a:xfrm>
            <a:off x="4260960" y="4664160"/>
            <a:ext cx="927000" cy="134604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5" descr=""/>
          <p:cNvPicPr/>
          <p:nvPr/>
        </p:nvPicPr>
        <p:blipFill>
          <a:blip r:embed="rId3"/>
          <a:stretch/>
        </p:blipFill>
        <p:spPr>
          <a:xfrm>
            <a:off x="5022720" y="2859120"/>
            <a:ext cx="927360" cy="1347840"/>
          </a:xfrm>
          <a:prstGeom prst="rect">
            <a:avLst/>
          </a:prstGeom>
          <a:ln w="0">
            <a:noFill/>
          </a:ln>
        </p:spPr>
      </p:pic>
      <p:pic>
        <p:nvPicPr>
          <p:cNvPr id="78" name="Rectangle 7" descr=""/>
          <p:cNvPicPr/>
          <p:nvPr/>
        </p:nvPicPr>
        <p:blipFill>
          <a:blip r:embed="rId4"/>
          <a:stretch/>
        </p:blipFill>
        <p:spPr>
          <a:xfrm>
            <a:off x="3108240" y="2749680"/>
            <a:ext cx="1330560" cy="1152360"/>
          </a:xfrm>
          <a:prstGeom prst="rect">
            <a:avLst/>
          </a:prstGeom>
          <a:ln w="0">
            <a:noFill/>
          </a:ln>
        </p:spPr>
      </p:pic>
      <p:cxnSp>
        <p:nvCxnSpPr>
          <p:cNvPr id="79" name="Straight Arrow Connector 9"/>
          <p:cNvCxnSpPr/>
          <p:nvPr/>
        </p:nvCxnSpPr>
        <p:spPr>
          <a:xfrm>
            <a:off x="4038480" y="3580920"/>
            <a:ext cx="9914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0" name="Rectangle 10" descr=""/>
          <p:cNvPicPr/>
          <p:nvPr/>
        </p:nvPicPr>
        <p:blipFill>
          <a:blip r:embed="rId5"/>
          <a:stretch/>
        </p:blipFill>
        <p:spPr>
          <a:xfrm>
            <a:off x="1822320" y="4005360"/>
            <a:ext cx="927360" cy="134136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12"/>
          <p:cNvCxnSpPr/>
          <p:nvPr/>
        </p:nvCxnSpPr>
        <p:spPr>
          <a:xfrm flipH="1">
            <a:off x="2437920" y="3656520"/>
            <a:ext cx="106776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Straight Arrow Connector 16"/>
          <p:cNvCxnSpPr/>
          <p:nvPr/>
        </p:nvCxnSpPr>
        <p:spPr>
          <a:xfrm flipH="1">
            <a:off x="2742840" y="3504240"/>
            <a:ext cx="838800" cy="766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3" name="Rectangle 17" descr=""/>
          <p:cNvPicPr/>
          <p:nvPr/>
        </p:nvPicPr>
        <p:blipFill>
          <a:blip r:embed="rId6"/>
          <a:stretch/>
        </p:blipFill>
        <p:spPr>
          <a:xfrm>
            <a:off x="1670040" y="1871640"/>
            <a:ext cx="927000" cy="1341360"/>
          </a:xfrm>
          <a:prstGeom prst="rect">
            <a:avLst/>
          </a:prstGeom>
          <a:ln w="0">
            <a:noFill/>
          </a:ln>
        </p:spPr>
      </p:pic>
      <p:cxnSp>
        <p:nvCxnSpPr>
          <p:cNvPr id="84" name="Straight Arrow Connector 19"/>
          <p:cNvCxnSpPr/>
          <p:nvPr/>
        </p:nvCxnSpPr>
        <p:spPr>
          <a:xfrm>
            <a:off x="2209680" y="2514240"/>
            <a:ext cx="106776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5" name="Rectangle 20" descr=""/>
          <p:cNvPicPr/>
          <p:nvPr/>
        </p:nvPicPr>
        <p:blipFill>
          <a:blip r:embed="rId7"/>
          <a:stretch/>
        </p:blipFill>
        <p:spPr>
          <a:xfrm>
            <a:off x="3638520" y="3578400"/>
            <a:ext cx="1330200" cy="1152360"/>
          </a:xfrm>
          <a:prstGeom prst="rect">
            <a:avLst/>
          </a:prstGeom>
          <a:ln w="0">
            <a:noFill/>
          </a:ln>
        </p:spPr>
      </p:pic>
      <p:cxnSp>
        <p:nvCxnSpPr>
          <p:cNvPr id="86" name="Straight Arrow Connector 22"/>
          <p:cNvCxnSpPr/>
          <p:nvPr/>
        </p:nvCxnSpPr>
        <p:spPr>
          <a:xfrm>
            <a:off x="4418640" y="4495680"/>
            <a:ext cx="15300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" descr="http://www.travel-images.com/turkey149.jpg"/>
          <p:cNvPicPr/>
          <p:nvPr/>
        </p:nvPicPr>
        <p:blipFill>
          <a:blip r:embed="rId1"/>
          <a:stretch/>
        </p:blipFill>
        <p:spPr>
          <a:xfrm>
            <a:off x="4691160" y="3517920"/>
            <a:ext cx="4452840" cy="334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 Front W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lieffen Plan w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ack ______Belg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s______to jo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lan 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ssia was _______than Germany tho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e and Britain push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th sides ‘dig in’ meaning they fight in 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starkhistoryclass.com/images/Trench%20warfare.jpg"/>
          <p:cNvPicPr/>
          <p:nvPr/>
        </p:nvPicPr>
        <p:blipFill>
          <a:blip r:embed="rId2"/>
          <a:srcRect l="15316" t="0" r="0" b="0"/>
          <a:stretch/>
        </p:blipFill>
        <p:spPr>
          <a:xfrm>
            <a:off x="4876920" y="533520"/>
            <a:ext cx="4267080" cy="294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NoMansLand.jpg image by desertman888"/>
          <p:cNvPicPr/>
          <p:nvPr/>
        </p:nvPicPr>
        <p:blipFill>
          <a:blip r:embed="rId3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upload.wikimedia.org/wikipedia/commons/f/fa/Cheshire_Regiment_trench_Somme_1916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980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schoolhistory.co.uk/gcselinks/wars/firstwwlinks/images/map_plan.gif"/>
          <p:cNvPicPr/>
          <p:nvPr/>
        </p:nvPicPr>
        <p:blipFill>
          <a:blip r:embed="rId5"/>
          <a:stretch/>
        </p:blipFill>
        <p:spPr>
          <a:xfrm>
            <a:off x="1219320" y="892080"/>
            <a:ext cx="67150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lemate on the Western Fr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lemate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 cause a stalem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ne will cros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nches can be easil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tech does no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ison gas was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nks could roll over trenches bu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crafts had little effec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eppeli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g fights”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mg.dailymail.co.uk/i/pix/2007/12_01/tankIWM0212_468x352.jpg"/>
          <p:cNvPicPr/>
          <p:nvPr/>
        </p:nvPicPr>
        <p:blipFill>
          <a:blip r:embed="rId1"/>
          <a:stretch/>
        </p:blipFill>
        <p:spPr>
          <a:xfrm>
            <a:off x="4686480" y="1066680"/>
            <a:ext cx="4457520" cy="335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historyonthenet.com/Day_History/images/zeppelin.jpg"/>
          <p:cNvPicPr/>
          <p:nvPr/>
        </p:nvPicPr>
        <p:blipFill>
          <a:blip r:embed="rId2"/>
          <a:stretch/>
        </p:blipFill>
        <p:spPr>
          <a:xfrm>
            <a:off x="4619520" y="4114800"/>
            <a:ext cx="4524480" cy="2743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www.usgennet.org/usa/topic/preservation/dav/image1/pg106.jpg"/>
          <p:cNvPicPr/>
          <p:nvPr/>
        </p:nvPicPr>
        <p:blipFill>
          <a:blip r:embed="rId3"/>
          <a:stretch/>
        </p:blipFill>
        <p:spPr>
          <a:xfrm>
            <a:off x="0" y="60948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re Modern Techn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142640"/>
            <a:ext cx="4648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marin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-Boats 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unterseeboot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-boats sink shi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llies form convoy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pid fire Machine g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re-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rang artill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ke a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t target from up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http://www.emersonkent.com/images/world_war_one.jpg"/>
          <p:cNvPicPr/>
          <p:nvPr/>
        </p:nvPicPr>
        <p:blipFill>
          <a:blip r:embed="rId1"/>
          <a:srcRect l="25821" t="0" r="0" b="0"/>
          <a:stretch/>
        </p:blipFill>
        <p:spPr>
          <a:xfrm>
            <a:off x="4643280" y="2666880"/>
            <a:ext cx="4500720" cy="4191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http://www.cityofart.net/bship/atl_convoy_wwi.jpg"/>
          <p:cNvPicPr/>
          <p:nvPr/>
        </p:nvPicPr>
        <p:blipFill>
          <a:blip r:embed="rId2"/>
          <a:stretch/>
        </p:blipFill>
        <p:spPr>
          <a:xfrm>
            <a:off x="0" y="0"/>
            <a:ext cx="5334120" cy="681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http://www.uboat.net/history/images/wwi_pic2.jpg"/>
          <p:cNvPicPr/>
          <p:nvPr/>
        </p:nvPicPr>
        <p:blipFill>
          <a:blip r:embed="rId3"/>
          <a:stretch/>
        </p:blipFill>
        <p:spPr>
          <a:xfrm>
            <a:off x="68400" y="2286000"/>
            <a:ext cx="9075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LOW END TO A LONG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Breaking the stalemate, Total war and seeking ‘peace w/o victory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WWI Battlefield (385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ar on the Home front (38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ere the effects of trench warfare on the advancement of the troop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/why did trench warfare lead to the development of new weap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y and complete the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wo other weapons used during WW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3962520"/>
          <a:ext cx="9144000" cy="1828800"/>
        </p:xfrm>
        <a:graphic>
          <a:graphicData uri="http://schemas.openxmlformats.org/drawingml/2006/table">
            <a:tbl>
              <a:tblPr/>
              <a:tblGrid>
                <a:gridCol w="1943280"/>
                <a:gridCol w="720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AP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D IT EFFECT THE STALEMATE? WH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SON G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CRAF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http://museumvictoria.com.au/collections/itemimages/351/355/351355_Large.jpg"/>
          <p:cNvPicPr/>
          <p:nvPr/>
        </p:nvPicPr>
        <p:blipFill>
          <a:blip r:embed="rId1"/>
          <a:stretch/>
        </p:blipFill>
        <p:spPr>
          <a:xfrm>
            <a:off x="7391520" y="12952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http://images.wikia.com/australianconscription/images/0/03/SCAN0000.jpg"/>
          <p:cNvPicPr/>
          <p:nvPr/>
        </p:nvPicPr>
        <p:blipFill>
          <a:blip r:embed="rId2"/>
          <a:srcRect l="0" t="0" r="492" b="492"/>
          <a:stretch/>
        </p:blipFill>
        <p:spPr>
          <a:xfrm>
            <a:off x="5867280" y="228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tal Wa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fight war the gov’t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ls!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war will accomplish thi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ies= Conscrip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ey= War Bond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ls!= Propagand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File:Put it into National War Bonds.jpg"/>
          <p:cNvPicPr/>
          <p:nvPr/>
        </p:nvPicPr>
        <p:blipFill>
          <a:blip r:embed="rId3"/>
          <a:stretch/>
        </p:blipFill>
        <p:spPr>
          <a:xfrm>
            <a:off x="4114800" y="1676520"/>
            <a:ext cx="2119320" cy="3162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://conscriptionwwi.weebly.com/uploads/1/3/9/7/13973696/6117771.jpg?1350601539"/>
          <p:cNvPicPr/>
          <p:nvPr/>
        </p:nvPicPr>
        <p:blipFill>
          <a:blip r:embed="rId4"/>
          <a:stretch/>
        </p:blipFill>
        <p:spPr>
          <a:xfrm>
            <a:off x="6477120" y="2971800"/>
            <a:ext cx="2466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http://www.plexoft.com/SBF/images/Total.War2Total.Living.gif"/>
          <p:cNvPicPr/>
          <p:nvPr/>
        </p:nvPicPr>
        <p:blipFill>
          <a:blip r:embed="rId1"/>
          <a:stretch/>
        </p:blipFill>
        <p:spPr>
          <a:xfrm>
            <a:off x="2286000" y="781200"/>
            <a:ext cx="4502160" cy="607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the purpose of each image? What is it meant to make you do/think/fee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fashionforwardpr.files.wordpress.com/2008/04/destroy_this_mad_brute_wwi_propaganda_poster_us_version.jpg"/>
          <p:cNvPicPr/>
          <p:nvPr/>
        </p:nvPicPr>
        <p:blipFill>
          <a:blip r:embed="rId2"/>
          <a:stretch/>
        </p:blipFill>
        <p:spPr>
          <a:xfrm>
            <a:off x="2666880" y="1165320"/>
            <a:ext cx="3733920" cy="5692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poststop.files.wordpress.com/2006/11/great_war.gif"/>
          <p:cNvPicPr/>
          <p:nvPr/>
        </p:nvPicPr>
        <p:blipFill>
          <a:blip r:embed="rId3"/>
          <a:stretch/>
        </p:blipFill>
        <p:spPr>
          <a:xfrm>
            <a:off x="2666880" y="1143000"/>
            <a:ext cx="3686400" cy="5715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ttp://upload.wikimedia.org/wikipedia/commons/thumb/4/40/Howard_Chandler_Christy_WWI_poster_04.jpg/300px-Howard_Chandler_Christy_WWI_poster_04.jpg"/>
          <p:cNvPicPr/>
          <p:nvPr/>
        </p:nvPicPr>
        <p:blipFill>
          <a:blip r:embed="rId4"/>
          <a:stretch/>
        </p:blipFill>
        <p:spPr>
          <a:xfrm>
            <a:off x="2514600" y="1298520"/>
            <a:ext cx="4267080" cy="555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library.northwestern.edu/govinfo/collections/wwii-posters/img/ww0207-63.jpg"/>
          <p:cNvPicPr/>
          <p:nvPr/>
        </p:nvPicPr>
        <p:blipFill>
          <a:blip r:embed="rId5"/>
          <a:stretch/>
        </p:blipFill>
        <p:spPr>
          <a:xfrm>
            <a:off x="2514600" y="1143000"/>
            <a:ext cx="41148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are Great Britain; you have the strongest Navy in the world. Close to your borders is the newly powerful nation of Germany has started a campaign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ilitaris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What do you think this word means? Why might this make you nervou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aganda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914040"/>
            <a:ext cx="91440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bit on info about propaganda on page 38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task is to create propaganda for the Allies’ war efforts (in other words to support the Allies). Here are the rules for creating good, effective propag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mages.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o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lear message. What are you asking citizens to do? What’s the consequence if they ignore y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ME FEEL SOMETHING!!! Give me images that “tug at my heart strings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4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ontent Placeholder 2"/>
          <p:cNvSpPr/>
          <p:nvPr/>
        </p:nvSpPr>
        <p:spPr>
          <a:xfrm>
            <a:off x="22860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had to blame the Great War on one of the following who would it be and wh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ia-Hung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lack Hand/Serb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eat Brit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ing the Stale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ssia leave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zar is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lead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any can focus 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 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ans sink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Lusitani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tish intercept the Zimmermann tele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iser asks________to join them in w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ericans start to __________Germ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www.jadawin.info/Trotsky%20a%20Brest-Litovsk%20nel%201917-Immagine%20dal%20web-2.jpg"/>
          <p:cNvPicPr/>
          <p:nvPr/>
        </p:nvPicPr>
        <p:blipFill>
          <a:blip r:embed="rId1"/>
          <a:srcRect l="23226" t="0" r="0" b="0"/>
          <a:stretch/>
        </p:blipFill>
        <p:spPr>
          <a:xfrm>
            <a:off x="4495680" y="912960"/>
            <a:ext cx="4496040" cy="59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ace without vi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609120"/>
            <a:ext cx="4419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man gov’t seeks an armistice 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is Peace Conference leaders of the ______ ______meet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____is not invi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e of the: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y of Versailles punishes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www.affordable-cruises-tours.com/photo/1122731310567_Paris_Peace_Conference_Picture.jpg"/>
          <p:cNvPicPr/>
          <p:nvPr/>
        </p:nvPicPr>
        <p:blipFill>
          <a:blip r:embed="rId1"/>
          <a:srcRect l="11655" t="0" r="2776" b="0"/>
          <a:stretch/>
        </p:blipFill>
        <p:spPr>
          <a:xfrm>
            <a:off x="4952880" y="1752480"/>
            <a:ext cx="3886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http://staff.imsa.edu/socsci/jvictory/help_07/exexmplary_10/tu_09_4/wwi_battle_deaths.gif"/>
          <p:cNvPicPr/>
          <p:nvPr/>
        </p:nvPicPr>
        <p:blipFill>
          <a:blip r:embed="rId1"/>
          <a:stretch/>
        </p:blipFill>
        <p:spPr>
          <a:xfrm>
            <a:off x="776160" y="838080"/>
            <a:ext cx="7224840" cy="52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four countries from the Allied Powers 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wo countries from the Central Powers +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me the four causes of WWI +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Militarism start the war (specific example)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Imperialism start the war (specific example)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did nationalism start the war (specific example)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used the Alliances to kick in that started WWI +1 (Bonus if you can tell me the orders the ‘dominoes fell’)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was the Schlieffen Plan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ountry was fighting a two front war? +1 What country was on her WESTERN front? +1 Which was on her EASTERN front +1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caused the Stalemate on the Western front?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member of the Allied Powers was NOT invited to the Paris Peace Conference? +1 Why 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page 828. Read the section from the novel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l Quiet on the Western Fro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nswer the questions at the bottom righ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 out your nationalism note guide (it says “Remember the Hapsburgs” at the top). Turn to page 707; the map there represents all the different ethnic groups (nations) within the Hapsburg empire before WWI. Use the map and your note guide to write four sentences answering the questio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id all the different nations in the Haps. Empire create conflict before WWI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this have to do with the assassination of Francis Ferdinand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2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2514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about Trench Warfare on page 824. Answer the questions on the bottom of page 8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3/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thesis about the causes of WWI (the 3 ‘isms’ and the other o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topic sentence for each cause discussing how each lead to the start of the w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 NEW KIND OF W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ighting WW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‘isms’ and…the other 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36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Imperialism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one country controls all aspects of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Militarism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rapid build up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Nationalism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 intense love of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Allianc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two or more na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Imperi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066680"/>
            <a:ext cx="4572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oleon's Emp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et the ‘Iron Chancellor’ and his puppet 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 a little WAR can’t fix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ile:Bundesarchiv Bild 146-2005-0057, Otto von Bismarck.jpg"/>
          <p:cNvPicPr/>
          <p:nvPr/>
        </p:nvPicPr>
        <p:blipFill>
          <a:blip r:embed="rId1"/>
          <a:stretch/>
        </p:blipFill>
        <p:spPr>
          <a:xfrm>
            <a:off x="4038480" y="1066680"/>
            <a:ext cx="230688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ile:Map-NDB.svg"/>
          <p:cNvPicPr/>
          <p:nvPr/>
        </p:nvPicPr>
        <p:blipFill>
          <a:blip r:embed="rId2"/>
          <a:stretch/>
        </p:blipFill>
        <p:spPr>
          <a:xfrm>
            <a:off x="5791320" y="4038480"/>
            <a:ext cx="312408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5:20:21Z</dcterms:created>
  <dc:creator>IT Clone User</dc:creator>
  <dc:description/>
  <dc:language>en-US</dc:language>
  <cp:lastModifiedBy>IT Clone User</cp:lastModifiedBy>
  <dcterms:modified xsi:type="dcterms:W3CDTF">2013-04-04T14:24:25Z</dcterms:modified>
  <cp:revision>1673</cp:revision>
  <dc:subject/>
  <dc:title>Causes of the Great War</dc:title>
</cp:coreProperties>
</file>