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0.png" ContentType="image/png"/>
  <Override PartName="/ppt/media/image2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BD8-55ED-4C14-8F6C-35E587A0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B8C4-C88F-41AA-A302-F8CCBB0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C793-4ED1-439C-8D91-96926465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E662-6FFA-4462-A21A-D3C2608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CC4-E5A0-4C68-96C5-8BDA0B4C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5D5-22F3-4CE7-BA7E-3907F909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232-3ED9-41DB-8E07-DC8A642F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505D-CF7B-41F2-A481-DDF484D7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938-4A62-4007-9DA9-B0829AC8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9389-3259-4A0A-91C2-01215E3C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3A0B-B319-4A43-9BA5-DD8BB76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456-27D7-47D0-9D5B-3122AEB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5EC1-2DAE-43A8-A34E-17ECDE8D2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1/18/Soviet_Union%2C_Lenin_%2855%29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history.com/ww1.html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suhistory.com/ww1.html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following headline was on the front page of the paper 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ATEBREAKING: German president assassinated; Soviet terrorists blamed. France vows to defend democracy; Chinese vow to defend Socialism. War erupt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are your concerns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-152280"/>
          <a:ext cx="9144000" cy="7010280"/>
        </p:xfrm>
        <a:graphic>
          <a:graphicData uri="http://schemas.openxmlformats.org/drawingml/2006/table">
            <a:tbl>
              <a:tblPr/>
              <a:tblGrid>
                <a:gridCol w="2819520"/>
                <a:gridCol w="63244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oup of sold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xperience in WWI (593-9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cientious   Objecto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ority Soldi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ispanic and African America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F under Gen. John J. Persh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Allied Powers in 1916-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5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rn to page 603. Read the “Primary Sources” section and answer the 2 questions at the bot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riving to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lective Service Act May of 19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rican and Hispanic Americ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. John J Pershing, head of AEF, trains troops in Franc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1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914400" y="1411200"/>
            <a:ext cx="7315200" cy="3917880"/>
            <a:chOff x="914400" y="1411200"/>
            <a:chExt cx="7315200" cy="3917880"/>
          </a:xfrm>
        </p:grpSpPr>
        <p:sp>
          <p:nvSpPr>
            <p:cNvPr id="94" name="Rectangle 5"/>
            <p:cNvSpPr/>
            <p:nvPr/>
          </p:nvSpPr>
          <p:spPr>
            <a:xfrm>
              <a:off x="914400" y="1411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6"/>
            <p:cNvSpPr/>
            <p:nvPr/>
          </p:nvSpPr>
          <p:spPr>
            <a:xfrm>
              <a:off x="914400" y="1411200"/>
              <a:ext cx="7315200" cy="39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5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Picture 7" descr="[Asian Americans in WWI Portrait]"/>
          <p:cNvPicPr/>
          <p:nvPr/>
        </p:nvPicPr>
        <p:blipFill>
          <a:blip r:embed="rId1"/>
          <a:stretch/>
        </p:blipFill>
        <p:spPr>
          <a:xfrm>
            <a:off x="4343400" y="2340000"/>
            <a:ext cx="4800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ies have tro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s occupy Belgi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ussian revolution and  f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olsheviks  sign peace trea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Image:Soviet Union, Lenin (55)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2280" y="1371600"/>
            <a:ext cx="40417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ericans see comb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nd 12 mnths in France tra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ench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sh the Germans out of France in 19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http://content.bbcmotiongallery.com/images/72/84/7284-77.jpg"/>
          <p:cNvPicPr/>
          <p:nvPr/>
        </p:nvPicPr>
        <p:blipFill>
          <a:blip r:embed="rId1"/>
          <a:srcRect l="2126" t="2140" r="0" b="0"/>
          <a:stretch/>
        </p:blipFill>
        <p:spPr>
          <a:xfrm>
            <a:off x="3886200" y="2943360"/>
            <a:ext cx="525780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http://www.thetroubleshooters.com/ww1/ww1.jpg"/>
          <p:cNvPicPr/>
          <p:nvPr/>
        </p:nvPicPr>
        <p:blipFill>
          <a:blip r:embed="rId1"/>
          <a:stretch/>
        </p:blipFill>
        <p:spPr>
          <a:xfrm>
            <a:off x="220824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ace Without Victor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magine that you are US president Woodrow Wilson. You have been called to Paris by the Allies to discuss peace in a war-torn world; what are your concerns? What are your goals? How might you reach these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litical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r leads to ________of monarch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arks 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ise of Bolshevi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olt in Mid-East and As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ion of new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colonies become protector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7" descr="http://www.oxfordislamicstudies.com/doc/book/islam-9780195107999/islam-9780195107999-chapter-13/images/inline/graphic263.jpg"/>
          <p:cNvPicPr/>
          <p:nvPr/>
        </p:nvPicPr>
        <p:blipFill>
          <a:blip r:embed="rId1"/>
          <a:stretch/>
        </p:blipFill>
        <p:spPr>
          <a:xfrm>
            <a:off x="4267080" y="1706400"/>
            <a:ext cx="4584960" cy="3170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Europe20Map20Before20After20WWI2008.jpg image by SerbianCulture"/>
          <p:cNvPicPr/>
          <p:nvPr/>
        </p:nvPicPr>
        <p:blipFill>
          <a:blip r:embed="rId2"/>
          <a:srcRect l="3082" t="0" r="5014" b="4439"/>
          <a:stretch/>
        </p:blipFill>
        <p:spPr>
          <a:xfrm>
            <a:off x="0" y="1039680"/>
            <a:ext cx="914400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ic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S replaces _____ ________as World’s leading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mericans still face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are hard hit with post-war economic wo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nomy in _______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forced to p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ies in debt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http://dakiniland.files.wordpress.com/2009/05/inflation-1923.jpg"/>
          <p:cNvPicPr/>
          <p:nvPr/>
        </p:nvPicPr>
        <p:blipFill>
          <a:blip r:embed="rId1"/>
          <a:stretch/>
        </p:blipFill>
        <p:spPr>
          <a:xfrm>
            <a:off x="4724280" y="1447920"/>
            <a:ext cx="3743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 the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men, who aided the ____ _______, demand and rece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rican-Americans migrate to the _______ in search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Eur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ly a whole gene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European c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Europea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World War II Shipyard black worker"/>
          <p:cNvPicPr/>
          <p:nvPr/>
        </p:nvPicPr>
        <p:blipFill>
          <a:blip r:embed="rId1"/>
          <a:stretch/>
        </p:blipFill>
        <p:spPr>
          <a:xfrm>
            <a:off x="4419720" y="152388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z.about.com/d/civilliberty/1/0/w/6/-/-/feminism6.jpg"/>
          <p:cNvPicPr/>
          <p:nvPr/>
        </p:nvPicPr>
        <p:blipFill>
          <a:blip r:embed="rId2"/>
          <a:srcRect l="0" t="0" r="0" b="8185"/>
          <a:stretch/>
        </p:blipFill>
        <p:spPr>
          <a:xfrm>
            <a:off x="6073920" y="3733920"/>
            <a:ext cx="3070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://www.thetroubleshooters.com/ww1/ww1.jpg"/>
          <p:cNvPicPr/>
          <p:nvPr/>
        </p:nvPicPr>
        <p:blipFill>
          <a:blip r:embed="rId1"/>
          <a:stretch/>
        </p:blipFill>
        <p:spPr>
          <a:xfrm>
            <a:off x="220824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rope explodes into wa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istice: an end to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v. 7 1918 Germans enter France to discuss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rmany must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ve occupied terri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military build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t allies occu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mistice starts 11/11/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WI quick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rition warf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s called the war to end all w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ver 19 Million de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ttle of the Somme had 1 million al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://gallery.dspl.ru/fotogallery2005%5CFamine%5CP4120020_b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FTERMA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e Powder K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ectangle 8" descr=""/>
          <p:cNvPicPr/>
          <p:nvPr/>
        </p:nvPicPr>
        <p:blipFill>
          <a:blip r:embed="rId1"/>
          <a:stretch/>
        </p:blipFill>
        <p:spPr>
          <a:xfrm>
            <a:off x="19080" y="927000"/>
            <a:ext cx="2840040" cy="792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10"/>
          <p:cNvSpPr/>
          <p:nvPr/>
        </p:nvSpPr>
        <p:spPr>
          <a:xfrm>
            <a:off x="304920" y="1219320"/>
            <a:ext cx="533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countries control small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Straight Arrow Connector 12"/>
          <p:cNvCxnSpPr/>
          <p:nvPr/>
        </p:nvCxnSpPr>
        <p:spPr>
          <a:xfrm>
            <a:off x="3352320" y="1905120"/>
            <a:ext cx="129636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" name="Rectangle 13" descr=""/>
          <p:cNvPicPr/>
          <p:nvPr/>
        </p:nvPicPr>
        <p:blipFill>
          <a:blip r:embed="rId2"/>
          <a:stretch/>
        </p:blipFill>
        <p:spPr>
          <a:xfrm>
            <a:off x="5145120" y="1176480"/>
            <a:ext cx="2571840" cy="707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4"/>
          <p:cNvSpPr/>
          <p:nvPr/>
        </p:nvSpPr>
        <p:spPr>
          <a:xfrm>
            <a:off x="5181480" y="12952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pl demand rule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Elbow Connector 16"/>
          <p:cNvCxnSpPr/>
          <p:nvPr/>
        </p:nvCxnSpPr>
        <p:spPr>
          <a:xfrm rot="5400000">
            <a:off x="6819120" y="2171520"/>
            <a:ext cx="1372320" cy="534240"/>
          </a:xfrm>
          <a:prstGeom prst="bentConnector3">
            <a:avLst>
              <a:gd name="adj1" fmla="val 89766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3" name="Rectangle 25" descr=""/>
          <p:cNvPicPr/>
          <p:nvPr/>
        </p:nvPicPr>
        <p:blipFill>
          <a:blip r:embed="rId3"/>
          <a:stretch/>
        </p:blipFill>
        <p:spPr>
          <a:xfrm>
            <a:off x="4889520" y="2835360"/>
            <a:ext cx="2571840" cy="792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26"/>
          <p:cNvSpPr/>
          <p:nvPr/>
        </p:nvSpPr>
        <p:spPr>
          <a:xfrm>
            <a:off x="5029200" y="3035160"/>
            <a:ext cx="396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ries seek to protect their interests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Straight Arrow Connector 34"/>
          <p:cNvCxnSpPr/>
          <p:nvPr/>
        </p:nvCxnSpPr>
        <p:spPr>
          <a:xfrm flipH="1" flipV="1">
            <a:off x="3885840" y="3504960"/>
            <a:ext cx="9914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Rectangle 35" descr=""/>
          <p:cNvPicPr/>
          <p:nvPr/>
        </p:nvPicPr>
        <p:blipFill>
          <a:blip r:embed="rId4"/>
          <a:stretch/>
        </p:blipFill>
        <p:spPr>
          <a:xfrm>
            <a:off x="-30240" y="2822400"/>
            <a:ext cx="4761000" cy="865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6"/>
          <p:cNvSpPr/>
          <p:nvPr/>
        </p:nvSpPr>
        <p:spPr>
          <a:xfrm>
            <a:off x="0" y="31240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protection countries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Down Arrow 37"/>
          <p:cNvSpPr/>
          <p:nvPr/>
        </p:nvSpPr>
        <p:spPr>
          <a:xfrm>
            <a:off x="152280" y="4038480"/>
            <a:ext cx="8763120" cy="1676520"/>
          </a:xfrm>
          <a:prstGeom prst="downArrow">
            <a:avLst>
              <a:gd name="adj1" fmla="val 10954"/>
              <a:gd name="adj2" fmla="val 648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ctangle 38" descr=""/>
          <p:cNvPicPr/>
          <p:nvPr/>
        </p:nvPicPr>
        <p:blipFill>
          <a:blip r:embed="rId5"/>
          <a:stretch/>
        </p:blipFill>
        <p:spPr>
          <a:xfrm>
            <a:off x="2054160" y="5084640"/>
            <a:ext cx="53038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wwnorton.com/college/history/ralph/ralimage/map34wwi.jpg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4" descr=""/>
          <p:cNvPicPr/>
          <p:nvPr/>
        </p:nvPicPr>
        <p:blipFill>
          <a:blip r:embed="rId2"/>
          <a:stretch/>
        </p:blipFill>
        <p:spPr>
          <a:xfrm>
            <a:off x="4273560" y="4664160"/>
            <a:ext cx="901800" cy="133488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5" descr=""/>
          <p:cNvPicPr/>
          <p:nvPr/>
        </p:nvPicPr>
        <p:blipFill>
          <a:blip r:embed="rId3"/>
          <a:stretch/>
        </p:blipFill>
        <p:spPr>
          <a:xfrm>
            <a:off x="5035680" y="2859120"/>
            <a:ext cx="901440" cy="1334880"/>
          </a:xfrm>
          <a:prstGeom prst="rect">
            <a:avLst/>
          </a:prstGeom>
          <a:ln w="0">
            <a:noFill/>
          </a:ln>
        </p:spPr>
      </p:pic>
      <p:pic>
        <p:nvPicPr>
          <p:cNvPr id="63" name="Rectangle 7" descr=""/>
          <p:cNvPicPr/>
          <p:nvPr/>
        </p:nvPicPr>
        <p:blipFill>
          <a:blip r:embed="rId4"/>
          <a:stretch/>
        </p:blipFill>
        <p:spPr>
          <a:xfrm>
            <a:off x="3127320" y="2749680"/>
            <a:ext cx="12924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9"/>
          <p:cNvCxnSpPr/>
          <p:nvPr/>
        </p:nvCxnSpPr>
        <p:spPr>
          <a:xfrm>
            <a:off x="4038480" y="3580920"/>
            <a:ext cx="991440" cy="2520"/>
          </a:xfrm>
          <a:prstGeom prst="straightConnector1">
            <a:avLst/>
          </a:prstGeom>
          <a:ln w="38160">
            <a:solidFill>
              <a:srgbClr val="2d2db9"/>
            </a:solidFill>
            <a:miter/>
            <a:tailEnd len="med" type="triangle" w="med"/>
          </a:ln>
        </p:spPr>
      </p:cxnSp>
      <p:pic>
        <p:nvPicPr>
          <p:cNvPr id="65" name="Rectangle 10" descr=""/>
          <p:cNvPicPr/>
          <p:nvPr/>
        </p:nvPicPr>
        <p:blipFill>
          <a:blip r:embed="rId5"/>
          <a:stretch/>
        </p:blipFill>
        <p:spPr>
          <a:xfrm>
            <a:off x="1835280" y="4005360"/>
            <a:ext cx="901440" cy="132876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12"/>
          <p:cNvCxnSpPr/>
          <p:nvPr/>
        </p:nvCxnSpPr>
        <p:spPr>
          <a:xfrm flipH="1">
            <a:off x="2437920" y="3656520"/>
            <a:ext cx="1067760" cy="68652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7" name="Straight Arrow Connector 16"/>
          <p:cNvCxnSpPr/>
          <p:nvPr/>
        </p:nvCxnSpPr>
        <p:spPr>
          <a:xfrm flipH="1">
            <a:off x="2742840" y="3504240"/>
            <a:ext cx="838800" cy="76680"/>
          </a:xfrm>
          <a:prstGeom prst="straightConnector1">
            <a:avLst/>
          </a:prstGeom>
          <a:ln w="25560">
            <a:solidFill>
              <a:srgbClr val="3333cc"/>
            </a:solidFill>
            <a:miter/>
            <a:tailEnd len="med" type="arrow" w="med"/>
          </a:ln>
        </p:spPr>
      </p:cxnSp>
      <p:pic>
        <p:nvPicPr>
          <p:cNvPr id="68" name="Rectangle 17" descr=""/>
          <p:cNvPicPr/>
          <p:nvPr/>
        </p:nvPicPr>
        <p:blipFill>
          <a:blip r:embed="rId6"/>
          <a:stretch/>
        </p:blipFill>
        <p:spPr>
          <a:xfrm>
            <a:off x="1682640" y="1871640"/>
            <a:ext cx="901800" cy="132876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19"/>
          <p:cNvCxnSpPr/>
          <p:nvPr/>
        </p:nvCxnSpPr>
        <p:spPr>
          <a:xfrm>
            <a:off x="2209680" y="2514240"/>
            <a:ext cx="10677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0" name="Rectangle 20" descr=""/>
          <p:cNvPicPr/>
          <p:nvPr/>
        </p:nvPicPr>
        <p:blipFill>
          <a:blip r:embed="rId7"/>
          <a:stretch/>
        </p:blipFill>
        <p:spPr>
          <a:xfrm>
            <a:off x="3657600" y="3578400"/>
            <a:ext cx="12924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22"/>
          <p:cNvCxnSpPr/>
          <p:nvPr/>
        </p:nvCxnSpPr>
        <p:spPr>
          <a:xfrm>
            <a:off x="4418640" y="4495680"/>
            <a:ext cx="153000" cy="534240"/>
          </a:xfrm>
          <a:prstGeom prst="straightConnector1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ournal 11/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e month after the US enters WWI congress passes the Selective Service Act. This act requires all men 21-30 to enlist for the draft. If drafted they MUST fight in the war. Imagine yourself in this position; how do you feel about fighting a war in Europ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http://www.thetroubleshooters.com/ww1/ww1.jpg"/>
          <p:cNvPicPr/>
          <p:nvPr/>
        </p:nvPicPr>
        <p:blipFill>
          <a:blip r:embed="rId1"/>
          <a:stretch/>
        </p:blipFill>
        <p:spPr>
          <a:xfrm>
            <a:off x="2208240" y="0"/>
            <a:ext cx="4683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erica enters the w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lson declares neutr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lson believes in ___________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ancially the US is not so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tish create a blocka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 sells material to the ________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son promised US he’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5" descr="http://www.library.jhu.edu/bin/z/z/box9item88.jpg"/>
          <p:cNvPicPr/>
          <p:nvPr/>
        </p:nvPicPr>
        <p:blipFill>
          <a:blip r:embed="rId1"/>
          <a:stretch/>
        </p:blipFill>
        <p:spPr>
          <a:xfrm>
            <a:off x="4267080" y="1219320"/>
            <a:ext cx="4416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ke One, Germany!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enters war; cause1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restricted submarine war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-boa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s warn US they would sin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 referred to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-boats sink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usitania (19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senger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00 ppl die including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issue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ssex Pledge(1916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continues(1917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http://www.hschamberlain.net/timeline/lusitania.jpg"/>
          <p:cNvPicPr/>
          <p:nvPr/>
        </p:nvPicPr>
        <p:blipFill>
          <a:blip r:embed="rId1"/>
          <a:stretch/>
        </p:blipFill>
        <p:spPr>
          <a:xfrm>
            <a:off x="5181480" y="1366920"/>
            <a:ext cx="34862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ike 2&amp;3, Germany!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enters war; cause2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Zimmermann Note; cause3:more Unrestricted U-boa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many sends a telegram to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xico should form 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US enters the war, Mexico shoul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y hope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xico dec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egram is intercept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son declares war, (April 191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suhistory.com/images/WWI/Zimmerman%20Note.jpg">
            <a:hlinkClick r:id="rId1"/>
          </p:cNvPr>
          <p:cNvPicPr/>
          <p:nvPr/>
        </p:nvPicPr>
        <p:blipFill>
          <a:blip r:embed="rId2"/>
          <a:srcRect l="24000" t="3258" r="0" b="33488"/>
          <a:stretch/>
        </p:blipFill>
        <p:spPr>
          <a:xfrm>
            <a:off x="5141880" y="3276720"/>
            <a:ext cx="4002120" cy="3581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suhistory.com/images/WWI/zimmerman%20note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3880" y="0"/>
            <a:ext cx="634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3:30:58Z</dcterms:created>
  <dc:creator>TPS</dc:creator>
  <dc:description/>
  <dc:language>en-US</dc:language>
  <cp:lastModifiedBy>IT Clone User</cp:lastModifiedBy>
  <dcterms:modified xsi:type="dcterms:W3CDTF">2009-11-30T21:05:46Z</dcterms:modified>
  <cp:revision>178</cp:revision>
  <dc:subject/>
  <dc:title>World War I</dc:title>
</cp:coreProperties>
</file>