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EFEB-32EC-4D25-9C86-54FD4318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38C-5C4B-44AE-8699-15E8E58E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752-7990-4926-83FF-1EAC8E0B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EE79-10FD-42E5-A80C-8ADB2BA0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3BAA7-C6FC-4B69-AE8D-947FB07F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5345-C183-4144-9300-F3C0AC2F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7875-19EB-49BC-99B1-2F3C25D7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6B922-8AEA-4E30-8484-B86CE3B2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ED8B-8AB9-45E4-A03A-256C97A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6AF37-145C-49D8-8402-4615A9AE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C3CE-C18D-4D2B-B066-65A4ECF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D12-C578-4053-AB99-6115CF5C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B909-C5C5-4A4A-A03D-2FB9F89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92B3-4B04-42DD-B1A3-AD27710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111A-53A8-4305-A2F4-00BD167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1606-E8BB-4CC7-9A8B-5044C5E0D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881F-DD0F-4AFD-A1CE-4B5D64CE8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A5A6-938A-4813-A6B3-30B635E8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9B6-E011-49D2-BB45-96FB999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13A-17E4-45F9-A9C1-5B69EA3C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F69-416D-4651-B748-8FBE65EE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3EF-E356-4A75-BD15-C7DCC818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02F9-C9FF-4A0D-918E-B9088D51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5A7-8A8F-42F3-94FC-E4D10D51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F201-2216-4695-8EE6-56D2CA21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3D58-AD34-4D8A-9A15-3FF4E0E1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11/19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99. Read the Infographic about silk. Answer the two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Genghis Kh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144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Name mea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Rules a group of ________ called the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Fierce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Punishes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Rewards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Mongols conquer most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but have a hard time with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tram6.eu/page6/page4/files/page4_1.jpg"/>
          <p:cNvPicPr/>
          <p:nvPr/>
        </p:nvPicPr>
        <p:blipFill>
          <a:blip r:embed="rId1"/>
          <a:stretch/>
        </p:blipFill>
        <p:spPr>
          <a:xfrm>
            <a:off x="4800600" y="2133720"/>
            <a:ext cx="3943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Kublai Kh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144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Conqu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Wants to avoid Mongols being _______________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Only Mong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Only Mongols ho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_______ _________are in charge of small vill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Welcomes outs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Trades w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gebus.com/graphics/marcoplo.JPG"/>
          <p:cNvPicPr/>
          <p:nvPr/>
        </p:nvPicPr>
        <p:blipFill>
          <a:blip r:embed="rId1"/>
          <a:srcRect l="9385" t="7695" r="6160" b="7695"/>
          <a:stretch/>
        </p:blipFill>
        <p:spPr>
          <a:xfrm>
            <a:off x="4952880" y="2362320"/>
            <a:ext cx="398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The Ming Dynasty 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Bad leadership leads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Ming dynasty reestablish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Zheng He, a member of:   builds a fleet of ship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Make contact w/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Display the powe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After Zheng he d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ww.artinliverpool.com/blog/images/jul07/ming_beaker.jpg"/>
          <p:cNvPicPr/>
          <p:nvPr/>
        </p:nvPicPr>
        <p:blipFill>
          <a:blip r:embed="rId1"/>
          <a:stretch/>
        </p:blipFill>
        <p:spPr>
          <a:xfrm>
            <a:off x="5334120" y="40384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bbs.chinadaily.com.cn/attachments/month_0602/Zheng%20He%20fleet_7Acr5ShtKFsm.jpg"/>
          <p:cNvPicPr/>
          <p:nvPr/>
        </p:nvPicPr>
        <p:blipFill>
          <a:blip r:embed="rId2"/>
          <a:stretch/>
        </p:blipFill>
        <p:spPr>
          <a:xfrm>
            <a:off x="4467240" y="914400"/>
            <a:ext cx="4676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cient Chin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 (Chin) Dynas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221 B.C. - 206 B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Shi Haungdi uses legalism which stresses ________ not 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Men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 good ruler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sacu.org/QinShiHuangdi.png"/>
          <p:cNvPicPr/>
          <p:nvPr/>
        </p:nvPicPr>
        <p:blipFill>
          <a:blip r:embed="rId1"/>
          <a:stretch/>
        </p:blipFill>
        <p:spPr>
          <a:xfrm>
            <a:off x="5334120" y="1341360"/>
            <a:ext cx="29145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: Unifying the Empir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5334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Ends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Wants ppl to be loyal to him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Breaks up manors 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Enforces harsh laws and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Lazines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Ends op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tandardizes language an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Builds canals an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news.bbc.co.uk/media/images/40886000/jpg/_40886281_xina1974.jpg"/>
          <p:cNvPicPr/>
          <p:nvPr/>
        </p:nvPicPr>
        <p:blipFill>
          <a:blip r:embed="rId1"/>
          <a:stretch/>
        </p:blipFill>
        <p:spPr>
          <a:xfrm>
            <a:off x="5334120" y="1550880"/>
            <a:ext cx="3220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:Most Famous Defens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572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B/F the end of ______, many feudal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hi Haungdi orders the w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Workers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Many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lthough the wall fail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It became a symbol of the emperor’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fcps.edu/KingsParkES/technology/ancient/images/ancient21.jpg"/>
          <p:cNvPicPr/>
          <p:nvPr/>
        </p:nvPicPr>
        <p:blipFill>
          <a:blip r:embed="rId1"/>
          <a:stretch/>
        </p:blipFill>
        <p:spPr>
          <a:xfrm>
            <a:off x="4794120" y="1752480"/>
            <a:ext cx="4132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Han: China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 Golden Ag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7632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Light"/>
              </a:rPr>
              <a:t>202 B.C.-220 A.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ud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s _______. Laws are based on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score.rims.k12.ca.us/activity/silkroad/silkroad1.gif"/>
          <p:cNvPicPr/>
          <p:nvPr/>
        </p:nvPicPr>
        <p:blipFill>
          <a:blip r:embed="rId1"/>
          <a:stretch/>
        </p:blipFill>
        <p:spPr>
          <a:xfrm>
            <a:off x="4357800" y="1905120"/>
            <a:ext cx="4481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 Dynas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 Dynas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2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lishme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Ba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lishments         Draw Ba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1" name="Straight Connector 5"/>
          <p:cNvSpPr/>
          <p:nvPr/>
        </p:nvSpPr>
        <p:spPr>
          <a:xfrm>
            <a:off x="22860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678168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1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15" descr=""/>
          <p:cNvPicPr/>
          <p:nvPr/>
        </p:nvPicPr>
        <p:blipFill>
          <a:blip r:embed="rId1"/>
          <a:stretch/>
        </p:blipFill>
        <p:spPr>
          <a:xfrm>
            <a:off x="-225360" y="2157480"/>
            <a:ext cx="9759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11/2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 page 378. Read the “Eyewitness Account” and answer the questions on 3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The Mongol Invasion and the Ming Dynasty 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3:06:15Z</dcterms:created>
  <dc:creator>Christine Sturges</dc:creator>
  <dc:description/>
  <dc:language>en-US</dc:language>
  <cp:lastModifiedBy>IT Clone User</cp:lastModifiedBy>
  <dcterms:modified xsi:type="dcterms:W3CDTF">2009-11-20T21:15:43Z</dcterms:modified>
  <cp:revision>197</cp:revision>
  <dc:subject/>
  <dc:title>Ancient China</dc:title>
</cp:coreProperties>
</file>