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068-41C8-4292-AF5B-37663C29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39D9-8A22-4C67-A5E6-7761F654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D24-F726-4923-9239-1ADCD21B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5E2E-838B-4295-ABCD-ADAFE996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A3F3-6644-4C1E-88E4-5282313F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64D-3EFD-4006-B3FC-71C389B0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104B-F4C6-4C0E-AEBF-AD4E2E4E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5B42-E05B-4359-9B54-8AA6C5E7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8756-C5C3-4267-A31B-ADC1C99E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F18A-8793-4993-80ED-D00453CD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26AF-F866-4E35-97D5-AA239DED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CFEC-1012-41C0-91CD-6F007158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B50E-18C3-4A48-A710-45DC4B04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9FBA-08C8-4DEA-8746-A869B1D0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80D5-72BB-4F91-990A-0B52B89B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DCB7-A916-44EE-A072-BE2703D89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59FE-A7AC-4FDF-8124-6E195642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32F-F856-49BA-9B30-0402146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3344-49BE-43B2-8F77-1D9083EF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D376-51CC-4BBC-AD89-E0FAC15F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B14-0B61-4F75-B6C2-0834E15C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E68B-4EBA-45AF-BFC6-147E0B66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D7B4-5811-46BE-BA96-3A3FDA1A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4235-1EDD-42F3-8671-90D8CD58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FC39-8E6E-4C5B-965F-E3A4AEC11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B756-0ED3-466B-9885-122772E94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rnal 11/19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page 99. Read the Infographic about silk. Answer the two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Genghis Kh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9144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Name mea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Rules a group of ________ called the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Fierce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Punishes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Rewards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Mongols conquer most o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but have a hard time with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tram6.eu/page6/page4/files/page4_1.jpg"/>
          <p:cNvPicPr/>
          <p:nvPr/>
        </p:nvPicPr>
        <p:blipFill>
          <a:blip r:embed="rId1"/>
          <a:stretch/>
        </p:blipFill>
        <p:spPr>
          <a:xfrm>
            <a:off x="4800600" y="2133720"/>
            <a:ext cx="394344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Kublai Kha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9144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Conqu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Wants to avoid Mongols being _______________ b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Only Mongols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Only Mongols ho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_______ _________are in charge of small vill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Welcomes outsi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Trades wit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http://www.gebus.com/graphics/marcoplo.JPG"/>
          <p:cNvPicPr/>
          <p:nvPr/>
        </p:nvPicPr>
        <p:blipFill>
          <a:blip r:embed="rId1"/>
          <a:srcRect l="9385" t="7695" r="6160" b="7695"/>
          <a:stretch/>
        </p:blipFill>
        <p:spPr>
          <a:xfrm>
            <a:off x="4952880" y="2362320"/>
            <a:ext cx="39895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The Ming Dynasty 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914400"/>
            <a:ext cx="4724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Bad leadership leads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Ming dynasty reestablish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Zheng He, a member of:   builds a fleet of ship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Make contact w/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ency FB"/>
              </a:rPr>
              <a:t>Display the power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After Zheng he d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http://www.artinliverpool.com/blog/images/jul07/ming_beaker.jpg"/>
          <p:cNvPicPr/>
          <p:nvPr/>
        </p:nvPicPr>
        <p:blipFill>
          <a:blip r:embed="rId1"/>
          <a:stretch/>
        </p:blipFill>
        <p:spPr>
          <a:xfrm>
            <a:off x="5334120" y="4038480"/>
            <a:ext cx="2819160" cy="2819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bbs.chinadaily.com.cn/attachments/month_0602/Zheng%20He%20fleet_7Acr5ShtKFsm.jpg"/>
          <p:cNvPicPr/>
          <p:nvPr/>
        </p:nvPicPr>
        <p:blipFill>
          <a:blip r:embed="rId2"/>
          <a:stretch/>
        </p:blipFill>
        <p:spPr>
          <a:xfrm>
            <a:off x="4467240" y="914400"/>
            <a:ext cx="4676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Ancient China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Qin (Chin) Dynasty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</a:rPr>
              <a:t>221 B.C. - 206 B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</a:rPr>
              <a:t>Shi Haungdi uses legalism which stresses ________ not 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Men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A good ruler mu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http://sacu.org/QinShiHuangdi.png"/>
          <p:cNvPicPr/>
          <p:nvPr/>
        </p:nvPicPr>
        <p:blipFill>
          <a:blip r:embed="rId1"/>
          <a:stretch/>
        </p:blipFill>
        <p:spPr>
          <a:xfrm>
            <a:off x="5334120" y="1341360"/>
            <a:ext cx="29145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Qin: Unifying the Empir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53341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badi MT Condensed Light"/>
              </a:rPr>
              <a:t>Ends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Wants ppl to be loyal to him no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Breaks up manors 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Enforces harsh laws and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Laziness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Ends op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tandardizes language and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Builds canals and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http://news.bbc.co.uk/media/images/40886000/jpg/_40886281_xina1974.jpg"/>
          <p:cNvPicPr/>
          <p:nvPr/>
        </p:nvPicPr>
        <p:blipFill>
          <a:blip r:embed="rId1"/>
          <a:stretch/>
        </p:blipFill>
        <p:spPr>
          <a:xfrm>
            <a:off x="5334120" y="1550880"/>
            <a:ext cx="3220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Qin:Most Famous Defens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5720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B/F the end of ______, many feudal st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Shi Haungdi orders the wa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Workers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adi MT Condensed Light"/>
              </a:rPr>
              <a:t>Many 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Although the wall fail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It became a symbol of the emperor’s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http://www.fcps.edu/KingsParkES/technology/ancient/images/ancient21.jpg"/>
          <p:cNvPicPr/>
          <p:nvPr/>
        </p:nvPicPr>
        <p:blipFill>
          <a:blip r:embed="rId1"/>
          <a:stretch/>
        </p:blipFill>
        <p:spPr>
          <a:xfrm>
            <a:off x="4794120" y="1752480"/>
            <a:ext cx="4132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he Han: China</a:t>
            </a:r>
            <a:r>
              <a:rPr b="0" lang="en-US" sz="4400" spc="-1" strike="noStrike">
                <a:solidFill>
                  <a:srgbClr val="23005f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 Golden Ag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76320" y="1219320"/>
            <a:ext cx="4572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badi MT Condensed Light"/>
              </a:rPr>
              <a:t>202 B.C.-220 A.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ud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sio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xes _______. Laws are based on 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rs 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th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http://score.rims.k12.ca.us/activity/silkroad/silkroad1.gif"/>
          <p:cNvPicPr/>
          <p:nvPr/>
        </p:nvPicPr>
        <p:blipFill>
          <a:blip r:embed="rId1"/>
          <a:stretch/>
        </p:blipFill>
        <p:spPr>
          <a:xfrm>
            <a:off x="4357800" y="1905120"/>
            <a:ext cx="4481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g Dynas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g Dynasty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20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lishment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w Ba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lishments         Draw Bac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101" name="Straight Connector 5"/>
          <p:cNvSpPr/>
          <p:nvPr/>
        </p:nvSpPr>
        <p:spPr>
          <a:xfrm>
            <a:off x="228600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9"/>
          <p:cNvSpPr/>
          <p:nvPr/>
        </p:nvSpPr>
        <p:spPr>
          <a:xfrm>
            <a:off x="6781680" y="609480"/>
            <a:ext cx="0" cy="624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11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Rectangle 15" descr=""/>
          <p:cNvPicPr/>
          <p:nvPr/>
        </p:nvPicPr>
        <p:blipFill>
          <a:blip r:embed="rId1"/>
          <a:stretch/>
        </p:blipFill>
        <p:spPr>
          <a:xfrm>
            <a:off x="-225360" y="2157480"/>
            <a:ext cx="97599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ournal 11/20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o page 378. Read the “Eyewitness Account” and answer the questions on 37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Arial Black"/>
              </a:rPr>
              <a:t>The Mongol Invasion and the Ming Dynasty 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3:06:15Z</dcterms:created>
  <dc:creator>Christine Sturges</dc:creator>
  <dc:description/>
  <dc:language>en-US</dc:language>
  <cp:lastModifiedBy>IT Clone User</cp:lastModifiedBy>
  <dcterms:modified xsi:type="dcterms:W3CDTF">2009-11-20T21:15:43Z</dcterms:modified>
  <cp:revision>197</cp:revision>
  <dc:subject/>
  <dc:title>Ancient China</dc:title>
</cp:coreProperties>
</file>