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32D7-75C2-4D42-A482-B2EF1CEBC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2801-3853-438C-9199-D77525F8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76B51-E8DE-4A2F-B45C-3AA79198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FB43C2-BB1D-477B-B5BF-C215B9D5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58084-2C4D-4E46-A466-FBE69848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42CCED-B9E9-4B4F-94CE-C067401C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5C7D2-EC0A-49F5-92CF-CB3F9226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E4AE35-284A-4874-BF2A-0B740A54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8D04A-7126-4098-B5AA-59691F59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A3B3C-0B42-4DF9-89F8-73142307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170165-BAB7-4335-BFF2-22F23A41E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7EC4DA-1DFB-464A-B095-4E098B8CB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7FF5-508B-4DC6-B690-10F9E2D90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CC13E0-ABF5-4D89-A234-74326569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47DC0-2DE0-4E20-9CD9-1DFB830D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F74843-7BBC-446E-BBAF-74C83940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014D04-84A7-4FB0-8CE7-ED237906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79F55E-AF43-4FD1-B704-A6430019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F8CA7F-B746-4169-9324-AC9E5A11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2CEEDC-855E-4350-A207-D3A79541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B9EDC2-35A3-4C4B-95DB-D8056872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C03A0E-11DA-4C2F-9E1F-02A3A405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32C9E-60CF-4FF5-A5BE-032102341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A613-D73F-4A0D-BC8A-50EF1FAD0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5DC73A-9FF0-4684-B71D-F8A379FA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AD4CF-BFA7-4739-ABAE-0CC88FBD1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FC092-9259-4ECC-81FD-662F3BCC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F9A79-5480-4437-97FA-2421F71E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A8D9C-4B4B-47D1-AD41-0557FEFB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BCD86-9315-4743-8679-82267D4E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DA9EB-4795-4609-A970-BA8BBF4D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DB1D58-0271-4903-8A89-23A1BF3A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92266A-84B2-488C-BF8A-E0BADEE2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290EE-1446-4795-A417-F83E75C3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807A-DEDF-425B-B074-4094CFCEE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54536-C2C8-4500-B225-EEFA4CC0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7B6D4-D781-4BA8-ACEF-3BA746BCF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9A9E04-D88F-4FCA-B56D-7E321FDB5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BE664A-0B49-46FD-9967-2B14D2AE2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41F932-4190-49BC-A184-7E226959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95C557-AF16-4987-9F38-833BE7F5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ED41FE-FE07-43C9-AB17-B3985767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9DC61F-28F3-4BAE-8B95-7E9E1900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316A57-D619-4F28-81C3-F96D20E7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CCDF99-4238-4CC2-BBAC-4090525D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EF94-4740-4B0E-BC1B-555838633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23F44F-B08A-471D-9AE7-49527F30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243C05-63EF-4966-8961-F9C2EE6C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52F1D0-30F8-4262-938E-59CD168D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10F0FC-37E8-44C5-93A5-62B95018A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24E12A-4621-4735-9685-60A475A02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C198-42FD-4ECE-818E-3279F169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D03B-8A06-4510-BB71-5A496F9B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144F-31F4-4807-82BE-DF15CDF5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78F9-4134-4D08-B89C-42D5AA07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BEAD-0D39-4CFE-A597-AABCFAF9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CEC4-02B7-434E-B6B6-77D1C2EE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41A7-F71A-4E15-8B08-B40DAEE0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920C-832C-46D9-9C3E-08FE7D30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288C-6F20-42DF-BB2E-2B6460B5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AFF1-FF27-4C89-B96B-32CEF79B4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4451-A5B3-4335-8A22-43E3DB239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074F4-62DF-402D-A318-A1596607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48AEF-8FC4-419C-B007-6DC3E104D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E8854-E919-41A2-BB78-319AAF3A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6C446-4C27-401D-B879-9027EF34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E3F75-49E9-4033-B2A0-9BE8F82F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B179-9D72-4F4F-A3A4-D5AA648A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2E13C-F6A8-40AA-80F2-B91673D0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D8EEE-2ADD-4442-8CC8-6F585C75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EDA97-E437-4959-9AA3-4AD62657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8D125-5765-41A2-BC3B-96CE3549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55B45-9880-405C-A7D9-DD7E3873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9246A-A03B-444D-A306-34AC2170A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E4335-66DD-4E4E-85B5-A8B459D2D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8ACB7-C9E1-4B41-B6CB-E97F83D04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DB7FC-B778-4661-9A4E-FC54B7E2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BC368-37BC-4CF4-A035-F659922F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6FDD-2568-4847-B3D1-DABA01A2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C14C8-25D8-4C4A-B94E-0B95011E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961EE-DF85-4152-BD8A-1E32BDE5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00E69-5E25-40FE-9F88-BBF1CE3F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30A62-981C-4DAE-8222-845C1F8F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75D7F-D83B-4366-93C9-3FC2F860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C406E-7F35-48EE-AA59-BADF0AC9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CE2D0-B3A3-47CE-BD35-89A65E3B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233FA-EDC7-4884-A99F-17B331440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D8DD0-15AF-453A-B381-8A093F643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C1CF9-54DE-421B-B417-0592DA258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BBD5-81A7-4A76-8EFB-A54A89D7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7D411-743F-4000-88D3-00B9D835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16A77-632B-4C87-8577-F50E6313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B782D-CF77-460E-9703-DC321039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17447-0F05-4F7E-9008-A1B42374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92FA7-3171-4348-AFB7-70412147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FDE30-EE26-490A-8125-328595AB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5F3E5-0F4C-430E-A24D-D84B3B15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00397-1B42-4C5D-90AF-261DE08C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6776F-2552-478A-8856-437088EF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F7F05-8175-4C09-8E93-579527696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BB8F-0CF5-48B5-984B-B3FC19D1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5C176-E81C-4C55-ADB0-0E0B34FCD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31DCF-A302-4020-9D33-E821DB11E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9A597-27C0-4419-8FC5-A75223DC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9F058-0369-4F68-96D9-04612B2D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9EC9B-337D-48FC-876A-856AF286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493CD-9273-4A41-B4EA-7EDDFFF8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4AB4D-FDFE-4B33-BDAB-CDC5E79D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6AD93-C864-47F9-A629-4AEAA525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6AEF6-24E9-4784-966B-B108A86F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340EC-4ABD-415E-8DD3-650C79EE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8264-4C46-4B19-9193-085B0361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2B8F0-ED24-4839-A6AA-5F700836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8985F-6D03-40AD-BD4B-84D0E708F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E13BE-1817-4A95-832B-64D54A369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A96ED-352C-49FE-958E-02DADA6CE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2ACD8-5773-416B-BB66-2481F75DA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8BDC5-DA76-4D95-98E2-D7D539C8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502AA-9466-4245-8C0B-BAB44C52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C5BE3-3416-49FC-A178-96002C45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783C4-8337-4A74-837E-098BFFFB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B430A-340E-4A00-A777-9266F715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C27B-F207-4391-8476-4E470661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119E8-D44E-4AB4-8BFB-960D7B09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B3D01-829D-4872-B6A5-0AA8727E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3B17A-DA56-4D26-AB06-F0FCD669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3EE22-E7D9-47D4-8A08-377DF9785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7335D-A518-4635-B708-4E6276DF1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C3F29-42F4-4EC7-A688-5646BA98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CCCE7-7973-40BF-8DE0-4F8D79F1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D857A-C6D7-4AB3-92FA-3962F857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DFE18-870B-430B-9738-B2138037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E4B47-6EC6-451D-BCAB-47E68584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04A5-0547-42E5-83ED-F64D68A6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1C70A-C1C4-4027-B97A-95E29666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747A2-0E43-4CD1-8843-5DCFE85C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1A782-6103-4491-A1A1-8EB93775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77201-E743-4AED-8068-303DE2BC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E2428-7EAF-42CB-B95C-E6A5FDED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9946D9-7ECA-48C4-839F-13D0158C6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17DB8-FFF6-4466-9BB3-5446F4BA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C0227-6B81-4207-B412-00D8E2B40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AEBAC-6F6B-404F-905C-895B45EF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B2BBC-1775-4E56-9F3D-0478D388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97D7-2A87-4169-B36A-CE9AF96C83ED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CC13-1064-468D-A321-DB2F84D52A75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52FD-1CB4-4223-AA13-2FBA0C19EEED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240D-1057-4CEE-8D18-27E0CB0B2C4D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8ADF-B190-4E79-958B-36BE58132C9D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73C5-EBDE-446A-B8E7-2EFA2838A33C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43E6-D7EF-458E-BF94-D2DF3044E7F5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734F-6FA6-470A-ACB7-0691A8B8CA66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25FB-0784-44B4-B47B-0D1244E04C09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067D-1879-4FC1-97F5-C277292C64BA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C690-3417-41D1-9A4C-65F4CC5A0CE2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B22F-8614-41D5-9BA9-6D86F2A8E3DA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Journal 9/24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urn to page 227. Read about monasteries. Describe the life of a Benedictine Monk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ahoma"/>
              </a:rPr>
              <a:t>The Crusades</a:t>
            </a:r>
            <a:endParaRPr b="0" i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4479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6" name="Picture 5" descr="http://staff.harrisonburg.k12.va.us/~cwalton/walton/SOLPics/crusades.jpg"/>
          <p:cNvPicPr/>
          <p:nvPr/>
        </p:nvPicPr>
        <p:blipFill>
          <a:blip r:embed="rId1"/>
          <a:stretch/>
        </p:blipFill>
        <p:spPr>
          <a:xfrm>
            <a:off x="1819440" y="1295280"/>
            <a:ext cx="503712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The Holy Land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Jerusale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Jews, Christians,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uslims all hav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aim to this la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9" name="Picture 1029" descr="http://archives.cnn.com/2001/WORLD/meast/02/20/rich.foundation/link.jerusalem.jpg"/>
          <p:cNvPicPr/>
          <p:nvPr/>
        </p:nvPicPr>
        <p:blipFill>
          <a:blip r:embed="rId1"/>
          <a:srcRect l="4801" t="4761" r="0" b="0"/>
          <a:stretch/>
        </p:blipFill>
        <p:spPr>
          <a:xfrm>
            <a:off x="6465960" y="1066680"/>
            <a:ext cx="267804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9" descr="http://newsimg.bbc.co.uk/media/images/41189000/jpg/_41189726_wall_ap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52280" y="1142640"/>
            <a:ext cx="9144000" cy="5638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nd promised to them by Go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braham, father of Jewish religion, speaks to God in Jerusale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ad been the capital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f the Jewish natio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ince before the birth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f Christ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ahoma"/>
              </a:rPr>
              <a:t>Jews</a:t>
            </a:r>
            <a:endParaRPr b="0" i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5" descr="http://www.hopeways.org/images/jerussun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0" y="914400"/>
            <a:ext cx="91440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ny sacred prophets, (including Abraham, Solomon and Jesus) lived and taught in Jerusale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in prophet, Muhammad, was said to have ascended into Heaven from The Dome of the Rock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Muslim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3" descr="http://www.dkimages.com/discover/previews/945/5015288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Jesus was said to have lived and taught in Jerusalem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Jesus, according to the Bible,  ascended to Heaven from Jerusale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hristian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http://rome.mrdonn.org/maprome.gif"/>
          <p:cNvPicPr/>
          <p:nvPr/>
        </p:nvPicPr>
        <p:blipFill>
          <a:blip r:embed="rId1"/>
          <a:srcRect l="3122" t="7408" r="3226" b="4275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510" name="Rectangle 6" descr=""/>
          <p:cNvPicPr/>
          <p:nvPr/>
        </p:nvPicPr>
        <p:blipFill>
          <a:blip r:embed="rId2"/>
          <a:stretch/>
        </p:blipFill>
        <p:spPr>
          <a:xfrm>
            <a:off x="2664000" y="4041720"/>
            <a:ext cx="1384200" cy="542880"/>
          </a:xfrm>
          <a:prstGeom prst="rect">
            <a:avLst/>
          </a:prstGeom>
          <a:ln w="0">
            <a:noFill/>
          </a:ln>
        </p:spPr>
      </p:pic>
      <p:sp>
        <p:nvSpPr>
          <p:cNvPr id="511" name="5-Point Star 7"/>
          <p:cNvSpPr/>
          <p:nvPr/>
        </p:nvSpPr>
        <p:spPr>
          <a:xfrm>
            <a:off x="3733920" y="4114800"/>
            <a:ext cx="228600" cy="228600"/>
          </a:xfrm>
          <a:custGeom>
            <a:avLst/>
            <a:gdLst>
              <a:gd name="textAreaLeft" fmla="*/ 70560 w 228600"/>
              <a:gd name="textAreaRight" fmla="*/ 158040 w 22860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Box 11"/>
          <p:cNvSpPr/>
          <p:nvPr/>
        </p:nvSpPr>
        <p:spPr>
          <a:xfrm>
            <a:off x="228600" y="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ahoma"/>
              </a:rPr>
              <a:t>Divided Rom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First Crusade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-360" y="2514600"/>
            <a:ext cx="9372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hristians take control of Jerusalem in 1099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0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rusader states lead to more fight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0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erusalem falls to Muslims and Saladin in 1187 in the second Crusad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5" name="Picture 5" descr="http://www.medievaltymes.com/courtyard/images/crusades/first_crusade_route_map.jpg"/>
          <p:cNvPicPr/>
          <p:nvPr/>
        </p:nvPicPr>
        <p:blipFill>
          <a:blip r:embed="rId1"/>
          <a:stretch/>
        </p:blipFill>
        <p:spPr>
          <a:xfrm>
            <a:off x="0" y="251460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Third and fourth crusade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380880" y="1523880"/>
            <a:ext cx="8534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228600" y="1371600"/>
            <a:ext cx="89154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rusalem is reopened to Christia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ristians are defeated in other Muslim lan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fourth crusade Christians fight each other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21:00:40Z</dcterms:created>
  <dc:creator>Christine Sturges</dc:creator>
  <dc:description/>
  <dc:language>en-US</dc:language>
  <cp:lastModifiedBy>IT Clone User</cp:lastModifiedBy>
  <dcterms:modified xsi:type="dcterms:W3CDTF">2010-09-24T11:59:43Z</dcterms:modified>
  <cp:revision>47</cp:revision>
  <dc:subject/>
  <dc:title>The Crusades</dc:title>
</cp:coreProperties>
</file>