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C2E2-A113-4A58-A602-67B4AE99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C77-A8A1-4E61-AE3C-8B5030E3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4FF0D-FE9B-45AF-AB4A-F1797351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8ADCF-2B9A-41BE-BD22-6EC1E209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8BC4E-C797-488F-8149-462458D0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F80E6-7923-4A78-8791-FCDC3249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D5450-90EF-42CF-9847-1CBCC9B2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38FD0-7BB8-4CAC-B5E7-620127D7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59A51-D168-47B7-AFE4-460B78C1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97ADD-2960-47B2-ABDD-9768AD94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5A685-DF0B-458E-A4CB-FFD2A164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4BC98-C37E-4A94-B698-4A17F851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8BF1-B7BB-4F1A-8720-6ECE1E80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B8AF5-BC76-4CD4-BF6C-7075887C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B7FA4-3766-4951-821C-2FE06AA5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D0715-C3EE-43BA-AECC-D62692DE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BFE0B-5BC3-4527-A9E1-7E0CA54A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3EADE-4C57-407E-B252-88736FDB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D22D0-EAE1-461F-904F-51B65A49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A3D96-01A4-4450-AC35-D0ABAEE5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59B6A-1D43-4F0A-9668-7741E85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358EB-3775-44BD-BEC5-A014C44B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10757-A0BB-4A9D-BF35-C7E76F34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9A66-2017-4B70-A949-F83FC7C1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21F627-15DB-4844-A228-67CE6E69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0DA42-F1F5-4E41-A927-AB681EF4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6445C-A762-44CB-A0E0-E66EB6CE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4516A-1D4E-4C10-BA2C-7065553B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2BAA0-6D0F-433E-8EC4-E2C5FC6B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800B4-CF2F-4810-B0C6-67EA119B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CE78D-0B1C-450F-8EA7-A64641F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AAB09-056A-45A1-8E81-D7DEF686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AE84E-2DCE-4981-96EC-F4F47B44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F6299-2465-4DC5-86B1-4B861FB4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135F-9D6F-40F1-98B9-6408355F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FCB39-AED1-482A-B14D-1541A388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ED2EC-7C9D-4819-9E07-02E74B95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80EFC-5552-491C-B9EB-2FCC8019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C287B-F62A-4E86-9082-0E0CB6E3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72A86-1E4F-46ED-9C2B-BE9A0AC3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4EBD0-A8D1-4F36-AE18-D40F00A9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F6258-B5CC-4365-9C75-FAA49A7F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B34CF-1E5C-48CE-B9C1-5D726EB73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E248A-2B61-4018-BFB3-192A33D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058A8E-59FD-4892-A6F4-C59D2422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A1817-AE3A-40CD-8387-88B73B47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95CA43-FD35-4BCA-BC22-9233DDAA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9E9D4A-6B00-4D72-98AE-FC726FDB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61DFB-056E-4E52-9897-87DDBD89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BBD14-6693-4D79-B6BE-7AAB6707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CAFDC-798D-43C9-AA6C-FB3699C8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1AEA-867E-47A1-AA5B-757AF3A5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E12A-947C-448D-AA12-BD252C32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C640-8C6C-41B7-9D1D-555AC34D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41B6-8E26-426D-8E5D-D5AAFF3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A51-33A7-4833-9228-9EA07C3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A3D-DF81-4994-B26B-444F938D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707-FEB5-41FC-BB0B-EB5ABA2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7E831-C2C3-454D-9D2E-F49D8BB5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3429-BEBF-4AFE-8D3A-1C0FEAFE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0F2F-9A34-46C9-BA69-EC2542DEB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68B-FD43-49CD-84A5-F523E7E81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966F-D87E-4696-96F7-7205363C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E1B0-AE47-46FF-9B2A-F56325CA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7A018-9EF9-4601-82B6-C4C4C289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771EB-5F10-4323-9007-D42026AC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E630-465A-4917-BA38-DF7B4135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7DB-A845-4AED-BE96-671AB013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85A7-BF2C-4A59-8137-D302A8A3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0EBF4-8655-440C-91AE-F9AFE5F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5EB1-B63D-46E2-91C1-50CCC54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E67EA-051D-435B-97F7-ABC4490C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47BC1-A235-4635-A8A1-D7DD8664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DA5B-403E-4648-AAC7-C8CCC20F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3B356-4770-43A7-8D84-3544788D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4B60-D197-4D85-A194-956FA0CA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3AE15-0FD4-4CA0-9B3E-EB78A48B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00F36-3ABF-4CD4-9AE3-6C53F42F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9F5-A9DE-4F11-96E5-2B149293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E309D-AEAE-4D3F-9D15-27C8575A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F858-930F-494F-ACEC-F1A969DB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939D-25C8-4BC9-8D75-1AA7465C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6553-C3A3-4A9B-B701-90051B2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C1D01-FE73-46BE-A3A8-E8ECFA5E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012B9-9A53-47D3-A225-27F4A804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88757-242B-467A-8C2E-17E5B3B43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2672-F239-4A6F-A1CB-F3B2D3A6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7158-33F8-4BF5-8D3B-79C8CA61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0638F-799D-479C-85CC-3C673B5A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1A5-1F77-45BA-ACE4-ABFBC502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478CC-D151-4180-B79B-00708E45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F4329-E12F-4F35-ACA0-4F681B8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544D-F60F-47F6-B01F-F604EFD6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C0735-F1E3-40BF-BD56-D09E7BF3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C89B-E44A-4C7D-931D-07AB7377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9B4F9-9B50-451D-A7B5-9C00146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FFD0B-FAAE-4AAC-A97E-0B1AC3C7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62A91-D0A6-4EB9-B322-571A3D0F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C9616-7F89-41A5-A58A-C7061ED1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646E0-9080-4558-A655-4A882CBF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C06-DE1C-4FD0-A821-94893701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A4E1A-4978-4F8B-A3A5-3B8334D6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5FA83-64A6-466A-8CA8-FD778C4E6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EAF8F-C246-4B99-8A06-F8122AF8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AA98-73AD-4FAA-B657-FEF1334E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67CF8-4297-4588-8412-172CB580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D90CF-DB6A-4B98-9F28-2124E09F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0279-F983-45C3-9193-968E7135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91D49-84DC-4430-B87E-BA01F160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0871-A452-41E5-BF40-B7992FD9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B4455-A659-4F33-98E1-E6354106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5E65-EEAC-44C3-BB14-ED71149D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9BCC3-1FA1-467C-B63F-B9A0E32B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7CD55-CBD2-4367-B1AC-4CCE3DD4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C9033-4024-44DE-96CE-239D0ECB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6BB8C-9C2A-477A-B54A-CD97FE30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C9CBA-C621-4207-BDFC-05D1AC48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A6654-E083-459E-85E3-ECE9D607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90312-4792-4F98-8CCF-A494F995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C0232-D886-4D9C-9DAD-373FE6EA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C1CAD-E16A-4D51-BE17-3EFF209A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15723-CD8D-4BC9-B56B-4A3E1B09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A49-CEC2-435C-9FAD-FD771B46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96BA8-BDD4-46E2-A0CC-7749880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099E8-9043-4390-908D-8C68317F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D8EBC-FFA6-462E-BB10-DD1E3844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D1094-8F47-4D40-9D72-329272F8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C4CDB-2E39-49D7-B438-B9200935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3BCB5-8852-45B8-95C4-ADFBB2D9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722C0-A5A4-43F1-BC39-7D5B4144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C8B62-1FBD-478E-9EDF-187EFA7B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2FD1B-77DC-4977-BD56-1617B024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E2246-796C-4AD2-821C-08B4E186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136-3C32-4967-91CD-D988989F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4A98-9515-4AA7-9EF8-693C03A8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E3804-04F4-4555-94B9-201CC9A6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EB730-532E-4F47-BF65-B5FDA1F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6B425-C690-4648-AD37-5A0321B2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F9F52-9C69-47DB-9C08-653DE049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C3775-9037-4894-8772-1AA6FFF9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B015B-52A6-47ED-823C-B58B4B9F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88757-55FB-4A53-B6F0-752FC8DF6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EA3AC-685A-47CB-AFDB-CEC0ACE1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2336-0151-4CE9-95A8-75A07047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2322-5FF0-4360-A135-14CC9FCF673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6EED-13FC-4B1E-A8ED-FAE4FCCFB4A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EBEB-B78B-44D0-A215-A85357B58BE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C6C2-B3F9-4CF4-8650-5B0995D6F15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A041-A18D-44EB-AFA1-BB36371D8C7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4EBD-5364-4688-B233-4B6DE32EACA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6A1A-CD25-4129-AD92-9A2483B3757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0883-2F7A-4C7D-B909-35B18295623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18D-A7AF-4122-877B-C86188A9EDC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79A8-1C2C-445C-A239-3F70E590ECE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A889-2DE4-46AE-8571-4452F86C770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D19C-6073-4497-8E5B-BEF3B5AFFDC1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Journal 9/24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227. Read about monasteries. Describe the life of a Benedictine Monk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The Crusades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Picture 5" descr="http://staff.harrisonburg.k12.va.us/~cwalton/walton/SOLPics/crusades.jpg"/>
          <p:cNvPicPr/>
          <p:nvPr/>
        </p:nvPicPr>
        <p:blipFill>
          <a:blip r:embed="rId1"/>
          <a:stretch/>
        </p:blipFill>
        <p:spPr>
          <a:xfrm>
            <a:off x="1819440" y="1295280"/>
            <a:ext cx="50371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e Holy Land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erusa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ews, Christians,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uslims all hav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aim to this la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9" name="Picture 1029" descr="http://archives.cnn.com/2001/WORLD/meast/02/20/rich.foundation/link.jerusalem.jpg"/>
          <p:cNvPicPr/>
          <p:nvPr/>
        </p:nvPicPr>
        <p:blipFill>
          <a:blip r:embed="rId1"/>
          <a:srcRect l="4801" t="4761" r="0" b="0"/>
          <a:stretch/>
        </p:blipFill>
        <p:spPr>
          <a:xfrm>
            <a:off x="6465960" y="1066680"/>
            <a:ext cx="26780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9" descr="http://newsimg.bbc.co.uk/media/images/41189000/jpg/_41189726_wall_a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52280" y="1142640"/>
            <a:ext cx="9144000" cy="56386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d promised to them by Go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braham, father of Jewish religion, speaks to God in Jerusal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ad been the capital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f the Jewish natio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nce before the birth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f Christ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Tahoma"/>
              </a:rPr>
              <a:t>Jews</a:t>
            </a:r>
            <a:endParaRPr b="0" i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5" descr="http://www.hopeways.org/images/jerussun.jpg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ny sacred prophets, (including Abraham, Solomon and Jesus) lived and taught in Jerusal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in prophet, Muhammad, was said to have ascended into Heaven from The Dome of the Rock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uslim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3" descr="http://www.dkimages.com/discover/previews/945/50152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sus was said to have lived and taught in Jerusal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Jesus, according to the Bible,  ascended to Heaven from Jerusal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Christian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http://rome.mrdonn.org/maprome.gif"/>
          <p:cNvPicPr/>
          <p:nvPr/>
        </p:nvPicPr>
        <p:blipFill>
          <a:blip r:embed="rId1"/>
          <a:srcRect l="3122" t="7408" r="3226" b="427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510" name="Rectangle 6" descr=""/>
          <p:cNvPicPr/>
          <p:nvPr/>
        </p:nvPicPr>
        <p:blipFill>
          <a:blip r:embed="rId2"/>
          <a:stretch/>
        </p:blipFill>
        <p:spPr>
          <a:xfrm>
            <a:off x="2664000" y="4041720"/>
            <a:ext cx="1384200" cy="542880"/>
          </a:xfrm>
          <a:prstGeom prst="rect">
            <a:avLst/>
          </a:prstGeom>
          <a:ln w="0">
            <a:noFill/>
          </a:ln>
        </p:spPr>
      </p:pic>
      <p:sp>
        <p:nvSpPr>
          <p:cNvPr id="511" name="5-Point Star 7"/>
          <p:cNvSpPr/>
          <p:nvPr/>
        </p:nvSpPr>
        <p:spPr>
          <a:xfrm>
            <a:off x="3733920" y="4114800"/>
            <a:ext cx="228600" cy="228600"/>
          </a:xfrm>
          <a:custGeom>
            <a:avLst/>
            <a:gdLst>
              <a:gd name="textAreaLeft" fmla="*/ 70560 w 228600"/>
              <a:gd name="textAreaRight" fmla="*/ 158040 w 22860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228600" h="228600">
                <a:moveTo>
                  <a:pt x="0" y="87317"/>
                </a:moveTo>
                <a:lnTo>
                  <a:pt x="87318" y="87318"/>
                </a:lnTo>
                <a:lnTo>
                  <a:pt x="114300" y="0"/>
                </a:lnTo>
                <a:lnTo>
                  <a:pt x="141282" y="87318"/>
                </a:lnTo>
                <a:lnTo>
                  <a:pt x="228600" y="87317"/>
                </a:lnTo>
                <a:lnTo>
                  <a:pt x="157958" y="141282"/>
                </a:lnTo>
                <a:lnTo>
                  <a:pt x="184941" y="228599"/>
                </a:lnTo>
                <a:lnTo>
                  <a:pt x="114300" y="174634"/>
                </a:lnTo>
                <a:lnTo>
                  <a:pt x="43659" y="228599"/>
                </a:lnTo>
                <a:lnTo>
                  <a:pt x="70642" y="14128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228600" y="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Divided Rom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rst Crusade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9372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ristians take control of Jerusalem in 109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usader states lead to more figh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0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erusalem falls to Muslims and Saladin in 1187 in the second Crusa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5" name="Picture 5" descr="http://www.medievaltymes.com/courtyard/images/crusades/first_crusade_route_map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hird and fourth crusad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380880" y="1523880"/>
            <a:ext cx="853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228600" y="1371600"/>
            <a:ext cx="891540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rusalem is reopened to Christia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s are defeated in other Muslim la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fourth crusade Christians fight each othe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21:00:40Z</dcterms:created>
  <dc:creator>Christine Sturges</dc:creator>
  <dc:description/>
  <dc:language>en-US</dc:language>
  <cp:lastModifiedBy>IT Clone User</cp:lastModifiedBy>
  <dcterms:modified xsi:type="dcterms:W3CDTF">2010-09-24T11:59:43Z</dcterms:modified>
  <cp:revision>47</cp:revision>
  <dc:subject/>
  <dc:title>The Crusades</dc:title>
</cp:coreProperties>
</file>