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1DE-FC7E-456D-A2E7-CB133FF6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99EF-12B1-4F71-BBF1-E84C0763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F3DA-7371-4E9A-9456-55272BB2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AFE-E3EA-433C-9640-85FB20F2F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AF3-BF02-4178-8347-C8BF8A5F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763-DA10-4777-8738-6149451CF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22FD-1CC0-421E-82EF-A6695ABC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9490-6FBF-491E-803F-F358A2ED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A1B-334B-4844-9C34-AB30F802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321-D201-4ACF-9E74-61AC1C41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BEF-3ED0-4150-9B9E-53C3001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924-A2B6-415A-952E-F9A88996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0213-A504-426F-81E4-12E786C5B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page 90 rea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Inside Stor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; turn to 92 and read the section titled “The war continues”. What role did Washington play in the French and Indian War? What do we learn about Washington’s early care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/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aste of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nce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 control a large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 with Native Americ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to clash with the _________over fur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american.edu/TED/ice/images4/kckfrench-era-1634-1763.png"/>
          <p:cNvPicPr/>
          <p:nvPr/>
        </p:nvPicPr>
        <p:blipFill>
          <a:blip r:embed="rId1"/>
          <a:stretch/>
        </p:blipFill>
        <p:spPr>
          <a:xfrm>
            <a:off x="4330800" y="2743200"/>
            <a:ext cx="481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irregularminiatures.co.uk/images/42mmAWISYW.jpg"/>
          <p:cNvPicPr/>
          <p:nvPr/>
        </p:nvPicPr>
        <p:blipFill>
          <a:blip r:embed="rId1"/>
          <a:stretch/>
        </p:blipFill>
        <p:spPr>
          <a:xfrm>
            <a:off x="3429000" y="3247920"/>
            <a:ext cx="5715000" cy="361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St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ed the ____ Years War in Europe (1754-176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______&amp; their NA allies and _________ &amp; their NA a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land’s Al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roquois Lea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b/f the English colo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alliance w/ the Brits b/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d by English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http://i157.photobucket.com/albums/t45/maggie6138/maggie2/iroquoisl-map.gif"/>
          <p:cNvPicPr/>
          <p:nvPr/>
        </p:nvPicPr>
        <p:blipFill>
          <a:blip r:embed="rId1"/>
          <a:stretch/>
        </p:blipFill>
        <p:spPr>
          <a:xfrm>
            <a:off x="4106880" y="1981080"/>
            <a:ext cx="5037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eaty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s the war (176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nch sur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up all land east of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gives up Florida and gains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4330800" y="2743200"/>
            <a:ext cx="481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s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762120"/>
          <a:ext cx="9144000" cy="11125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st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ve Americ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y of Paris gives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 more 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oquois didn’t feel friendly with Brits any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t control of the Great La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oclamation of 17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n’t together- we’re forced to fight toge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 forced to pay taxes for the expense of the w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lamation of 176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confidenc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/c they worked together well and could fight w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profited from the w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tiac’s Rebellion- decides that they don’t like the Brits so they f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ve American are pushed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ed peace treaty w/ Brits-stay out of each others wa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lamation of 1763 gave them land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upload.wikimedia.org/wikipedia/commons/thumb/8/86/Map_of_territorial_growth_1775.jpg/300px-Map_of_territorial_growth_1775.jpg"/>
          <p:cNvPicPr/>
          <p:nvPr/>
        </p:nvPicPr>
        <p:blipFill>
          <a:blip r:embed="rId1"/>
          <a:srcRect l="13333" t="4131" r="6671" b="1111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257800" y="21420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________could not settle ______ of the Appalachian M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was an attempt to ______________ relations with the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43:05Z</dcterms:created>
  <dc:creator>Christine Sturges</dc:creator>
  <dc:description/>
  <dc:language>en-US</dc:language>
  <cp:lastModifiedBy>IT Clone User</cp:lastModifiedBy>
  <dcterms:modified xsi:type="dcterms:W3CDTF">2010-01-25T15:20:51Z</dcterms:modified>
  <cp:revision>22</cp:revision>
  <dc:subject/>
  <dc:title>Journal 9/19</dc:title>
</cp:coreProperties>
</file>