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2181-9734-4699-80E1-EDD13978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38B-F3EF-4142-B71C-1E4994E6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64D-E001-4274-BEB6-1B8B1A29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795-EC35-4168-9371-C1224E34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2C5-B7C1-42F2-9CC8-B8CF4C95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3CA-5D25-47BA-9DDB-7D89BAEC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783-318F-4265-994A-9F0A6E75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C729-E5CF-412C-AB32-4788DBF7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5B2-4967-402B-83D0-98B08C3C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CC11-E774-4916-9D93-9ECC484A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7DE-D472-4202-9A4B-C6110497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1E32-ADDF-46AB-9D54-E9A43D39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5AC1-7DA6-4BDC-A9AD-CD6BD518E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page 90 read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Inside Stor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; turn to 92 and read the section titled “The war continues”. What role did Washington play in the French and Indian War? What do we learn about Washington’s early care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ournal 1/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taste of vi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ance 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 control a large 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 with Native Americ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mar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to clash with the _________over fur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ww.american.edu/TED/ice/images4/kckfrench-era-1634-1763.png"/>
          <p:cNvPicPr/>
          <p:nvPr/>
        </p:nvPicPr>
        <p:blipFill>
          <a:blip r:embed="rId1"/>
          <a:stretch/>
        </p:blipFill>
        <p:spPr>
          <a:xfrm>
            <a:off x="4330800" y="2743200"/>
            <a:ext cx="481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http://www.irregularminiatures.co.uk/images/42mmAWISYW.jpg"/>
          <p:cNvPicPr/>
          <p:nvPr/>
        </p:nvPicPr>
        <p:blipFill>
          <a:blip r:embed="rId1"/>
          <a:stretch/>
        </p:blipFill>
        <p:spPr>
          <a:xfrm>
            <a:off x="3429000" y="3247920"/>
            <a:ext cx="5715000" cy="361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 St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led the ____ Years War in Europe (1754-176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______&amp; their NA allies and _________ &amp; their NA al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gland’s All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956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roquois Lea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________b/f the English colon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 alliance w/ the Brits b/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ed by English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http://i157.photobucket.com/albums/t45/maggie6138/maggie2/iroquoisl-map.gif"/>
          <p:cNvPicPr/>
          <p:nvPr/>
        </p:nvPicPr>
        <p:blipFill>
          <a:blip r:embed="rId1"/>
          <a:stretch/>
        </p:blipFill>
        <p:spPr>
          <a:xfrm>
            <a:off x="4106880" y="1981080"/>
            <a:ext cx="5037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Treaty of P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4495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ds the war (176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ench sur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up all land east of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in gives up Florida and gains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american.edu/TED/ice/images4/kckbritish-era-1763-75.png"/>
          <p:cNvPicPr/>
          <p:nvPr/>
        </p:nvPicPr>
        <p:blipFill>
          <a:blip r:embed="rId1"/>
          <a:stretch/>
        </p:blipFill>
        <p:spPr>
          <a:xfrm>
            <a:off x="4330800" y="2743200"/>
            <a:ext cx="4813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s of the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762120"/>
          <a:ext cx="9144000" cy="11125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itis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nist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ve Americ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y of Paris gives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 more 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roquois didn’t feel friendly with Brits any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t control of the Great Lak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roclamation of 17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n’t together- we’re forced to fight toge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re forced to pay taxes for the expense of the w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lamation of 176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confidenc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/c they worked together well and could fight w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 profited from the w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tiac’s Rebellion- decides that they don’t like the Brits so they f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ive American are pushed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gned peace treaty w/ Brits-stay out of each others way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lamation of 1763 gave them land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ffff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upload.wikimedia.org/wikipedia/commons/thumb/8/86/Map_of_territorial_growth_1775.jpg/300px-Map_of_territorial_growth_1775.jpg"/>
          <p:cNvPicPr/>
          <p:nvPr/>
        </p:nvPicPr>
        <p:blipFill>
          <a:blip r:embed="rId1"/>
          <a:srcRect l="13333" t="4131" r="6671" b="1111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5257800" y="214200"/>
            <a:ext cx="3886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________could not settle ______ of the Appalachian M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was an attempt to ______________ relations with the ___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43:05Z</dcterms:created>
  <dc:creator>Christine Sturges</dc:creator>
  <dc:description/>
  <dc:language>en-US</dc:language>
  <cp:lastModifiedBy>IT Clone User</cp:lastModifiedBy>
  <dcterms:modified xsi:type="dcterms:W3CDTF">2010-01-25T15:20:51Z</dcterms:modified>
  <cp:revision>22</cp:revision>
  <dc:subject/>
  <dc:title>Journal 9/19</dc:title>
</cp:coreProperties>
</file>