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3838-D55B-4AC1-8E09-861307E0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FB97-3267-4D64-97E5-174CD430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123A-99A5-422A-AB7A-D093C91FE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581F-2F4E-48C1-9A8A-4A6368EA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87E4-A533-4F5F-B078-6534B7C7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8211-564E-4378-8D22-0283A1AC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0952-9B13-4291-8A3B-728C3D32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9B9-EFB4-4D9E-AAF1-EB906296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2C7-D684-454A-935E-2DF3D546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49DA-FB22-4E6E-816C-13AC6A4D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FC6-B13B-4D4B-93E0-8CF46E5E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36A-C1BF-4D53-8D2C-54D72D66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1c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DE67-569A-4EAA-9C08-A7DAA1940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 11/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are the qualities of a h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o, in you mind, has been the greatest American hero, (go on and choose a man and woman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well does he/she fit your criter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www.jmap.org/images/jefferson.jpg"/>
          <p:cNvPicPr/>
          <p:nvPr/>
        </p:nvPicPr>
        <p:blipFill>
          <a:blip r:embed="rId1"/>
          <a:stretch/>
        </p:blipFill>
        <p:spPr>
          <a:xfrm>
            <a:off x="190512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ernard MT Condensed"/>
              </a:rPr>
              <a:t>Jefferson’s Presidenc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badi MT Condensed Extra Bold"/>
              </a:rPr>
              <a:t>The election of 1800 will cost Alexander Hamilton his LIF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215,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Inside 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milton convinces the HofR to vote for Jeff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ly 1804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www.cynical-c.com/archives/bloggraphics/duel2.jpg"/>
          <p:cNvPicPr/>
          <p:nvPr/>
        </p:nvPicPr>
        <p:blipFill>
          <a:blip r:embed="rId1"/>
          <a:srcRect l="0" t="0" r="5831" b="11780"/>
          <a:stretch/>
        </p:blipFill>
        <p:spPr>
          <a:xfrm>
            <a:off x="4724280" y="2741760"/>
            <a:ext cx="44197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badi MT Condensed Extra Bold"/>
              </a:rPr>
              <a:t>Who does this sound lik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6483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me after an unpopular_______ w/ unpopular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herited a 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mpaigns were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ng and good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lieved in a l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www.britannica.com/blogs/wp-content/uploads/2007/12/fdr.jpg"/>
          <p:cNvPicPr/>
          <p:nvPr/>
        </p:nvPicPr>
        <p:blipFill>
          <a:blip r:embed="rId1"/>
          <a:stretch/>
        </p:blipFill>
        <p:spPr>
          <a:xfrm>
            <a:off x="4648320" y="1219320"/>
            <a:ext cx="3124080" cy="2857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getreligion.org/wp-content/photos/small_obama_image.jpg"/>
          <p:cNvPicPr/>
          <p:nvPr/>
        </p:nvPicPr>
        <p:blipFill>
          <a:blip r:embed="rId2"/>
          <a:stretch/>
        </p:blipFill>
        <p:spPr>
          <a:xfrm>
            <a:off x="6286680" y="3286080"/>
            <a:ext cx="2857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Thomas Jefferson for Presid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Your group has been bestowed with the difficult responsibility o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unning TJ’s presidential campaign!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You need to make your selves experts on ‘the other guy’. He has already been in office; this is both bad </a:t>
            </a:r>
            <a:r>
              <a:rPr b="0" i="1" lang="en-US" sz="3200" spc="-1" strike="noStrike">
                <a:solidFill>
                  <a:srgbClr val="ffffff"/>
                </a:solidFill>
                <a:latin typeface="Agency FB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g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(1) People are comfortable w/John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(2) People blame him for ALL the problem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onvince me, the voting public, to </a:t>
            </a: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vote for change!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onvince me to 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vote for protection!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Convince me </a:t>
            </a:r>
            <a:r>
              <a:rPr b="0" lang="en-US" sz="3200" spc="-1" strike="noStrike">
                <a:solidFill>
                  <a:srgbClr val="ffffff"/>
                </a:solidFill>
                <a:latin typeface="Bernard MT Condensed"/>
              </a:rPr>
              <a:t>Thomas Jefferson is my guy!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You need to create: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slogan,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A POSTER, </a:t>
            </a: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a TYPED, 30-60 second, commer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212-216 will be helpful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1:56:21Z</dcterms:created>
  <dc:creator>Christine Sturges</dc:creator>
  <dc:description/>
  <dc:language>en-US</dc:language>
  <cp:lastModifiedBy>TPS</cp:lastModifiedBy>
  <dcterms:modified xsi:type="dcterms:W3CDTF">2008-11-10T17:24:14Z</dcterms:modified>
  <cp:revision>14</cp:revision>
  <dc:subject/>
  <dc:title>Jefferson’s Presidency</dc:title>
</cp:coreProperties>
</file>